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7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14.png" ContentType="image/png"/>
  <Override PartName="/ppt/media/image12.jpeg" ContentType="image/jpeg"/>
  <Override PartName="/ppt/media/image13.png" ContentType="image/png"/>
  <Override PartName="/ppt/media/image7.wmf" ContentType="image/x-wmf"/>
  <Override PartName="/ppt/media/image32.wmf" ContentType="image/x-wmf"/>
  <Override PartName="/ppt/media/image31.wmf" ContentType="image/x-wmf"/>
  <Override PartName="/ppt/media/image8.jpeg" ContentType="image/jpeg"/>
  <Override PartName="/ppt/media/image33.wmf" ContentType="image/x-wmf"/>
  <Override PartName="/ppt/media/image3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.png" ContentType="image/png"/>
  <Override PartName="/ppt/media/image25.jpeg" ContentType="image/jpeg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E59-BD7E-48BF-8CF1-2220B706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305-4C00-4322-82AD-F5682EFE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21A-9CB7-4871-AD04-967A8033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DF8-CEA1-4406-9B3E-55CB5B19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5BF-6AAF-4AEB-BB11-98A429D6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19E-DEF5-4656-8F7D-29A72A6B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456-74BD-48CB-8487-EB0A593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DA2-0CF9-42C4-BE79-309728D0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C80-D82E-475B-BE93-5F4B385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603-2256-4009-A5EC-AE3B845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4E4-A7F9-4453-9D2A-2734873C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128-E1A1-4F34-8F8D-F2C10402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1394FBB-34D6-4D02-9354-3A33A03A5FA0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:07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FC65-88E6-4883-8231-1313CC9F5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21.xml"/><Relationship Id="rId5" Type="http://schemas.openxmlformats.org/officeDocument/2006/relationships/slide" Target="slide23.xml"/><Relationship Id="rId6" Type="http://schemas.openxmlformats.org/officeDocument/2006/relationships/slide" Target="slide27.xml"/><Relationship Id="rId7" Type="http://schemas.openxmlformats.org/officeDocument/2006/relationships/slide" Target="slide44.xml"/><Relationship Id="rId8" Type="http://schemas.openxmlformats.org/officeDocument/2006/relationships/slide" Target="slide64.xml"/><Relationship Id="rId9" Type="http://schemas.openxmlformats.org/officeDocument/2006/relationships/slide" Target="slide75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ly Atomic Theor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and Struct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5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685-300A-4D68-8CC1-92A2CBD3CB0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191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on’s atoms were individual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8769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of each element are alike in mass and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8520" y="762120"/>
            <a:ext cx="4746960" cy="3208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494080" y="673200"/>
            <a:ext cx="3612960" cy="2965320"/>
            <a:chOff x="2494080" y="673200"/>
            <a:chExt cx="3612960" cy="2965320"/>
          </a:xfrm>
        </p:grpSpPr>
        <p:sp>
          <p:nvSpPr>
            <p:cNvPr id="86" name=""/>
            <p:cNvSpPr/>
            <p:nvPr/>
          </p:nvSpPr>
          <p:spPr>
            <a:xfrm>
              <a:off x="3533760" y="1503360"/>
              <a:ext cx="1033560" cy="10335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21320" y="2604960"/>
              <a:ext cx="1033200" cy="10335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73480" y="673200"/>
              <a:ext cx="1033560" cy="10332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94080" y="2068560"/>
              <a:ext cx="1033200" cy="10335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786040" y="1025640"/>
            <a:ext cx="3008160" cy="1884240"/>
            <a:chOff x="2786040" y="1025640"/>
            <a:chExt cx="3008160" cy="1884240"/>
          </a:xfrm>
        </p:grpSpPr>
        <p:sp>
          <p:nvSpPr>
            <p:cNvPr id="91" name=""/>
            <p:cNvSpPr/>
            <p:nvPr/>
          </p:nvSpPr>
          <p:spPr>
            <a:xfrm>
              <a:off x="4271760" y="2316240"/>
              <a:ext cx="59400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00560" y="1847880"/>
              <a:ext cx="59364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2400" y="1270080"/>
              <a:ext cx="59364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86040" y="1025640"/>
              <a:ext cx="59364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FF5-E5B7-4A26-88F0-006BDC1A14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4191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on’s atoms were individual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8798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of different elements are not alike in mass and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01760" y="762120"/>
            <a:ext cx="4746600" cy="32083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789280" y="1025640"/>
            <a:ext cx="1781280" cy="1511280"/>
            <a:chOff x="2789280" y="1025640"/>
            <a:chExt cx="1781280" cy="1511280"/>
          </a:xfrm>
        </p:grpSpPr>
        <p:sp>
          <p:nvSpPr>
            <p:cNvPr id="100" name=""/>
            <p:cNvSpPr/>
            <p:nvPr/>
          </p:nvSpPr>
          <p:spPr>
            <a:xfrm>
              <a:off x="3537000" y="1503360"/>
              <a:ext cx="1033560" cy="10335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9280" y="1025640"/>
              <a:ext cx="59364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CE0-BAFE-4A3C-A9CF-D7E2E62F79B3}" type="slidenum">
              <a:t>11</a:t>
            </a:fld>
          </a:p>
        </p:txBody>
      </p:sp>
    </p:spTree>
  </p:cSld>
  <p:transition spd="slow"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7960" y="317520"/>
            <a:ext cx="8666280" cy="3643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7920" y="571824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on’s atoms combine in specific ratios to form com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19320" y="3886200"/>
            <a:ext cx="6324480" cy="1122480"/>
            <a:chOff x="1219320" y="3886200"/>
            <a:chExt cx="6324480" cy="1122480"/>
          </a:xfrm>
        </p:grpSpPr>
        <p:graphicFrame>
          <p:nvGraphicFramePr>
            <p:cNvPr id="105" name=""/>
            <p:cNvGraphicFramePr/>
            <p:nvPr/>
          </p:nvGraphicFramePr>
          <p:xfrm>
            <a:off x="1219320" y="3886200"/>
            <a:ext cx="1371600" cy="112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9320" y="3886200"/>
                      <a:ext cx="1371600" cy="11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6254640" y="3889440"/>
            <a:ext cx="1289160" cy="1119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54640" y="3889440"/>
                      <a:ext cx="1289160" cy="11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F6A-9B56-4308-B236-DE012BF8A062}" type="slidenum">
              <a:t>12</a:t>
            </a:fld>
          </a:p>
        </p:txBody>
      </p:sp>
    </p:spTree>
  </p:cSld>
  <p:transition spd="slow"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omposition of Compou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4C3-1665-4FA0-AB70-4DAB5DFCBC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1753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of Definite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354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 always contains two or more elements chemically combined in a definite proportion by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A89-9354-4C80-A785-22A423175A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2446200"/>
            <a:ext cx="769752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by mass of hydrogen in water is 11.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by mass of oxygen in water is 88.8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always has these percentages.  If the percentages were different, the compound would not be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219320"/>
            <a:ext cx="777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always contains the same two elements: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Composition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E7C-E4B8-4DF3-9F07-44B7A65BC14A}" type="slidenum">
              <a:t>15</a:t>
            </a:fld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by mass of hydrogen in hydrogen peroxide is 5.9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by mass of oxygen in hydrogen peroxide is 94.1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always has these percentages.  If the percentages were different, the compound would not be hydrogen perox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38080"/>
            <a:ext cx="9067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always contains the same two elements: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Composition of Hydrogen Perox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149-1A35-465A-BD7F-29A706CAFAAC}" type="slidenum">
              <a:t>16</a:t>
            </a:fld>
          </a:p>
        </p:txBody>
      </p:sp>
    </p:spTree>
  </p:cSld>
  <p:transition spd="slow"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of Multiple Propo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of two or more elements may combine in different ratios to produce more than on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163-E12B-462D-942C-5B4F4F6A482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533520" y="1297080"/>
          <a:ext cx="6858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13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 Hydrogen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 Oxygen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5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drogen Pe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03120" y="5638680"/>
          <a:ext cx="85377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5638680"/>
                    <a:ext cx="85377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Combining Masses of Hydrogen and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486400"/>
            <a:ext cx="777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has twice as much oxygen (by mass) as does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EA1-3E67-47C0-BBD4-E25E56FB9851}" type="slidenum">
              <a:t>18</a:t>
            </a:fld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2754000"/>
            <a:ext cx="769752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rmula for water is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rmula for hydrogen peroxide is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1069920"/>
            <a:ext cx="77752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has twice as many oxygens per hydrogen atom as does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Combining Ratios of Hydrogen and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E12-B5D1-4539-AC09-752A0EC2DD1C}" type="slidenum">
              <a:t>19</a:t>
            </a:fld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182880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Early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040" y="262908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Dalton's Model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3040" y="342900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Composition of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3040" y="422928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The Nature of Electric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040" y="50292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Discovery of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49840" y="1828800"/>
            <a:ext cx="43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Subatomic Parts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9840" y="2629080"/>
            <a:ext cx="34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The Nuclear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9840" y="342900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Isotopes of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49840" y="4229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639-DF03-4998-9770-72138FEF23B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FBE-4801-4345-BFFB-5A5B4534A9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Nature of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lectric Char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867-8BAE-49B0-BF94-AAFD4FE0216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2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 may be of two types: positive and 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charges attract (positive attracts negative), and like charges repel (negative repels negative and positive repels positiv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 may be transferred from one object to another, by contact or in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r the distance between two charges, the greater the force of attraction between unlike charges (or repulsion between identical charg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Properties of Electric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51080" y="5562720"/>
            <a:ext cx="6421320" cy="1241640"/>
            <a:chOff x="1351080" y="5562720"/>
            <a:chExt cx="6421320" cy="1241640"/>
          </a:xfrm>
        </p:grpSpPr>
        <p:graphicFrame>
          <p:nvGraphicFramePr>
            <p:cNvPr id="135" name=""/>
            <p:cNvGraphicFramePr/>
            <p:nvPr/>
          </p:nvGraphicFramePr>
          <p:xfrm>
            <a:off x="1351080" y="5594400"/>
            <a:ext cx="2001600" cy="112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1080" y="5594400"/>
                      <a:ext cx="2001600" cy="112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86200" y="5562720"/>
              <a:ext cx="38862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re charges, r is the distance between charges, and k is a consta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983-5B78-4025-93F6-1196F2399E7E}" type="slidenum">
              <a:t>22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5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Discovery of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546-F96C-4456-9887-BB05DCD8479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hael Faraday discovered that certain substances, when dissolved in water, conducted an electric cur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found that atoms of some elements moved to the cathode (negative electrode) and some moved to the anode (positive electrode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concluded they were electrically charged and called them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Greek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ander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036-AA41-4AD4-836B-137500387365}" type="slidenum">
              <a:t>24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3049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vante Arrhenius reasoned that an ion is an atom (or a group of atoms) carrying a positive or negative electric char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rhenius accounted for the electrical conduction of molten sodium chloride (NaCl) by proposing that melted NaCl dissociated into the charged ions N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57400" y="5104800"/>
            <a:ext cx="5029200" cy="1160280"/>
            <a:chOff x="2057400" y="5104800"/>
            <a:chExt cx="5029200" cy="1160280"/>
          </a:xfrm>
        </p:grpSpPr>
        <p:sp>
          <p:nvSpPr>
            <p:cNvPr id="145" name=""/>
            <p:cNvSpPr/>
            <p:nvPr/>
          </p:nvSpPr>
          <p:spPr>
            <a:xfrm>
              <a:off x="2057400" y="5439960"/>
              <a:ext cx="50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Arial"/>
                </a:rPr>
                <a:t>NaCl </a:t>
              </a:r>
              <a:r>
                <a:rPr b="0" lang="en-US" sz="48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 Na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4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+ Cl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5104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76A-F6E1-4A63-977A-2654C77473F4}" type="slidenum">
              <a:t>25</a:t>
            </a:fld>
          </a:p>
        </p:txBody>
      </p:sp>
    </p:spTree>
  </p:cSld>
  <p:transition spd="slow"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elted, the positiv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ns moved to 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ath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egative electrode).  Thus positive ions are calle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elted, the negative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moved to the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ositive electrode).  Thus negative ions are call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708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NaCl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→ Na</a:t>
            </a:r>
            <a:r>
              <a:rPr b="0" lang="en-US" sz="4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 + Cl</a:t>
            </a:r>
            <a:r>
              <a:rPr b="0" lang="en-US" sz="4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B73-A5F6-4E0A-80DD-AB18D0052E34}" type="slidenum">
              <a:t>26</a:t>
            </a:fld>
          </a:p>
        </p:txBody>
      </p:sp>
    </p:spTree>
  </p:cSld>
  <p:transition spd="slow"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Subatomic Part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the At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F04-239C-4FB9-98E4-C6E3733DF48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38360" y="2295360"/>
            <a:ext cx="2267280" cy="22672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2349360"/>
            <a:ext cx="2157480" cy="21574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2405160"/>
            <a:ext cx="2047680" cy="20476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03680" y="2560680"/>
            <a:ext cx="1736640" cy="1736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8280" y="2733840"/>
            <a:ext cx="1388880" cy="13888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1440" y="2908440"/>
            <a:ext cx="1041120" cy="10411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5160" y="3062160"/>
            <a:ext cx="731880" cy="7318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35480" y="3191040"/>
            <a:ext cx="474480" cy="4744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0880" y="3286080"/>
            <a:ext cx="284040" cy="2840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4240" y="3351240"/>
            <a:ext cx="155520" cy="1555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3397320"/>
            <a:ext cx="63360" cy="6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tom is ver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C81-793D-4257-A446-84CC3019C71B}" type="slidenum">
              <a:t>28</a:t>
            </a:fld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meter of an atom is 0.1 to 0.5 n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1 to 5 ten billionths of a me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96252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e diameter of this dot is 1 mm, then 10 million hydrogen atoms would form a line across the d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40320" y="3397320"/>
            <a:ext cx="63360" cy="6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96252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smaller particles than atoms exist.  These are called subatomic partic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177-1883-4368-806A-B9A242E9BD3C}" type="slidenum">
              <a:t>29</a:t>
            </a:fld>
          </a:p>
        </p:txBody>
      </p:sp>
    </p:spTree>
  </p:cSld>
  <p:transition spd="slow">
    <p:blinds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arly Though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1A5-5D4B-445E-9A7E-80B620B2E7F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Subatomic Partic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286-74D2-40F1-B4AC-497A01EE497D}" type="slidenum">
              <a:t>30</a:t>
            </a:fld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66ff"/>
                </a:solidFill>
                <a:uFillTx/>
                <a:latin typeface="Tahoma"/>
              </a:rPr>
              <a:t>Electr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622-EB5A-4439-BBE4-0BBEFC9D62D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75 Sir William Crookes invented the Crookes tub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okes tubes experiments led the way to an understanding of the subatomic structure of the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okes tube emissions are called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cathode ray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00D-2B58-4818-B215-6370958132C5}" type="slidenum">
              <a:t>32</a:t>
            </a:fld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308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97 Sir Joseph Thompson demonstrated that cathode ray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 in straight li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negative in char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deflected by electric and magnetic fiel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e sharp shad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capable of moving a small paddle whe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284-ED99-439F-9B32-F8556B545364}" type="slidenum">
              <a:t>33</a:t>
            </a:fld>
          </a:p>
        </p:txBody>
      </p:sp>
    </p:spTree>
  </p:cSld>
  <p:transition spd="slow"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75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000" y="1599840"/>
            <a:ext cx="8658000" cy="2514600"/>
          </a:xfrm>
          <a:prstGeom prst="rect">
            <a:avLst/>
          </a:prstGeom>
          <a:solidFill>
            <a:srgbClr val="99ccff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his was the discovery of the fundamental unit of charge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he electron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93A-74C1-4400-8AFD-968EFECDCD1A}" type="slidenum">
              <a:t>34</a:t>
            </a:fld>
          </a:p>
        </p:txBody>
      </p:sp>
    </p:spTree>
  </p:cSld>
  <p:transition spd="slow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66ff"/>
                </a:solidFill>
                <a:uFillTx/>
                <a:latin typeface="Tahoma"/>
              </a:rPr>
              <a:t>Prot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69C-1329-431B-BD97-85AACAB1FA3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ugen Goldstein, a German physicist, first observed protons in 1886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mpson determined the proton’s characteristi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mpson showed that atoms contained both positive and negative charg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disproved the Dalton model of the atom which held that atoms were indivi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FAF-59BC-425A-AEA8-6694FBB5D134}" type="slidenum">
              <a:t>3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66ff"/>
                </a:solidFill>
                <a:uFillTx/>
                <a:latin typeface="Tahoma"/>
              </a:rPr>
              <a:t>Neutr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08D-289F-484D-8ED0-3D8008D7476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213372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mes Chadwick discovered the neutron in 193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34290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s actual mass is slightly greater than the mass of a prot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C94-C49C-49B9-888B-7D9C0C710BD5}" type="slidenum">
              <a:t>38</a:t>
            </a:fld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ACD-DCEA-4A99-A812-B427B44B99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7926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edocles stated that matter was made of 4 elements: earth, air, fire, an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critus (about 470-370 B.C.) thought that all forms of matter were divisible into tiny indivisible particles.  He called them “atoms” from the Greek “atomos”, indivi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14400"/>
            <a:ext cx="7775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arliest models of the atom were developed by the ancient Greek philosop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EF8-9A10-45D2-861E-D029E1C9E376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E91-28AE-4127-B5B1-75D7E34423E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1523880"/>
            <a:ext cx="7848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ve ions were explained by assuming that a neutral atom loses elec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3276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gative ions were explained by assuming that additional electrons can be added to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8D3-5850-4C9A-B9F1-827044F94942}" type="slidenum">
              <a:t>41</a:t>
            </a:fld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7913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or more electrons are lost from an atom, a cation is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16752" r="60943" b="35502"/>
          <a:stretch/>
        </p:blipFill>
        <p:spPr>
          <a:xfrm>
            <a:off x="1197000" y="76320"/>
            <a:ext cx="5965920" cy="546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B3E-9B31-4EF8-9C2A-B24F976E1C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57913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or more electrons are added to a neutral atom, an anion is form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55621" t="20837" r="0" b="34596"/>
          <a:stretch/>
        </p:blipFill>
        <p:spPr>
          <a:xfrm>
            <a:off x="1038240" y="228600"/>
            <a:ext cx="6657840" cy="501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11F-BFD8-431A-8BEF-674CCCF0FAB9}" type="slidenum">
              <a:t>43</a:t>
            </a:fld>
          </a:p>
        </p:txBody>
      </p:sp>
    </p:spTree>
  </p:cSld>
  <p:transition spd="slow"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7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Nuclear At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15E-FE33-4725-AFC9-C5593B0C3BC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43080" y="8380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activity was discovered by Becquerel in 189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42720" y="21337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active elements spontaneously emit alpha particles, beta particles and gamma rays from their nucle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907 Rutherford found that alpha particles emitted by certain radioactive elements were helium nucle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089-8428-4255-A3DF-79AF3EEDC106}" type="slidenum">
              <a:t>45</a:t>
            </a:fld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The Rutherford Experi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4CE-0815-4894-B559-CA5699FF818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43080" y="9144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in 1911 performed experiments that shot a stream of alpha particles at a  gold f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42720" y="266688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foil with little or no d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found that a few were deflected at large angles and some alpha particles even bounced ba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9D5-5536-4F72-8674-B61840F42FEF}" type="slidenum">
              <a:t>47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8600" y="380880"/>
            <a:ext cx="8145360" cy="4822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38080" y="58964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’s alpha particle scattering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BAF-3293-4CA2-8499-5CE79449D82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85800"/>
            <a:ext cx="77724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lectron with a mass of 1/1837 amu could not have deflected an alpha particle with a mass of 4 amu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2580840"/>
            <a:ext cx="77724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knew that like charges rep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concluded that each gold atom contained a positively charged mass that occupied a tiny volume.  He called this mass the </a:t>
            </a:r>
            <a:r>
              <a:rPr b="0" i="1" lang="en-US" sz="3600" spc="-1" strike="noStrike">
                <a:solidFill>
                  <a:srgbClr val="3366ff"/>
                </a:solidFill>
                <a:latin typeface="Times New Roman"/>
              </a:rPr>
              <a:t>nucle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2E9-496D-4CBC-BE0F-126F59472628}" type="slidenum">
              <a:t>49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stotle (384-322 B.C.) rejected the theory of Democritus and advanced the Empedoclean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733920"/>
            <a:ext cx="731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stotle’s influence dominated the thinking of scientists and philosophers until the beginning of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484-54CB-480A-A3A2-173BCC90E812}" type="slidenum">
              <a:t>5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84360"/>
            <a:ext cx="77724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positive alpha particle approached close enough to the positive mass it was deflec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.  This led Rutherford to conclude that a gold atom was mostly empty sp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450-E353-4C37-863A-2E3C1201F986}" type="slidenum">
              <a:t>50</a:t>
            </a:fld>
          </a:p>
        </p:txBody>
      </p:sp>
    </p:spTree>
  </p:cSld>
  <p:transition spd="slow"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8400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ause alpha particles have relatively high masses, the extent of the deflections led Rutherford to conclude that the nucleus was very heavy and den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2E5-3CE6-48CA-BEC1-D04461A0AE91}" type="slidenum">
              <a:t>51</a:t>
            </a:fld>
          </a:p>
        </p:txBody>
      </p:sp>
    </p:spTree>
  </p:cSld>
  <p:transition spd="slow"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4822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89500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ection and scattering of alpha particles by positive gold nucl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2676600"/>
            <a:ext cx="4114800" cy="1371600"/>
            <a:chOff x="380880" y="2676600"/>
            <a:chExt cx="4114800" cy="1371600"/>
          </a:xfrm>
        </p:grpSpPr>
        <p:sp>
          <p:nvSpPr>
            <p:cNvPr id="210" name=""/>
            <p:cNvSpPr/>
            <p:nvPr/>
          </p:nvSpPr>
          <p:spPr>
            <a:xfrm>
              <a:off x="380880" y="307080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Defle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2320" y="2676600"/>
              <a:ext cx="2133360" cy="13716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648320" y="2473200"/>
            <a:ext cx="3352680" cy="2862000"/>
            <a:chOff x="4648320" y="2473200"/>
            <a:chExt cx="3352680" cy="2862000"/>
          </a:xfrm>
        </p:grpSpPr>
        <p:sp>
          <p:nvSpPr>
            <p:cNvPr id="213" name=""/>
            <p:cNvSpPr/>
            <p:nvPr/>
          </p:nvSpPr>
          <p:spPr>
            <a:xfrm>
              <a:off x="5372280" y="475380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Scatte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48320" y="2473200"/>
              <a:ext cx="3352680" cy="1698840"/>
            </a:xfrm>
            <a:prstGeom prst="rect">
              <a:avLst/>
            </a:prstGeom>
            <a:noFill/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FD6-CD8B-4A1E-B647-1BA6CBE478BC}" type="slidenum">
              <a:t>52</a:t>
            </a:fld>
          </a:p>
        </p:txBody>
      </p:sp>
    </p:spTree>
  </p:cSld>
  <p:transition spd="slow">
    <p:blinds dir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General Arrangement of Subatomic Partic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54E-B15F-4F89-A4D1-E008B0AC1D8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25600" y="685800"/>
            <a:ext cx="8091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’s experiment showed that an atom had a dense, positively charged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25600" y="243828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dwick’s work in 1932 demonstrated that the atom contains neu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also noted that light, negatively charged electrons were present in an atom and offset the positive nuclear char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78C-C320-4987-940D-4E5F51C4746F}" type="slidenum">
              <a:t>54</a:t>
            </a:fld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20560" y="988920"/>
            <a:ext cx="777240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put forward a model of the atom in which a dense, positively charged nucleus is located at the atom’s center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20560" y="3276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gative electrons surround the nucle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ucleus contains protons and neu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D8D-D6BB-4A4F-AAC1-8AC8E8285523}" type="slidenum">
              <a:t>55</a:t>
            </a:fld>
          </a:p>
        </p:txBody>
      </p:sp>
    </p:spTree>
  </p:cSld>
  <p:transition spd="slow"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5440" y="1800360"/>
            <a:ext cx="6691320" cy="325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56B-CE3C-44F5-99B5-9C9C8C74347B}" type="slidenum">
              <a:t>56</a:t>
            </a:fld>
          </a:p>
        </p:txBody>
      </p:sp>
    </p:spTree>
  </p:cSld>
  <p:transition spd="slow"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Atomic Numbers</a:t>
            </a:r>
            <a:br>
              <a:rPr sz="6000"/>
            </a:b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of the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4B0-A9A7-4856-8302-CA244D6E302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1854360"/>
            <a:ext cx="792468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atomic number of an element is equal to th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number 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prot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n the nucleus of that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2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atomic number of an atom determines which element the atom 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B9D-37A8-480E-967E-1076204B2419}" type="slidenum">
              <a:t>58</a:t>
            </a:fld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7120" y="25909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 contains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proton in its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0EE-CB57-4973-A709-86CAB9026806}" type="slidenum">
              <a:t>59</a:t>
            </a:fld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Dalton’s Model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the At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CAA-95E4-4C2B-9704-4729D1F170B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52280" y="4095720"/>
            <a:ext cx="5403960" cy="2305080"/>
            <a:chOff x="152280" y="4095720"/>
            <a:chExt cx="5403960" cy="2305080"/>
          </a:xfrm>
        </p:grpSpPr>
        <p:sp>
          <p:nvSpPr>
            <p:cNvPr id="229" name=""/>
            <p:cNvSpPr/>
            <p:nvPr/>
          </p:nvSpPr>
          <p:spPr>
            <a:xfrm>
              <a:off x="3505320" y="539100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2520" y="4095720"/>
              <a:ext cx="1593720" cy="23050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4781520"/>
              <a:ext cx="3581640" cy="119124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 proton in the nucle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152800" y="200160"/>
            <a:ext cx="5333760" cy="3733560"/>
            <a:chOff x="2152800" y="200160"/>
            <a:chExt cx="5333760" cy="3733560"/>
          </a:xfrm>
        </p:grpSpPr>
        <p:sp>
          <p:nvSpPr>
            <p:cNvPr id="233" name=""/>
            <p:cNvSpPr/>
            <p:nvPr/>
          </p:nvSpPr>
          <p:spPr>
            <a:xfrm>
              <a:off x="2152800" y="200160"/>
              <a:ext cx="5333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ff"/>
                  </a:solidFill>
                  <a:latin typeface="Copperplate Gothic Bold"/>
                </a:rPr>
                <a:t>atomic numbe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10200" y="1876320"/>
              <a:ext cx="1218960" cy="2057400"/>
            </a:xfrm>
            <a:prstGeom prst="downArrow">
              <a:avLst>
                <a:gd name="adj1" fmla="val 50000"/>
                <a:gd name="adj2" fmla="val 4219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2558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990720"/>
            <a:ext cx="5029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3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CDC-BA4A-4292-92C7-99406841660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0000" y="25855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carbon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t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 contains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ns in its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8FE-7AEE-467E-AC55-DE368A1395BF}" type="slidenum">
              <a:t>61</a:t>
            </a:fld>
          </a:p>
        </p:txBody>
      </p:sp>
    </p:spTree>
  </p:cSld>
  <p:transition spd="slow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66600" y="4095720"/>
            <a:ext cx="5403960" cy="2305080"/>
            <a:chOff x="66600" y="4095720"/>
            <a:chExt cx="5403960" cy="2305080"/>
          </a:xfrm>
        </p:grpSpPr>
        <p:sp>
          <p:nvSpPr>
            <p:cNvPr id="239" name=""/>
            <p:cNvSpPr/>
            <p:nvPr/>
          </p:nvSpPr>
          <p:spPr>
            <a:xfrm>
              <a:off x="3419640" y="539100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76840" y="4095720"/>
              <a:ext cx="1593720" cy="23050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00" y="4781520"/>
              <a:ext cx="3581640" cy="119124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6 protons in the nucle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809880" y="990720"/>
            <a:ext cx="5029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3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038320" y="200160"/>
            <a:ext cx="5333760" cy="3733560"/>
            <a:chOff x="2038320" y="200160"/>
            <a:chExt cx="5333760" cy="3733560"/>
          </a:xfrm>
        </p:grpSpPr>
        <p:sp>
          <p:nvSpPr>
            <p:cNvPr id="244" name=""/>
            <p:cNvSpPr/>
            <p:nvPr/>
          </p:nvSpPr>
          <p:spPr>
            <a:xfrm>
              <a:off x="2038320" y="200160"/>
              <a:ext cx="5333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ff"/>
                  </a:solidFill>
                  <a:latin typeface="Copperplate Gothic Bold"/>
                </a:rPr>
                <a:t>atomic numbe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95720" y="1876320"/>
              <a:ext cx="1218960" cy="2057400"/>
            </a:xfrm>
            <a:prstGeom prst="downArrow">
              <a:avLst>
                <a:gd name="adj1" fmla="val 50000"/>
                <a:gd name="adj2" fmla="val 4219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0" y="2558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8E9-102B-4570-A7D4-7CBB86579C47}" type="slidenum">
              <a:t>62</a:t>
            </a:fld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47520" y="4162320"/>
            <a:ext cx="6159600" cy="2305080"/>
            <a:chOff x="47520" y="4162320"/>
            <a:chExt cx="6159600" cy="2305080"/>
          </a:xfrm>
        </p:grpSpPr>
        <p:sp>
          <p:nvSpPr>
            <p:cNvPr id="248" name=""/>
            <p:cNvSpPr/>
            <p:nvPr/>
          </p:nvSpPr>
          <p:spPr>
            <a:xfrm>
              <a:off x="2638440" y="531504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9560" y="4162320"/>
              <a:ext cx="3157560" cy="23050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520" y="4430880"/>
              <a:ext cx="2819520" cy="17398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2 protons in the nucle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971800" y="1066680"/>
            <a:ext cx="647712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2</a:t>
            </a:r>
            <a:r>
              <a:rPr b="0" lang="en-US" sz="336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38320" y="200160"/>
            <a:ext cx="5333760" cy="3733560"/>
            <a:chOff x="2038320" y="200160"/>
            <a:chExt cx="5333760" cy="3733560"/>
          </a:xfrm>
        </p:grpSpPr>
        <p:sp>
          <p:nvSpPr>
            <p:cNvPr id="253" name=""/>
            <p:cNvSpPr/>
            <p:nvPr/>
          </p:nvSpPr>
          <p:spPr>
            <a:xfrm>
              <a:off x="2038320" y="200160"/>
              <a:ext cx="5333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ff"/>
                  </a:solidFill>
                  <a:latin typeface="Copperplate Gothic Bold"/>
                </a:rPr>
                <a:t>atomic numbe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95720" y="1876320"/>
              <a:ext cx="1218960" cy="2057400"/>
            </a:xfrm>
            <a:prstGeom prst="downArrow">
              <a:avLst>
                <a:gd name="adj1" fmla="val 50000"/>
                <a:gd name="adj2" fmla="val 4219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182916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9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uran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A56-8E1E-4006-A4ED-044FCF6CFFF6}" type="slidenum">
              <a:t>63</a:t>
            </a:fld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8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sotope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874-E091-4BCF-8F79-64E829DF87F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156204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 of the same element have the same number of prot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 of the same element can have different masses, because they can have different numbers of neu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top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ame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D04-CA97-4E64-9F8A-BAEF3BA4D1F0}" type="slidenum">
              <a:t>65</a:t>
            </a:fld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otopes of the Same Element H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 Gothic Bold"/>
              </a:rPr>
              <a:t>Equal numbers of prot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pperplate Gothic Bold"/>
              </a:rPr>
              <a:t>Different numbers of neu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0492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41D-75E5-4BE8-891F-87B598A0A03B}" type="slidenum">
              <a:t>66</a:t>
            </a:fld>
          </a:p>
        </p:txBody>
      </p:sp>
    </p:spTree>
  </p:cSld>
  <p:transition spd="slow"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33280" y="178452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1440" y="369396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519880" y="2444760"/>
            <a:ext cx="3390840" cy="1973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rcRect l="0" t="18762" r="0" b="9367"/>
          <a:stretch/>
        </p:blipFill>
        <p:spPr>
          <a:xfrm>
            <a:off x="4005360" y="2470320"/>
            <a:ext cx="1571400" cy="1752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03D-9E2A-4FCF-ABC6-3B013BC6E6E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505480" y="237024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6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743280" y="2437560"/>
            <a:ext cx="1847880" cy="1697040"/>
            <a:chOff x="3743280" y="2437560"/>
            <a:chExt cx="1847880" cy="1697040"/>
          </a:xfrm>
        </p:grpSpPr>
        <p:sp>
          <p:nvSpPr>
            <p:cNvPr id="272" name=""/>
            <p:cNvSpPr/>
            <p:nvPr/>
          </p:nvSpPr>
          <p:spPr>
            <a:xfrm>
              <a:off x="4676760" y="2561760"/>
              <a:ext cx="914400" cy="14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5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76640" y="3156840"/>
              <a:ext cx="68580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3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800" spc="-1" strike="noStrike">
                  <a:solidFill>
                    <a:srgbClr val="ff3399"/>
                  </a:solidFill>
                  <a:latin typeface="Times New Roman"/>
                </a:rPr>
                <a:t>6</a:t>
              </a:r>
              <a:endParaRPr b="0" lang="en-US" sz="5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43280" y="2437560"/>
              <a:ext cx="103824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3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800" spc="-1" strike="noStrike">
                  <a:solidFill>
                    <a:srgbClr val="3399ff"/>
                  </a:solidFill>
                  <a:latin typeface="Times New Roman"/>
                </a:rPr>
                <a:t>12</a:t>
              </a:r>
              <a:endParaRPr b="0" lang="en-US" sz="5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019400" y="1981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6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C61-5A45-4CDC-953E-BF9807B4310E}" type="slidenum">
              <a:t>68</a:t>
            </a:fld>
          </a:p>
        </p:txBody>
      </p:sp>
    </p:spTree>
  </p:cSld>
  <p:transition spd="slow">
    <p:blinds dir="ver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05480" y="233208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76760" y="2561760"/>
            <a:ext cx="914400" cy="14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6640" y="3156840"/>
            <a:ext cx="68580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3399"/>
                </a:solidFill>
                <a:latin typeface="Times New Roman"/>
              </a:rPr>
              <a:t>6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6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43280" y="2437560"/>
            <a:ext cx="10382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3399ff"/>
                </a:solidFill>
                <a:latin typeface="Times New Roman"/>
              </a:rPr>
              <a:t>14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9400" y="1905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6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12F-0859-46A2-B910-2B2C6C8AA04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205000"/>
            <a:ext cx="7467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0 years after Aristotle, John Dalton, an English schoolmaster, proposed his model of the ato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which was based on experimen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11F-A2F6-4E30-8ADD-9AA3F77058D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505480" y="233208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67280" y="3156840"/>
            <a:ext cx="68580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8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2437560"/>
            <a:ext cx="10382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3399ff"/>
                </a:solidFill>
                <a:latin typeface="Times New Roman"/>
              </a:rPr>
              <a:t>16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19400" y="1905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8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76760" y="2561760"/>
            <a:ext cx="914400" cy="14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612-EB80-4552-8B29-E46FAB71678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505480" y="233208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3156840"/>
            <a:ext cx="68580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8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2437560"/>
            <a:ext cx="10382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3399ff"/>
                </a:solidFill>
                <a:latin typeface="Times New Roman"/>
              </a:rPr>
              <a:t>17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19400" y="1905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8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76760" y="2561760"/>
            <a:ext cx="914400" cy="14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D01-5AE0-4298-BDAC-634F82A82BD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505480" y="233208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7280" y="3156840"/>
            <a:ext cx="68580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8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33920" y="2437560"/>
            <a:ext cx="10382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3399ff"/>
                </a:solidFill>
                <a:latin typeface="Times New Roman"/>
              </a:rPr>
              <a:t>18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19400" y="1905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8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76760" y="2561760"/>
            <a:ext cx="914400" cy="14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A75-9EFB-4A40-9085-67F61EC8AC7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-181080" y="1295280"/>
            <a:ext cx="9507600" cy="3382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has thre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3080" y="510552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67160" y="510552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neu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510552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EFB-372B-4080-800A-3C0C789498C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ctr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utr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4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198108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7962840" y="1943280"/>
          <a:ext cx="4572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1943280"/>
                    <a:ext cx="457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7962840" y="2457360"/>
          <a:ext cx="51912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2840" y="2457360"/>
                    <a:ext cx="5191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7553160" y="251460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7902720" y="3995640"/>
          <a:ext cx="731520" cy="5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02720" y="3995640"/>
                    <a:ext cx="731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610400" y="304812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962840" y="2971800"/>
          <a:ext cx="48888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62840" y="2971800"/>
                    <a:ext cx="488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448400" y="403848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7896240" y="4508640"/>
          <a:ext cx="731880" cy="53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96240" y="4508640"/>
                    <a:ext cx="731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7467480" y="480060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824960" y="5533920"/>
          <a:ext cx="73152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5533920"/>
                    <a:ext cx="731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67480" y="563868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821720" y="6048360"/>
          <a:ext cx="731880" cy="53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21720" y="6048360"/>
                    <a:ext cx="731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7467480" y="617220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213-E82B-4F12-A1B4-F79E802DBAA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9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tomic Ma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D4B-DB85-4267-8EC1-C5CE3F563741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19040" y="21337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ss of a single atom is too small to measure on a bal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19040" y="3505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mass spectrometer, the mass of the hydrogen atom was determin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D1F-0C8A-4548-9EAC-1F995B924FCE}" type="slidenum">
              <a:t>76</a:t>
            </a:fld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77880" y="631800"/>
            <a:ext cx="7788240" cy="4016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19320" y="228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dern Mass Spectro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4876920"/>
            <a:ext cx="1905120" cy="119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mass spectrogram is recor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24160" y="4724280"/>
            <a:ext cx="449568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rom the intensity and positions of the lines on the mass spectrogram, the different isotopes and their relative amounts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56240" y="3484440"/>
            <a:ext cx="2057400" cy="1284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1631880"/>
            <a:ext cx="2133720" cy="3172680"/>
            <a:chOff x="152280" y="1631880"/>
            <a:chExt cx="2133720" cy="3172680"/>
          </a:xfrm>
        </p:grpSpPr>
        <p:sp>
          <p:nvSpPr>
            <p:cNvPr id="349" name=""/>
            <p:cNvSpPr/>
            <p:nvPr/>
          </p:nvSpPr>
          <p:spPr>
            <a:xfrm flipV="1">
              <a:off x="762120" y="1631880"/>
              <a:ext cx="0" cy="2286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280" y="3613320"/>
              <a:ext cx="2133720" cy="1191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Positive ions formed from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05120" y="2514600"/>
            <a:ext cx="2133360" cy="3461760"/>
            <a:chOff x="1905120" y="2514600"/>
            <a:chExt cx="2133360" cy="3461760"/>
          </a:xfrm>
        </p:grpSpPr>
        <p:sp>
          <p:nvSpPr>
            <p:cNvPr id="352" name=""/>
            <p:cNvSpPr/>
            <p:nvPr/>
          </p:nvSpPr>
          <p:spPr>
            <a:xfrm flipV="1">
              <a:off x="2971800" y="2514600"/>
              <a:ext cx="0" cy="2286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05120" y="4419360"/>
              <a:ext cx="2133360" cy="1557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Electrical field at slits accelerates positive 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809880" y="4510080"/>
            <a:ext cx="2286000" cy="2152440"/>
            <a:chOff x="3809880" y="4510080"/>
            <a:chExt cx="2286000" cy="2152440"/>
          </a:xfrm>
        </p:grpSpPr>
        <p:sp>
          <p:nvSpPr>
            <p:cNvPr id="355" name=""/>
            <p:cNvSpPr/>
            <p:nvPr/>
          </p:nvSpPr>
          <p:spPr>
            <a:xfrm flipV="1">
              <a:off x="4941720" y="4510080"/>
              <a:ext cx="0" cy="1447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09880" y="5105520"/>
              <a:ext cx="2286000" cy="1557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flection of positive ions occurs at magnetic fiel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C76-3A1C-4187-B150-8BE458017B4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82640" y="457200"/>
            <a:ext cx="7578720" cy="4932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54082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 reading from a mass spectrometer.  The two principal isotopes of copper are shown with the abundance (%) 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866-F791-450E-9753-C38BD663768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mass spectrometer, the mass of one hydrogen atom was determined to be 1.673 x 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6D8-4356-451A-BCBD-6F4CCE1D6C1A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4160" y="2666880"/>
            <a:ext cx="8051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of the same element are alike in mass and siz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of different elements have different masses and siz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compounds are formed by the union of two or atoms of different el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2112840"/>
            <a:ext cx="6934320" cy="4304880"/>
            <a:chOff x="228600" y="2112840"/>
            <a:chExt cx="6934320" cy="4304880"/>
          </a:xfrm>
        </p:grpSpPr>
        <p:sp>
          <p:nvSpPr>
            <p:cNvPr id="68" name=""/>
            <p:cNvSpPr/>
            <p:nvPr/>
          </p:nvSpPr>
          <p:spPr>
            <a:xfrm>
              <a:off x="969840" y="2112840"/>
              <a:ext cx="2057400" cy="60984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28600" y="2728800"/>
              <a:ext cx="6934320" cy="3688920"/>
              <a:chOff x="228600" y="2728800"/>
              <a:chExt cx="6934320" cy="3688920"/>
            </a:xfrm>
          </p:grpSpPr>
          <p:sp>
            <p:nvSpPr>
              <p:cNvPr id="70" name=""/>
              <p:cNvSpPr/>
              <p:nvPr/>
            </p:nvSpPr>
            <p:spPr>
              <a:xfrm flipH="1" flipV="1">
                <a:off x="1952640" y="2728800"/>
                <a:ext cx="1238400" cy="211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8600" y="4861440"/>
                <a:ext cx="6934320" cy="155628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odern research has demonstrated that atoms are composed of subatomic particles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228600" y="2112840"/>
            <a:ext cx="6934320" cy="4061880"/>
            <a:chOff x="228600" y="2112840"/>
            <a:chExt cx="6934320" cy="4061880"/>
          </a:xfrm>
        </p:grpSpPr>
        <p:sp>
          <p:nvSpPr>
            <p:cNvPr id="73" name=""/>
            <p:cNvSpPr/>
            <p:nvPr/>
          </p:nvSpPr>
          <p:spPr>
            <a:xfrm>
              <a:off x="969840" y="2112840"/>
              <a:ext cx="2057400" cy="60984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28600" y="2728800"/>
              <a:ext cx="6934320" cy="3445920"/>
              <a:chOff x="228600" y="2728800"/>
              <a:chExt cx="6934320" cy="3445920"/>
            </a:xfrm>
          </p:grpSpPr>
          <p:sp>
            <p:nvSpPr>
              <p:cNvPr id="75" name=""/>
              <p:cNvSpPr/>
              <p:nvPr/>
            </p:nvSpPr>
            <p:spPr>
              <a:xfrm flipH="1" flipV="1">
                <a:off x="1952280" y="2728800"/>
                <a:ext cx="1400040" cy="237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8600" y="5105880"/>
                <a:ext cx="6934320" cy="106884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Atoms under special circumstances can be decomposed.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3800" y="15998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ments are composed of minute indivisible particles called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733-1ADE-4E1F-BDD5-07D55CDE83EC}" type="slidenum">
              <a:t>8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762120" y="152676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1755360"/>
            <a:ext cx="487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96776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218016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237780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25758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2773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297144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315324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3361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35190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0" y="370116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388404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066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42487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44157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458280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475020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52680" y="4917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43480" y="5088960"/>
            <a:ext cx="48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609480"/>
            <a:ext cx="64008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number is very sma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343-B66C-428A-86C6-A5E2E6B4978F}" type="slidenum">
              <a:t>80</a:t>
            </a:fld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evt="end">
                                        <p:tn val="744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"/>
                            </p:stCondLst>
                            <p:childTnLst>
                              <p:par>
                                <p:cTn id="7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0" dur="1" fill="hold">
                                    <p:stCondLst>
                                      <p:cond evt="end">
                                        <p:tn val="748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"/>
                            </p:stCondLst>
                            <p:childTnLst>
                              <p:par>
                                <p:cTn id="7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4" dur="1" fill="hold">
                                    <p:stCondLst>
                                      <p:cond evt="end">
                                        <p:tn val="752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900"/>
                            </p:stCondLst>
                            <p:childTnLst>
                              <p:par>
                                <p:cTn id="7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evt="end">
                                        <p:tn val="756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200"/>
                            </p:stCondLst>
                            <p:childTnLst>
                              <p:par>
                                <p:cTn id="7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2" dur="1" fill="hold">
                                    <p:stCondLst>
                                      <p:cond evt="end">
                                        <p:tn val="760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evt="end">
                                        <p:tn val="764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800"/>
                            </p:stCondLst>
                            <p:childTnLst>
                              <p:par>
                                <p:cTn id="7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0" dur="1" fill="hold">
                                    <p:stCondLst>
                                      <p:cond evt="end">
                                        <p:tn val="768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100"/>
                            </p:stCondLst>
                            <p:childTnLst>
                              <p:par>
                                <p:cTn id="7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4" dur="1" fill="hold">
                                    <p:stCondLst>
                                      <p:cond evt="end">
                                        <p:tn val="772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400"/>
                            </p:stCondLst>
                            <p:childTnLst>
                              <p:par>
                                <p:cTn id="7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8" dur="1" fill="hold">
                                    <p:stCondLst>
                                      <p:cond evt="end">
                                        <p:tn val="776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700"/>
                            </p:stCondLst>
                            <p:childTnLst>
                              <p:par>
                                <p:cTn id="7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2" dur="1" fill="hold">
                                    <p:stCondLst>
                                      <p:cond evt="end">
                                        <p:tn val="780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evt="end">
                                        <p:tn val="784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3300"/>
                            </p:stCondLst>
                            <p:childTnLst>
                              <p:par>
                                <p:cTn id="7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0" dur="1" fill="hold">
                                    <p:stCondLst>
                                      <p:cond evt="end">
                                        <p:tn val="788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600"/>
                            </p:stCondLst>
                            <p:childTnLst>
                              <p:par>
                                <p:cTn id="7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4" dur="1" fill="hold">
                                    <p:stCondLst>
                                      <p:cond evt="end">
                                        <p:tn val="792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900"/>
                            </p:stCondLst>
                            <p:childTnLst>
                              <p:par>
                                <p:cTn id="7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8" dur="1" fill="hold">
                                    <p:stCondLst>
                                      <p:cond evt="end">
                                        <p:tn val="796"/>
                                      </p:cond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200"/>
                            </p:stCondLst>
                            <p:childTnLst>
                              <p:par>
                                <p:cTn id="8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evt="end">
                                        <p:tn val="800"/>
                                      </p:cond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500"/>
                            </p:stCondLst>
                            <p:childTnLst>
                              <p:par>
                                <p:cTn id="8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6" dur="1" fill="hold">
                                    <p:stCondLst>
                                      <p:cond evt="end">
                                        <p:tn val="804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800"/>
                            </p:stCondLst>
                            <p:childTnLst>
                              <p:par>
                                <p:cTn id="8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0" dur="1" fill="hold">
                                    <p:stCondLst>
                                      <p:cond evt="end">
                                        <p:tn val="808"/>
                                      </p:cond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100"/>
                            </p:stCondLst>
                            <p:childTnLst>
                              <p:par>
                                <p:cTn id="8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4" dur="1" fill="hold">
                                    <p:stCondLst>
                                      <p:cond evt="end">
                                        <p:tn val="812"/>
                                      </p:cond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400"/>
                            </p:stCondLst>
                            <p:childTnLst>
                              <p:par>
                                <p:cTn id="8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evt="end">
                                        <p:tn val="816"/>
                                      </p:cond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700"/>
                            </p:stCondLst>
                            <p:childTnLst>
                              <p:par>
                                <p:cTn id="82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s of this size are too small for practical u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324160"/>
            <a:ext cx="7772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overcome this problem, a system of relative atomic masses using “atomic mass units” was devised to express the masses of elements using simpl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C48-9CBB-4552-8A33-4DABE61CCBF7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2238480" y="2449440"/>
          <a:ext cx="466560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2449440"/>
                    <a:ext cx="46656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ndard to which the masses of all other atoms are compared to was chosen to be the most abundant isotope of carb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A6E-68D5-4AFF-8C87-B72D0319ECF2}" type="slidenum">
              <a:t>82</a:t>
            </a:fld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2238480" y="2133720"/>
          <a:ext cx="4665600" cy="44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2133720"/>
                    <a:ext cx="466560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22716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ass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12 atomic mass units (amu) was assign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26B-7266-46BC-A9B0-AF445ED6730F}" type="slidenum">
              <a:t>83</a:t>
            </a:fld>
          </a:p>
        </p:txBody>
      </p:sp>
    </p:spTree>
  </p:cSld>
  <p:transition spd="slow">
    <p:blinds dir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mu is defined as exactly equal t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the mass of a carbon-12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7421400" y="28440"/>
          <a:ext cx="50328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21400" y="28440"/>
                    <a:ext cx="5032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2238480" y="2128680"/>
          <a:ext cx="4665600" cy="44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8480" y="2128680"/>
                    <a:ext cx="46656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1066680" y="1675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imes New Roman"/>
              </a:rPr>
              <a:t>1 amu = 1.6606 x 10</a:t>
            </a:r>
            <a:r>
              <a:rPr b="0" lang="en-US" sz="3600" spc="-1" strike="noStrike" baseline="30000">
                <a:solidFill>
                  <a:srgbClr val="cc3399"/>
                </a:solidFill>
                <a:latin typeface="Times New Roman"/>
              </a:rPr>
              <a:t>-24 </a:t>
            </a:r>
            <a:r>
              <a:rPr b="0" lang="en-US" sz="3600" spc="-1" strike="noStrike">
                <a:solidFill>
                  <a:srgbClr val="cc3399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132-B40A-439A-9044-32D854BD5E7B}" type="slidenum">
              <a:t>84</a:t>
            </a:fld>
          </a:p>
        </p:txBody>
      </p:sp>
    </p:spTree>
  </p:cSld>
  <p:transition spd="slow">
    <p:blinds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3081240" y="2986200"/>
          <a:ext cx="298152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2986200"/>
                    <a:ext cx="298152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1491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e atomic mass 1.00797 am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B73-B694-4898-80EA-DB8D22A8A974}" type="slidenum">
              <a:t>85</a:t>
            </a:fld>
          </a:p>
        </p:txBody>
      </p:sp>
    </p:spTree>
  </p:cSld>
  <p:transition spd="slow">
    <p:blinds dir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3146400" y="2986200"/>
          <a:ext cx="2851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6400" y="2986200"/>
                    <a:ext cx="2851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685800" y="11491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e atomic mass 39.098 am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0CF-59AB-4423-817C-54B05C83A6F1}" type="slidenum">
              <a:t>86</a:t>
            </a:fld>
          </a:p>
        </p:txBody>
      </p:sp>
    </p:spTree>
  </p:cSld>
  <p:transition spd="slow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3146400" y="2922480"/>
          <a:ext cx="285120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6400" y="2922480"/>
                    <a:ext cx="28512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1491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e atomic mass 248.029 am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48C-BA64-4489-A202-F29AF6BC453E}" type="slidenum">
              <a:t>87</a:t>
            </a:fld>
          </a:p>
        </p:txBody>
      </p:sp>
    </p:spTree>
  </p:cSld>
  <p:transition spd="slow">
    <p:blinds dir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Average Relative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Atomic Ma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6A0-47D2-4E20-9CE8-CA87FCBAA2A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elements occur as mixtures of isotop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topes of the same element have different m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sted atomic mass of an element is the average relative mass of the isotopes of that element compared to the mass of carbon-12 (exactly 12.0000…amu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1F9-7E6E-4B5E-B490-3C9AD4893661}" type="slidenum">
              <a:t>89</a:t>
            </a:fld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0840" y="1600200"/>
            <a:ext cx="8659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combine to form compounds in simple numerical ratios, such as one to one , two to two, two to three, and so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1200" y="3429000"/>
            <a:ext cx="8610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of two elements may combine in different ratios to form more than on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8ED-8761-4D6D-9669-A6997CAA341D}" type="slidenum">
              <a:t>9</a:t>
            </a:fld>
          </a:p>
        </p:txBody>
      </p:sp>
    </p:spTree>
  </p:cSld>
  <p:transition spd="slow"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52600" y="-360"/>
            <a:ext cx="8037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calculate the atomic mass, multiply the atomic mass of each isotope by its percent abundance and add the resul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00240" y="4789440"/>
            <a:ext cx="28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62.9998 am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95720" y="479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690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08600" y="47912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3.48 a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00240" y="5492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64.9278 am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95720" y="549288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3091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08600" y="549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20.07 a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08600" y="6064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3.55 a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28600" y="1806480"/>
          <a:ext cx="8610480" cy="2666880"/>
        </p:xfrm>
        <a:graphic>
          <a:graphicData uri="http://schemas.openxmlformats.org/drawingml/2006/table">
            <a:tbl>
              <a:tblPr/>
              <a:tblGrid>
                <a:gridCol w="2152440"/>
                <a:gridCol w="2152800"/>
                <a:gridCol w="2152440"/>
                <a:gridCol w="2152800"/>
              </a:tblGrid>
              <a:tr h="1411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t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topic mass (am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undanc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atomic mass (am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2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9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92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3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028880" y="3267000"/>
          <a:ext cx="73944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3267000"/>
                    <a:ext cx="739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1028880" y="3913200"/>
          <a:ext cx="73944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3913200"/>
                    <a:ext cx="739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4114800" y="3260880"/>
            <a:ext cx="2057400" cy="2138040"/>
            <a:chOff x="4114800" y="3260880"/>
            <a:chExt cx="2057400" cy="2138040"/>
          </a:xfrm>
        </p:grpSpPr>
        <p:sp>
          <p:nvSpPr>
            <p:cNvPr id="423" name=""/>
            <p:cNvSpPr/>
            <p:nvPr/>
          </p:nvSpPr>
          <p:spPr>
            <a:xfrm>
              <a:off x="5029200" y="3260880"/>
              <a:ext cx="1143000" cy="533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800" y="4865760"/>
              <a:ext cx="1371600" cy="533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114800" y="3886200"/>
            <a:ext cx="2057400" cy="2198520"/>
            <a:chOff x="4114800" y="3886200"/>
            <a:chExt cx="2057400" cy="2198520"/>
          </a:xfrm>
        </p:grpSpPr>
        <p:sp>
          <p:nvSpPr>
            <p:cNvPr id="426" name=""/>
            <p:cNvSpPr/>
            <p:nvPr/>
          </p:nvSpPr>
          <p:spPr>
            <a:xfrm>
              <a:off x="5029200" y="3886200"/>
              <a:ext cx="1143000" cy="53352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4800" y="5551560"/>
              <a:ext cx="1371600" cy="5331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258920" y="3886200"/>
            <a:ext cx="2921040" cy="2198520"/>
            <a:chOff x="1258920" y="3886200"/>
            <a:chExt cx="2921040" cy="2198520"/>
          </a:xfrm>
        </p:grpSpPr>
        <p:sp>
          <p:nvSpPr>
            <p:cNvPr id="429" name=""/>
            <p:cNvSpPr/>
            <p:nvPr/>
          </p:nvSpPr>
          <p:spPr>
            <a:xfrm>
              <a:off x="2732040" y="3886200"/>
              <a:ext cx="1447920" cy="53352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58920" y="5551560"/>
              <a:ext cx="1730520" cy="5331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258920" y="3263760"/>
            <a:ext cx="2921040" cy="2135160"/>
            <a:chOff x="1258920" y="3263760"/>
            <a:chExt cx="2921040" cy="2135160"/>
          </a:xfrm>
        </p:grpSpPr>
        <p:sp>
          <p:nvSpPr>
            <p:cNvPr id="432" name=""/>
            <p:cNvSpPr/>
            <p:nvPr/>
          </p:nvSpPr>
          <p:spPr>
            <a:xfrm>
              <a:off x="2732040" y="3263760"/>
              <a:ext cx="1447920" cy="53352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58920" y="4865760"/>
              <a:ext cx="1730520" cy="533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F90-3810-4278-A9E9-1A14BC9CEB5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Relationship Between Mass Number and Atomic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992-BD77-42EC-9FAA-1778B55D12B3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3520" y="577800"/>
            <a:ext cx="7848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ss number minus the atomic number equals the number of neutrons in the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630600" y="2833560"/>
          <a:ext cx="1882800" cy="10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0600" y="2833560"/>
                    <a:ext cx="188280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"/>
          <p:cNvGrpSpPr/>
          <p:nvPr/>
        </p:nvGrpSpPr>
        <p:grpSpPr>
          <a:xfrm>
            <a:off x="469800" y="4495680"/>
            <a:ext cx="8204400" cy="1192680"/>
            <a:chOff x="469800" y="4495680"/>
            <a:chExt cx="8204400" cy="1192680"/>
          </a:xfrm>
        </p:grpSpPr>
        <p:sp>
          <p:nvSpPr>
            <p:cNvPr id="439" name=""/>
            <p:cNvSpPr/>
            <p:nvPr/>
          </p:nvSpPr>
          <p:spPr>
            <a:xfrm>
              <a:off x="469800" y="4770360"/>
              <a:ext cx="26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ass numb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5280" y="4495680"/>
              <a:ext cx="163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tomic number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40480" y="44971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umber of neutr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81320" y="4770360"/>
              <a:ext cx="3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45240" y="4771800"/>
              <a:ext cx="3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153200" y="5638680"/>
            <a:ext cx="9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359000" y="5638680"/>
            <a:ext cx="2146320" cy="642600"/>
            <a:chOff x="1359000" y="5638680"/>
            <a:chExt cx="2146320" cy="642600"/>
          </a:xfrm>
        </p:grpSpPr>
        <p:sp>
          <p:nvSpPr>
            <p:cNvPr id="446" name=""/>
            <p:cNvSpPr/>
            <p:nvPr/>
          </p:nvSpPr>
          <p:spPr>
            <a:xfrm>
              <a:off x="1359000" y="56386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10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1320" y="5638680"/>
              <a:ext cx="3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129200" y="5638680"/>
            <a:ext cx="1938240" cy="642600"/>
            <a:chOff x="4129200" y="5638680"/>
            <a:chExt cx="1938240" cy="642600"/>
          </a:xfrm>
        </p:grpSpPr>
        <p:sp>
          <p:nvSpPr>
            <p:cNvPr id="449" name=""/>
            <p:cNvSpPr/>
            <p:nvPr/>
          </p:nvSpPr>
          <p:spPr>
            <a:xfrm>
              <a:off x="4129200" y="56386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43440" y="5638680"/>
              <a:ext cx="3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447920" y="2606760"/>
            <a:ext cx="2958840" cy="825480"/>
            <a:chOff x="1447920" y="2606760"/>
            <a:chExt cx="2958840" cy="825480"/>
          </a:xfrm>
        </p:grpSpPr>
        <p:sp>
          <p:nvSpPr>
            <p:cNvPr id="452" name=""/>
            <p:cNvSpPr/>
            <p:nvPr/>
          </p:nvSpPr>
          <p:spPr>
            <a:xfrm>
              <a:off x="1447920" y="260676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mass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22680" y="2854440"/>
              <a:ext cx="784080" cy="55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3276720"/>
            <a:ext cx="2806560" cy="825480"/>
            <a:chOff x="1600200" y="3276720"/>
            <a:chExt cx="2806560" cy="825480"/>
          </a:xfrm>
        </p:grpSpPr>
        <p:sp>
          <p:nvSpPr>
            <p:cNvPr id="455" name=""/>
            <p:cNvSpPr/>
            <p:nvPr/>
          </p:nvSpPr>
          <p:spPr>
            <a:xfrm>
              <a:off x="1600200" y="32767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omic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84600" y="3382920"/>
              <a:ext cx="722160" cy="55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6D3-9D7A-488F-A1AF-DCCAB7881DFE}" type="slidenum">
              <a:t>92</a:t>
            </a:fld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3E1-B9D1-49B1-A126-3B451806BCA1}" type="slidenum">
              <a:t>93</a:t>
            </a:fld>
          </a:p>
        </p:txBody>
      </p:sp>
    </p:spTree>
  </p:cSld>
  <p:transition spd="slow">
    <p:blinds dir="vert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jyee</cp:lastModifiedBy>
  <dcterms:modified xsi:type="dcterms:W3CDTF">2006-11-01T16:19:07Z</dcterms:modified>
  <cp:revision>499</cp:revision>
  <dc:subject/>
  <dc:title>Hein and Arena</dc:title>
</cp:coreProperties>
</file>