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7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4.wmf" ContentType="image/x-wmf"/>
  <Override PartName="/ppt/media/image34.wmf" ContentType="image/x-wmf"/>
  <Override PartName="/ppt/media/image14.png" ContentType="image/png"/>
  <Override PartName="/ppt/media/image12.jpeg" ContentType="image/jpeg"/>
  <Override PartName="/ppt/media/image13.png" ContentType="image/png"/>
  <Override PartName="/ppt/media/image7.wmf" ContentType="image/x-wmf"/>
  <Override PartName="/ppt/media/image32.wmf" ContentType="image/x-wmf"/>
  <Override PartName="/ppt/media/image31.wmf" ContentType="image/x-wmf"/>
  <Override PartName="/ppt/media/image8.jpeg" ContentType="image/jpeg"/>
  <Override PartName="/ppt/media/image33.wmf" ContentType="image/x-wmf"/>
  <Override PartName="/ppt/media/image3.wmf" ContentType="image/x-wmf"/>
  <Override PartName="/ppt/media/image11.png" ContentType="image/png"/>
  <Override PartName="/ppt/media/image9.jpeg" ContentType="image/jpeg"/>
  <Override PartName="/ppt/media/image23.wmf" ContentType="image/x-wmf"/>
  <Override PartName="/ppt/media/image2.png" ContentType="image/png"/>
  <Override PartName="/ppt/media/image25.jpeg" ContentType="image/jpeg"/>
  <Override PartName="/ppt/media/image29.wmf" ContentType="image/x-wmf"/>
  <Override PartName="/ppt/media/image1.png" ContentType="image/png"/>
  <Override PartName="/ppt/media/image15.png" ContentType="image/png"/>
  <Override PartName="/ppt/media/image16.png" ContentType="image/png"/>
  <Override PartName="/ppt/media/image17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BA4-696F-4DF7-B67E-DBD461BE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4EB-426E-4D58-BBF0-0D9D8139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040-FB55-456B-832B-119EDEF5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52D-EAD7-498A-80EB-4AEDAD40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4DD-20BA-4443-A0FF-CFC0BA09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873-F386-45E7-BD01-9D59F6B6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732-B5A5-462C-BD2F-C2F66883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2A3-9C0F-4680-A59E-84A12741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D0D-366B-4DEB-AE6D-67FC0C1E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053-2700-48A8-9C57-E017A87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FE1-3C98-4CFB-AA32-6CFD9456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8A7-AB9E-44C3-9996-1B4E76EB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06E306A-43B5-4599-BE9E-FE63C9278D85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:33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08C6-68A0-414F-91D3-3EC54CB95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21.xml"/><Relationship Id="rId5" Type="http://schemas.openxmlformats.org/officeDocument/2006/relationships/slide" Target="slide23.xml"/><Relationship Id="rId6" Type="http://schemas.openxmlformats.org/officeDocument/2006/relationships/slide" Target="slide27.xml"/><Relationship Id="rId7" Type="http://schemas.openxmlformats.org/officeDocument/2006/relationships/slide" Target="slide44.xml"/><Relationship Id="rId8" Type="http://schemas.openxmlformats.org/officeDocument/2006/relationships/slide" Target="slide64.xml"/><Relationship Id="rId9" Type="http://schemas.openxmlformats.org/officeDocument/2006/relationships/slide" Target="slide75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ly Atomic Theor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and Struct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5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FF4-3440-4757-B0E2-E7086FAE512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191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on’s atoms were individual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8769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of each element are alike in mass and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8520" y="762120"/>
            <a:ext cx="4746960" cy="320832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494080" y="673200"/>
            <a:ext cx="3612960" cy="2965320"/>
            <a:chOff x="2494080" y="673200"/>
            <a:chExt cx="3612960" cy="2965320"/>
          </a:xfrm>
        </p:grpSpPr>
        <p:sp>
          <p:nvSpPr>
            <p:cNvPr id="86" name=""/>
            <p:cNvSpPr/>
            <p:nvPr/>
          </p:nvSpPr>
          <p:spPr>
            <a:xfrm>
              <a:off x="3533760" y="1503360"/>
              <a:ext cx="1033560" cy="10335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21320" y="2604960"/>
              <a:ext cx="1033200" cy="10335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73480" y="673200"/>
              <a:ext cx="1033560" cy="103320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494080" y="2068560"/>
              <a:ext cx="1033200" cy="10335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786040" y="1025640"/>
            <a:ext cx="3008160" cy="1884240"/>
            <a:chOff x="2786040" y="1025640"/>
            <a:chExt cx="3008160" cy="1884240"/>
          </a:xfrm>
        </p:grpSpPr>
        <p:sp>
          <p:nvSpPr>
            <p:cNvPr id="91" name=""/>
            <p:cNvSpPr/>
            <p:nvPr/>
          </p:nvSpPr>
          <p:spPr>
            <a:xfrm>
              <a:off x="4271760" y="2316240"/>
              <a:ext cx="59400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00560" y="1847880"/>
              <a:ext cx="59364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32400" y="1270080"/>
              <a:ext cx="59364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86040" y="1025640"/>
              <a:ext cx="59364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CDD-A826-4306-A81E-6FB5D69818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41911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on’s atoms were individual parti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8798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of different elements are not alike in mass and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01760" y="762120"/>
            <a:ext cx="4746600" cy="32083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789280" y="1025640"/>
            <a:ext cx="1781280" cy="1511280"/>
            <a:chOff x="2789280" y="1025640"/>
            <a:chExt cx="1781280" cy="1511280"/>
          </a:xfrm>
        </p:grpSpPr>
        <p:sp>
          <p:nvSpPr>
            <p:cNvPr id="100" name=""/>
            <p:cNvSpPr/>
            <p:nvPr/>
          </p:nvSpPr>
          <p:spPr>
            <a:xfrm>
              <a:off x="3537000" y="1503360"/>
              <a:ext cx="1033560" cy="103356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9280" y="1025640"/>
              <a:ext cx="593640" cy="593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632-E49F-453F-B6AE-4C77BB37033B}" type="slidenum">
              <a:t>11</a:t>
            </a:fld>
          </a:p>
        </p:txBody>
      </p:sp>
    </p:spTree>
  </p:cSld>
  <p:transition spd="slow"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7960" y="317520"/>
            <a:ext cx="8666280" cy="3643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47920" y="571824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ton’s atoms combine in specific ratios to form compo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19320" y="3886200"/>
            <a:ext cx="6324480" cy="1122480"/>
            <a:chOff x="1219320" y="3886200"/>
            <a:chExt cx="6324480" cy="1122480"/>
          </a:xfrm>
        </p:grpSpPr>
        <p:graphicFrame>
          <p:nvGraphicFramePr>
            <p:cNvPr id="105" name=""/>
            <p:cNvGraphicFramePr/>
            <p:nvPr/>
          </p:nvGraphicFramePr>
          <p:xfrm>
            <a:off x="1219320" y="3886200"/>
            <a:ext cx="1371600" cy="112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19320" y="3886200"/>
                      <a:ext cx="1371600" cy="11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6254640" y="3889440"/>
            <a:ext cx="1289160" cy="1119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54640" y="3889440"/>
                      <a:ext cx="1289160" cy="11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8CA-0F80-460B-8FCF-8EDEB011A3C0}" type="slidenum">
              <a:t>12</a:t>
            </a:fld>
          </a:p>
        </p:txBody>
      </p:sp>
    </p:spTree>
  </p:cSld>
  <p:transition spd="slow"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3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omposition of Compou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DA7-83A6-45B1-9251-38BA4C1C261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1753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of Definite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354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 always contains two or more elements chemically combined in a definite proportion by m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044-7705-4E43-85D4-2A11B0265EE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2446200"/>
            <a:ext cx="769752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by mass of hydrogen in water is 11.2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by mass of oxygen in water is 88.8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always has these percentages.  If the percentages were different, the compound would not be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219320"/>
            <a:ext cx="777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always contains the same two elements: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Composition of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5C6-F2A3-4445-840B-12DE7584A3B3}" type="slidenum">
              <a:t>15</a:t>
            </a:fld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by mass of hydrogen in hydrogen peroxide is 5.9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cent by mass of oxygen in hydrogen peroxide is 94.1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always has these percentages.  If the percentages were different, the compound would not be hydrogen peroxi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38080"/>
            <a:ext cx="9067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always contains the same two elements: hydrogen and oxy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Composition of Hydrogen Perox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C1A-EC34-48A3-AD7F-F7AD3C5F1BB3}" type="slidenum">
              <a:t>16</a:t>
            </a:fld>
          </a:p>
        </p:txBody>
      </p:sp>
    </p:spTree>
  </p:cSld>
  <p:transition spd="slow"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of Multiple Propor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of two or more elements may combine in different ratios to produce more than on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D4F-AB44-4A7B-BBCF-92F144BA736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533520" y="1297080"/>
          <a:ext cx="6858000" cy="4064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135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 Hydrogen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s Oxygen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5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drogen Perox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03120" y="5638680"/>
          <a:ext cx="85377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5638680"/>
                    <a:ext cx="85377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Combining Masses of Hydrogen and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486400"/>
            <a:ext cx="77752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has twice as much oxygen (by mass) as does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A6F-19BB-4421-89BC-F7E422813BEE}" type="slidenum">
              <a:t>18</a:t>
            </a:fld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2754000"/>
            <a:ext cx="769752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rmula for water is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rmula for hydrogen peroxide is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1069920"/>
            <a:ext cx="77752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peroxide has twice as many oxygens per hydrogen atom as does w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Combining Ratios of Hydrogen and Oxy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AC5-FCD1-4657-AB56-3795E2204559}" type="slidenum">
              <a:t>19</a:t>
            </a:fld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1828800"/>
            <a:ext cx="37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Early 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040" y="2629080"/>
            <a:ext cx="45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Dalton's Model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3040" y="3429000"/>
            <a:ext cx="43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Composition of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3040" y="4229280"/>
            <a:ext cx="45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The Nature of Electric Ch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3040" y="502920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Discovery of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49840" y="1828800"/>
            <a:ext cx="43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Subatomic Parts of the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9840" y="2629080"/>
            <a:ext cx="34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The Nuclear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9840" y="342900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8" action="ppaction://hlinksldjump"/>
              </a:rPr>
              <a:t>Isotopes of th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49840" y="4229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9" action="ppaction://hlinksldjump"/>
              </a:rPr>
              <a:t>Atomic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158-2327-424F-B34D-D5579E09B6A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2A7-B8DD-4FD9-AA43-10CEA5E41E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4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Nature of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lectric Char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99A-9C86-4F1C-86FE-534D68639D5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2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 may be of two types: positive and 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ike charges attract (positive attracts negative), and like charges repel (negative repels negative and positive repels positiv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ge may be transferred from one object to another, by contact or in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r the distance between two charges, the greater the force of attraction between unlike charges (or repulsion between identical charg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Times New Roman"/>
              </a:rPr>
              <a:t>Properties of Electric Char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51080" y="5562720"/>
            <a:ext cx="6421320" cy="1241640"/>
            <a:chOff x="1351080" y="5562720"/>
            <a:chExt cx="6421320" cy="1241640"/>
          </a:xfrm>
        </p:grpSpPr>
        <p:graphicFrame>
          <p:nvGraphicFramePr>
            <p:cNvPr id="135" name=""/>
            <p:cNvGraphicFramePr/>
            <p:nvPr/>
          </p:nvGraphicFramePr>
          <p:xfrm>
            <a:off x="1351080" y="5594400"/>
            <a:ext cx="2001600" cy="112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1080" y="5594400"/>
                      <a:ext cx="2001600" cy="112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86200" y="5562720"/>
              <a:ext cx="388620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re charges, r is the distance between charges, and k is a consta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A8A-D0DE-4E20-8821-72D9917DE126}" type="slidenum">
              <a:t>22</a:t>
            </a:fld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5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Discovery of 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A86-A668-487E-9816-27682F8FBD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hael Faraday discovered that certain substances, when dissolved in water, conducted an electric cur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found that atoms of some elements moved to the cathode (negative electrode) and some moved to the anode (positive electrode)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concluded they were electrically charged and called them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Greek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ander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8E6-9566-46B7-A1E7-18D13241966C}" type="slidenum">
              <a:t>24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3049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vante Arrhenius reasoned that an ion is an atom (or a group of atoms) carrying a positive or negative electric char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rhenius accounted for the electrical conduction of molten sodium chloride (NaCl) by proposing that melted NaCl dissociated into the charged ions N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nd 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57400" y="5104800"/>
            <a:ext cx="5029200" cy="1160280"/>
            <a:chOff x="2057400" y="5104800"/>
            <a:chExt cx="5029200" cy="1160280"/>
          </a:xfrm>
        </p:grpSpPr>
        <p:sp>
          <p:nvSpPr>
            <p:cNvPr id="145" name=""/>
            <p:cNvSpPr/>
            <p:nvPr/>
          </p:nvSpPr>
          <p:spPr>
            <a:xfrm>
              <a:off x="2057400" y="5439960"/>
              <a:ext cx="50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Arial"/>
                </a:rPr>
                <a:t>NaCl </a:t>
              </a:r>
              <a:r>
                <a:rPr b="0" lang="en-US" sz="4800" spc="-1" strike="noStrike">
                  <a:solidFill>
                    <a:srgbClr val="0000ff"/>
                  </a:solidFill>
                  <a:latin typeface="Arial"/>
                  <a:ea typeface="Arial"/>
                </a:rPr>
                <a:t>→ Na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+</a:t>
              </a:r>
              <a:r>
                <a:rPr b="0" lang="en-US" sz="4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+ Cl</a:t>
              </a:r>
              <a:r>
                <a:rPr b="0" lang="en-US" sz="4800" spc="-1" strike="noStrike" baseline="30000">
                  <a:solidFill>
                    <a:srgbClr val="0000ff"/>
                  </a:solidFill>
                  <a:latin typeface="Arial"/>
                  <a:ea typeface="Arial"/>
                </a:rPr>
                <a:t>-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33920" y="5104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just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  <a:ea typeface="Arial"/>
                </a:rPr>
                <a:t>Δ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434-69F2-4CA4-B2A2-FFA786FB7DDD}" type="slidenum">
              <a:t>25</a:t>
            </a:fld>
          </a:p>
        </p:txBody>
      </p:sp>
    </p:spTree>
  </p:cSld>
  <p:transition spd="slow"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elted, the positiv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ns moved to 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ath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egative electrode).  Thus positive ions are calle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elted, the negative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ons moved to the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ositive electrode).  Thus negative ions are called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n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708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NaCl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→ Na</a:t>
            </a:r>
            <a:r>
              <a:rPr b="0" lang="en-US" sz="4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 + Cl</a:t>
            </a:r>
            <a:r>
              <a:rPr b="0" lang="en-US" sz="4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0BA-F563-4798-BF40-59C731EE5DC5}" type="slidenum">
              <a:t>26</a:t>
            </a:fld>
          </a:p>
        </p:txBody>
      </p:sp>
    </p:spTree>
  </p:cSld>
  <p:transition spd="slow">
    <p:blinds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6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Subatomic Part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the At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22A9-05B0-4C56-8A73-FB3CD0796A3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438360" y="2295360"/>
            <a:ext cx="2267280" cy="22672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2349360"/>
            <a:ext cx="2157480" cy="21574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2405160"/>
            <a:ext cx="2047680" cy="20476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03680" y="2560680"/>
            <a:ext cx="1736640" cy="1736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8280" y="2733840"/>
            <a:ext cx="1388880" cy="13888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1440" y="2908440"/>
            <a:ext cx="1041120" cy="10411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5160" y="3062160"/>
            <a:ext cx="731880" cy="7318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35480" y="3191040"/>
            <a:ext cx="474480" cy="4744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0880" y="3286080"/>
            <a:ext cx="284040" cy="2840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4240" y="3351240"/>
            <a:ext cx="155520" cy="1555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40320" y="3397320"/>
            <a:ext cx="63360" cy="6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tom is very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DF5-BC58-4693-83D4-5864A3C49709}" type="slidenum">
              <a:t>28</a:t>
            </a:fld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500"/>
                            </p:stCondLst>
                            <p:childTnLst>
                              <p:par>
                                <p:cTn id="2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ameter of an atom is 0.1 to 0.5 n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1 to 5 ten billionths of a me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96252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e diameter of this dot is 1 mm, then 10 million hydrogen atoms would form a line across the d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40320" y="3397320"/>
            <a:ext cx="63360" cy="6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96252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smaller particles than atoms exist.  These are called subatomic partic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80D-9E79-40E2-BF23-F0CF7AF64ECC}" type="slidenum">
              <a:t>29</a:t>
            </a:fld>
          </a:p>
        </p:txBody>
      </p:sp>
    </p:spTree>
  </p:cSld>
  <p:transition spd="slow">
    <p:blinds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1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arly Though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9A1-5CAB-46A8-9B73-1A58E3BD018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Subatomic Partic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D9FC-EB23-463B-8650-24F7DEE88016}" type="slidenum">
              <a:t>30</a:t>
            </a:fld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66ff"/>
                </a:solidFill>
                <a:uFillTx/>
                <a:latin typeface="Tahoma"/>
              </a:rPr>
              <a:t>Electr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E57-B657-428E-849A-0E6BFCF2A9F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75 Sir William Crookes invented the Crookes tub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okes tubes experiments led the way to an understanding of the subatomic structure of the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okes tube emissions are called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cathode ray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926-1611-4A3D-85D9-E3D7930A2693}" type="slidenum">
              <a:t>32</a:t>
            </a:fld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4308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1897 Sir Joseph Thompson demonstrated that cathode ray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 in straight lin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negative in char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deflected by electric and magnetic fiel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e sharp shad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capable of moving a small paddle whe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DA5-A0C1-41D9-AAC4-D79839B16E9E}" type="slidenum">
              <a:t>33</a:t>
            </a:fld>
          </a:p>
        </p:txBody>
      </p:sp>
    </p:spTree>
  </p:cSld>
  <p:transition spd="slow"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75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000" y="1599840"/>
            <a:ext cx="8658000" cy="2514600"/>
          </a:xfrm>
          <a:prstGeom prst="rect">
            <a:avLst/>
          </a:prstGeom>
          <a:solidFill>
            <a:srgbClr val="99ccff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This was the discovery of the fundamental unit of charge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he electron.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A52-BA4C-433E-A6BF-DCCB9E4F2816}" type="slidenum">
              <a:t>34</a:t>
            </a:fld>
          </a:p>
        </p:txBody>
      </p:sp>
    </p:spTree>
  </p:cSld>
  <p:transition spd="slow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66ff"/>
                </a:solidFill>
                <a:uFillTx/>
                <a:latin typeface="Tahoma"/>
              </a:rPr>
              <a:t>Prot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65D-392A-40CC-8784-B95BDD9F1E3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ugen Goldstein, a German physicist, first observed protons in 1886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mpson determined the proton’s characteristi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mpson showed that atoms contained both positive and negative charg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disproved the Dalton model of the atom which held that atoms were indivi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075-A0D3-4A4B-BA12-EE754A68DF53}" type="slidenum">
              <a:t>3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66ff"/>
                </a:solidFill>
                <a:uFillTx/>
                <a:latin typeface="Tahoma"/>
              </a:rPr>
              <a:t>Neutr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B0B7-EF50-4004-9659-BEB54AD13C0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213372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mes Chadwick discovered the neutron in 193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34290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s actual mass is slightly greater than the mass of a prot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998-6796-4A9B-A9BC-8AB89C1B8A6E}" type="slidenum">
              <a:t>38</a:t>
            </a:fld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A24-8FBF-42F7-B9C0-0B51CB2143A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7926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edocles stated that matter was made of 4 elements: earth, air, fire, an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critus (about 470-370 B.C.) thought that all forms of matter were divisible into tiny indivisible particles.  He called them “atoms” from the Greek “atomos”, indivisi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14400"/>
            <a:ext cx="7775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earliest models of the atom were developed by the ancient Greek philosop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476-549B-43F2-8AFB-54478D453C3B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5DC-FBA8-4983-AA39-F1F45959403F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1523880"/>
            <a:ext cx="7848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ve ions were explained by assuming that a neutral atom loses elec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3276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gative ions were explained by assuming that additional electrons can be added to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6A7-8E29-4EBF-B7DF-406543862683}" type="slidenum">
              <a:t>41</a:t>
            </a:fld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57913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or more electrons are lost from an atom, a cation is form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16752" r="60943" b="35502"/>
          <a:stretch/>
        </p:blipFill>
        <p:spPr>
          <a:xfrm>
            <a:off x="1197000" y="76320"/>
            <a:ext cx="5965920" cy="546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1B6-FB89-49AC-B988-B6289AE79D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57913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one or more electrons are added to a neutral atom, an anion is form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55621" t="20837" r="0" b="34596"/>
          <a:stretch/>
        </p:blipFill>
        <p:spPr>
          <a:xfrm>
            <a:off x="1038240" y="228600"/>
            <a:ext cx="6657840" cy="501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6CB-EEAC-44B5-8D2C-34B6D035B1EC}" type="slidenum">
              <a:t>43</a:t>
            </a:fld>
          </a:p>
        </p:txBody>
      </p:sp>
    </p:spTree>
  </p:cSld>
  <p:transition spd="slow"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7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Nuclear At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6A06-DB5B-4C3E-86E7-7F93D412A1D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43080" y="8380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activity was discovered by Becquerel in 189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42720" y="21337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active elements spontaneously emit alpha particles, beta particles and gamma rays from their nucle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907 Rutherford found that alpha particles emitted by certain radioactive elements were helium nucle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9A4-21B4-4645-A88A-E594CE354B91}" type="slidenum">
              <a:t>45</a:t>
            </a:fld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The Rutherford Experim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A0B-016C-4A9D-ADA2-D49970A01E3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43080" y="91440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in 1911 performed experiments that shot a stream of alpha particles at a  gold f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42720" y="266688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foil with little or no d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found that a few were deflected at large angles and some alpha particles even bounced ba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74B-736A-4EF5-8AD5-D4DD04F16A5F}" type="slidenum">
              <a:t>47</a:t>
            </a:fld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98600" y="380880"/>
            <a:ext cx="8145360" cy="4822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38080" y="589644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’s alpha particle scattering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0C7-E0BC-40AA-A263-9C211860BA1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85800"/>
            <a:ext cx="77724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lectron with a mass of 1/1837 amu could not have deflected an alpha particle with a mass of 4 amu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2580840"/>
            <a:ext cx="77724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knew that like charges rep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concluded that each gold atom contained a positively charged mass that occupied a tiny volume.  He called this mass the </a:t>
            </a:r>
            <a:r>
              <a:rPr b="0" i="1" lang="en-US" sz="3600" spc="-1" strike="noStrike">
                <a:solidFill>
                  <a:srgbClr val="3366ff"/>
                </a:solidFill>
                <a:latin typeface="Times New Roman"/>
              </a:rPr>
              <a:t>nucleu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9F66-277C-4846-9512-6736D486F0E9}" type="slidenum">
              <a:t>49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stotle (384-322 B.C.) rejected the theory of Democritus and advanced the Empedoclean the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3733920"/>
            <a:ext cx="731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stotle’s influence dominated the thinking of scientists and philosophers until the beginning of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069-B804-42E9-B271-7AE3E22422C7}" type="slidenum">
              <a:t>5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84360"/>
            <a:ext cx="77724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a positive alpha particle approached close enough to the positive mass it was deflec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.  This led Rutherford to conclude that a gold atom was mostly empty sp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0465-7686-4162-B31A-4BA3842310C4}" type="slidenum">
              <a:t>50</a:t>
            </a:fld>
          </a:p>
        </p:txBody>
      </p:sp>
    </p:spTree>
  </p:cSld>
  <p:transition spd="slow"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68400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ause alpha particles have relatively high masses, the extent of the deflections led Rutherford to conclude that the nucleus was very heavy and den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F4AA-0001-4DFB-B692-0BF5915EE4D9}" type="slidenum">
              <a:t>51</a:t>
            </a:fld>
          </a:p>
        </p:txBody>
      </p:sp>
    </p:spTree>
  </p:cSld>
  <p:transition spd="slow"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248160" cy="4822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89500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ection and scattering of alpha particles by positive gold nucl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2676600"/>
            <a:ext cx="4114800" cy="1371600"/>
            <a:chOff x="380880" y="2676600"/>
            <a:chExt cx="4114800" cy="1371600"/>
          </a:xfrm>
        </p:grpSpPr>
        <p:sp>
          <p:nvSpPr>
            <p:cNvPr id="210" name=""/>
            <p:cNvSpPr/>
            <p:nvPr/>
          </p:nvSpPr>
          <p:spPr>
            <a:xfrm>
              <a:off x="380880" y="307080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Defle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62320" y="2676600"/>
              <a:ext cx="2133360" cy="13716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648320" y="2473200"/>
            <a:ext cx="3352680" cy="2862000"/>
            <a:chOff x="4648320" y="2473200"/>
            <a:chExt cx="3352680" cy="2862000"/>
          </a:xfrm>
        </p:grpSpPr>
        <p:sp>
          <p:nvSpPr>
            <p:cNvPr id="213" name=""/>
            <p:cNvSpPr/>
            <p:nvPr/>
          </p:nvSpPr>
          <p:spPr>
            <a:xfrm>
              <a:off x="5372280" y="4753800"/>
              <a:ext cx="190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66ff"/>
                  </a:solidFill>
                  <a:latin typeface="Times New Roman"/>
                </a:rPr>
                <a:t>Scatter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48320" y="2473200"/>
              <a:ext cx="3352680" cy="1698840"/>
            </a:xfrm>
            <a:prstGeom prst="rect">
              <a:avLst/>
            </a:prstGeom>
            <a:noFill/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6FA-349D-4AB6-8F29-1F556791F903}" type="slidenum">
              <a:t>52</a:t>
            </a:fld>
          </a:p>
        </p:txBody>
      </p:sp>
    </p:spTree>
  </p:cSld>
  <p:transition spd="slow">
    <p:blinds dir="ver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General Arrangement of Subatomic Partic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DC0-E118-4433-AB61-92114E421AA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25600" y="685800"/>
            <a:ext cx="8091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’s experiment showed that an atom had a dense, positively charged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25600" y="243828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dwick’s work in 1932 demonstrated that the atom contains neu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also noted that light, negatively charged electrons were present in an atom and offset the positive nuclear char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BA5-CF68-46C8-93DD-E25FFFFD65CB}" type="slidenum">
              <a:t>54</a:t>
            </a:fld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20560" y="988920"/>
            <a:ext cx="777240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therford put forward a model of the atom in which a dense, positively charged nucleus is located at the atom’s center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20560" y="3276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egative electrons surround the nucle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ucleus contains protons and neu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2BD-E2DE-45AB-977D-5A78EA92C698}" type="slidenum">
              <a:t>55</a:t>
            </a:fld>
          </a:p>
        </p:txBody>
      </p:sp>
    </p:spTree>
  </p:cSld>
  <p:transition spd="slow"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5440" y="1800360"/>
            <a:ext cx="6691320" cy="325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E88-8328-421B-8521-934E8C862FC1}" type="slidenum">
              <a:t>56</a:t>
            </a:fld>
          </a:p>
        </p:txBody>
      </p:sp>
    </p:spTree>
  </p:cSld>
  <p:transition spd="slow"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Atomic Numbers</a:t>
            </a:r>
            <a:br>
              <a:rPr sz="6000"/>
            </a:br>
            <a:r>
              <a:rPr b="1" lang="en-US" sz="6000" spc="-1" strike="noStrike" u="sng">
                <a:solidFill>
                  <a:srgbClr val="3333cc"/>
                </a:solidFill>
                <a:uFillTx/>
                <a:latin typeface="Times New Roman"/>
              </a:rPr>
              <a:t>of the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5E8-93EB-445C-801B-23FA125F7C7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1854360"/>
            <a:ext cx="792468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atomic number of an element is equal to th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number o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prot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n the nucleus of that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2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The atomic number of an atom determines which element the atom 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26F-BFE0-488F-9C2E-A18D4842736D}" type="slidenum">
              <a:t>58</a:t>
            </a:fld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7120" y="25909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 contains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proton in its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FD0-3076-4C94-B904-C14784D7A488}" type="slidenum">
              <a:t>59</a:t>
            </a:fld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2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Dalton’s Model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the Ato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11D-1EDE-4C28-8264-AC7DA594D5E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52280" y="4095720"/>
            <a:ext cx="5403960" cy="2305080"/>
            <a:chOff x="152280" y="4095720"/>
            <a:chExt cx="5403960" cy="2305080"/>
          </a:xfrm>
        </p:grpSpPr>
        <p:sp>
          <p:nvSpPr>
            <p:cNvPr id="229" name=""/>
            <p:cNvSpPr/>
            <p:nvPr/>
          </p:nvSpPr>
          <p:spPr>
            <a:xfrm>
              <a:off x="3505320" y="539100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2520" y="4095720"/>
              <a:ext cx="1593720" cy="23050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4781520"/>
              <a:ext cx="3581640" cy="119124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 proton in the nucle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152800" y="200160"/>
            <a:ext cx="5333760" cy="3733560"/>
            <a:chOff x="2152800" y="200160"/>
            <a:chExt cx="5333760" cy="3733560"/>
          </a:xfrm>
        </p:grpSpPr>
        <p:sp>
          <p:nvSpPr>
            <p:cNvPr id="233" name=""/>
            <p:cNvSpPr/>
            <p:nvPr/>
          </p:nvSpPr>
          <p:spPr>
            <a:xfrm>
              <a:off x="2152800" y="200160"/>
              <a:ext cx="5333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ff"/>
                  </a:solidFill>
                  <a:latin typeface="Copperplate Gothic Bold"/>
                </a:rPr>
                <a:t>atomic numbe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10200" y="1876320"/>
              <a:ext cx="1218960" cy="2057400"/>
            </a:xfrm>
            <a:prstGeom prst="downArrow">
              <a:avLst>
                <a:gd name="adj1" fmla="val 50000"/>
                <a:gd name="adj2" fmla="val 4219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2558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hydroge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990720"/>
            <a:ext cx="5029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3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223-6FC0-42C3-8612-5BC3D537BB7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0000" y="25855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carbon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atom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 contains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6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protons in its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8E4-D1FF-433A-8416-D273F050F20F}" type="slidenum">
              <a:t>61</a:t>
            </a:fld>
          </a:p>
        </p:txBody>
      </p:sp>
    </p:spTree>
  </p:cSld>
  <p:transition spd="slow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66600" y="4095720"/>
            <a:ext cx="5403960" cy="2305080"/>
            <a:chOff x="66600" y="4095720"/>
            <a:chExt cx="5403960" cy="2305080"/>
          </a:xfrm>
        </p:grpSpPr>
        <p:sp>
          <p:nvSpPr>
            <p:cNvPr id="239" name=""/>
            <p:cNvSpPr/>
            <p:nvPr/>
          </p:nvSpPr>
          <p:spPr>
            <a:xfrm>
              <a:off x="3419640" y="539100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76840" y="4095720"/>
              <a:ext cx="1593720" cy="23050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600" y="4781520"/>
              <a:ext cx="3581640" cy="119124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6 protons in the nucle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809880" y="990720"/>
            <a:ext cx="5029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33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038320" y="200160"/>
            <a:ext cx="5333760" cy="3733560"/>
            <a:chOff x="2038320" y="200160"/>
            <a:chExt cx="5333760" cy="3733560"/>
          </a:xfrm>
        </p:grpSpPr>
        <p:sp>
          <p:nvSpPr>
            <p:cNvPr id="244" name=""/>
            <p:cNvSpPr/>
            <p:nvPr/>
          </p:nvSpPr>
          <p:spPr>
            <a:xfrm>
              <a:off x="2038320" y="200160"/>
              <a:ext cx="5333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ff"/>
                  </a:solidFill>
                  <a:latin typeface="Copperplate Gothic Bold"/>
                </a:rPr>
                <a:t>atomic numbe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95720" y="1876320"/>
              <a:ext cx="1218960" cy="2057400"/>
            </a:xfrm>
            <a:prstGeom prst="downArrow">
              <a:avLst>
                <a:gd name="adj1" fmla="val 50000"/>
                <a:gd name="adj2" fmla="val 4219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0" y="25588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carb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A04-D472-4BE1-93E9-878B8B6E84DF}" type="slidenum">
              <a:t>62</a:t>
            </a:fld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47520" y="4162320"/>
            <a:ext cx="6159600" cy="2305080"/>
            <a:chOff x="47520" y="4162320"/>
            <a:chExt cx="6159600" cy="2305080"/>
          </a:xfrm>
        </p:grpSpPr>
        <p:sp>
          <p:nvSpPr>
            <p:cNvPr id="248" name=""/>
            <p:cNvSpPr/>
            <p:nvPr/>
          </p:nvSpPr>
          <p:spPr>
            <a:xfrm>
              <a:off x="2638440" y="531504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9560" y="4162320"/>
              <a:ext cx="3157560" cy="23050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520" y="4430880"/>
              <a:ext cx="2819520" cy="173988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92 protons in the nucleu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971800" y="1066680"/>
            <a:ext cx="647712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2</a:t>
            </a:r>
            <a:r>
              <a:rPr b="0" lang="en-US" sz="336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38320" y="200160"/>
            <a:ext cx="5333760" cy="3733560"/>
            <a:chOff x="2038320" y="200160"/>
            <a:chExt cx="5333760" cy="3733560"/>
          </a:xfrm>
        </p:grpSpPr>
        <p:sp>
          <p:nvSpPr>
            <p:cNvPr id="253" name=""/>
            <p:cNvSpPr/>
            <p:nvPr/>
          </p:nvSpPr>
          <p:spPr>
            <a:xfrm>
              <a:off x="2038320" y="200160"/>
              <a:ext cx="5333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ff"/>
                  </a:solidFill>
                  <a:latin typeface="Copperplate Gothic Bold"/>
                </a:rPr>
                <a:t>atomic numbe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95720" y="1876320"/>
              <a:ext cx="1218960" cy="2057400"/>
            </a:xfrm>
            <a:prstGeom prst="downArrow">
              <a:avLst>
                <a:gd name="adj1" fmla="val 50000"/>
                <a:gd name="adj2" fmla="val 4219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0" y="1829160"/>
            <a:ext cx="39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Every atom with an atomic number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9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is a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uraniu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at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8AC-E367-4474-844E-AEC8E15ED1D7}" type="slidenum">
              <a:t>63</a:t>
            </a:fld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8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Isotopes</a:t>
            </a:r>
            <a:br>
              <a:rPr sz="72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C2A-3918-40A2-9F39-8EFAE620B96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1562040"/>
            <a:ext cx="7925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 of the same element have the same number of prot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 of the same element can have different masses, because they can have different numbers of neut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otop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ame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23A-E159-4796-AD9F-B3E40A068A5A}" type="slidenum">
              <a:t>65</a:t>
            </a:fld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otopes of the Same Element Ha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 Gothic Bold"/>
              </a:rPr>
              <a:t>Equal numbers of prot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pperplate Gothic Bold"/>
              </a:rPr>
              <a:t>Different numbers of neu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0492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2D8-8F15-476A-B757-0A7D33503F8C}" type="slidenum">
              <a:t>66</a:t>
            </a:fld>
          </a:p>
        </p:txBody>
      </p:sp>
    </p:spTree>
  </p:cSld>
  <p:transition spd="slow"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33280" y="178452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1440" y="369396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519880" y="2444760"/>
            <a:ext cx="3390840" cy="1973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rcRect l="0" t="18762" r="0" b="9367"/>
          <a:stretch/>
        </p:blipFill>
        <p:spPr>
          <a:xfrm>
            <a:off x="4005360" y="2470320"/>
            <a:ext cx="1571400" cy="1752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9A1A-3946-4572-8EA5-0A6B5254480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505480" y="237024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6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743280" y="2437560"/>
            <a:ext cx="1847880" cy="1697040"/>
            <a:chOff x="3743280" y="2437560"/>
            <a:chExt cx="1847880" cy="1697040"/>
          </a:xfrm>
        </p:grpSpPr>
        <p:sp>
          <p:nvSpPr>
            <p:cNvPr id="272" name=""/>
            <p:cNvSpPr/>
            <p:nvPr/>
          </p:nvSpPr>
          <p:spPr>
            <a:xfrm>
              <a:off x="4676760" y="2561760"/>
              <a:ext cx="914400" cy="14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5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8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76640" y="3156840"/>
              <a:ext cx="68580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3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800" spc="-1" strike="noStrike">
                  <a:solidFill>
                    <a:srgbClr val="ff3399"/>
                  </a:solidFill>
                  <a:latin typeface="Times New Roman"/>
                </a:rPr>
                <a:t>6</a:t>
              </a:r>
              <a:endParaRPr b="0" lang="en-US" sz="5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43280" y="2437560"/>
              <a:ext cx="103824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36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800" spc="-1" strike="noStrike">
                  <a:solidFill>
                    <a:srgbClr val="3399ff"/>
                  </a:solidFill>
                  <a:latin typeface="Times New Roman"/>
                </a:rPr>
                <a:t>12</a:t>
              </a:r>
              <a:endParaRPr b="0" lang="en-US" sz="5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019400" y="1981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6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D72-4FA1-4D7D-8DDF-8713DC41A5D4}" type="slidenum">
              <a:t>68</a:t>
            </a:fld>
          </a:p>
        </p:txBody>
      </p:sp>
    </p:spTree>
  </p:cSld>
  <p:transition spd="slow">
    <p:blinds dir="ver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505480" y="233208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76760" y="2561760"/>
            <a:ext cx="914400" cy="14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76640" y="3156840"/>
            <a:ext cx="68580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3399"/>
                </a:solidFill>
                <a:latin typeface="Times New Roman"/>
              </a:rPr>
              <a:t>6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6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43280" y="2437560"/>
            <a:ext cx="10382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3399ff"/>
                </a:solidFill>
                <a:latin typeface="Times New Roman"/>
              </a:rPr>
              <a:t>14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19400" y="1905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6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506-029C-4740-B7D1-53E9F8A0032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205000"/>
            <a:ext cx="74678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0 years after Aristotle, John Dalton, an English schoolmaster, proposed his model of the ato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which was based on experimen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2F2-2FA7-4582-B0D3-5594BDC0BA5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505480" y="233208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67280" y="3156840"/>
            <a:ext cx="68580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8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2437560"/>
            <a:ext cx="10382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3399ff"/>
                </a:solidFill>
                <a:latin typeface="Times New Roman"/>
              </a:rPr>
              <a:t>16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19400" y="1905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8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8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76760" y="2561760"/>
            <a:ext cx="914400" cy="14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F4F-3B0B-4048-A189-D84CAE4AE25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505480" y="233208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67280" y="3156840"/>
            <a:ext cx="68580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8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3920" y="2437560"/>
            <a:ext cx="10382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3399ff"/>
                </a:solidFill>
                <a:latin typeface="Times New Roman"/>
              </a:rPr>
              <a:t>17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19400" y="1905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8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9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76760" y="2561760"/>
            <a:ext cx="914400" cy="14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55B-F591-4C89-B4FA-292A801835F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52280" y="1181160"/>
            <a:ext cx="4199040" cy="1515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47680" y="3805200"/>
            <a:ext cx="3848040" cy="137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505480" y="2332080"/>
            <a:ext cx="3390840" cy="1973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topic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7280" y="3156840"/>
            <a:ext cx="68580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19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8 prot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33920" y="2437560"/>
            <a:ext cx="103824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3399ff"/>
                </a:solidFill>
                <a:latin typeface="Times New Roman"/>
              </a:rPr>
              <a:t>18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19400" y="1905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8 protons +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 neutr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76760" y="2561760"/>
            <a:ext cx="914400" cy="14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4E9-432D-49B3-936B-4FA0D1B05B9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-181080" y="1295280"/>
            <a:ext cx="9507600" cy="3382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98108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drogen has three isot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3080" y="510552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67160" y="510552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neu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510552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u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1FC-4BF3-4026-A273-8877131D09E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ctr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utr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4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198108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7962840" y="1943280"/>
          <a:ext cx="45720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62840" y="1943280"/>
                    <a:ext cx="457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7962840" y="2457360"/>
          <a:ext cx="519120" cy="53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62840" y="2457360"/>
                    <a:ext cx="5191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7553160" y="251460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7902720" y="3995640"/>
          <a:ext cx="731520" cy="5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02720" y="3995640"/>
                    <a:ext cx="731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7610400" y="304812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962840" y="2971800"/>
          <a:ext cx="488880" cy="53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62840" y="2971800"/>
                    <a:ext cx="488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448400" y="403848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7896240" y="4508640"/>
          <a:ext cx="731880" cy="53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96240" y="4508640"/>
                    <a:ext cx="731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7467480" y="480060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7824960" y="5533920"/>
          <a:ext cx="73152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24960" y="5533920"/>
                    <a:ext cx="7315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67480" y="563868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821720" y="6048360"/>
          <a:ext cx="731880" cy="53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21720" y="6048360"/>
                    <a:ext cx="7318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7467480" y="617220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010-5702-4540-8EDB-FA4C89E0E1E8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5.9</a:t>
            </a:r>
            <a:br>
              <a:rPr sz="4400"/>
            </a:br>
            <a:r>
              <a:rPr b="1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Atomic Ma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6F4-D218-45C4-AB17-7CEB7718F707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419040" y="213372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ss of a single atom is too small to measure on a bal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19040" y="35053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mass spectrometer, the mass of the hydrogen atom was determin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606-17E3-46DD-AA25-7FE83046D30C}" type="slidenum">
              <a:t>76</a:t>
            </a:fld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77880" y="631800"/>
            <a:ext cx="7788240" cy="40165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219320" y="2286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dern Mass Spectro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4876920"/>
            <a:ext cx="1905120" cy="119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mass spectrogram is recor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24160" y="4724280"/>
            <a:ext cx="4495680" cy="1922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rom the intensity and positions of the lines on the mass spectrogram, the different isotopes and their relative amounts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456240" y="3484440"/>
            <a:ext cx="2057400" cy="1284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280" y="1631880"/>
            <a:ext cx="2133720" cy="3172680"/>
            <a:chOff x="152280" y="1631880"/>
            <a:chExt cx="2133720" cy="3172680"/>
          </a:xfrm>
        </p:grpSpPr>
        <p:sp>
          <p:nvSpPr>
            <p:cNvPr id="349" name=""/>
            <p:cNvSpPr/>
            <p:nvPr/>
          </p:nvSpPr>
          <p:spPr>
            <a:xfrm flipV="1">
              <a:off x="762120" y="1631880"/>
              <a:ext cx="0" cy="2286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280" y="3613320"/>
              <a:ext cx="2133720" cy="1191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Positive ions formed from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905120" y="2514600"/>
            <a:ext cx="2133360" cy="3461760"/>
            <a:chOff x="1905120" y="2514600"/>
            <a:chExt cx="2133360" cy="3461760"/>
          </a:xfrm>
        </p:grpSpPr>
        <p:sp>
          <p:nvSpPr>
            <p:cNvPr id="352" name=""/>
            <p:cNvSpPr/>
            <p:nvPr/>
          </p:nvSpPr>
          <p:spPr>
            <a:xfrm flipV="1">
              <a:off x="2971800" y="2514600"/>
              <a:ext cx="0" cy="2286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05120" y="4419360"/>
              <a:ext cx="2133360" cy="1557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Electrical field at slits accelerates positive io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809880" y="4510080"/>
            <a:ext cx="2286000" cy="2152440"/>
            <a:chOff x="3809880" y="4510080"/>
            <a:chExt cx="2286000" cy="2152440"/>
          </a:xfrm>
        </p:grpSpPr>
        <p:sp>
          <p:nvSpPr>
            <p:cNvPr id="355" name=""/>
            <p:cNvSpPr/>
            <p:nvPr/>
          </p:nvSpPr>
          <p:spPr>
            <a:xfrm flipV="1">
              <a:off x="4941720" y="4510080"/>
              <a:ext cx="0" cy="1447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09880" y="5105520"/>
              <a:ext cx="2286000" cy="1557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flection of positive ions occurs at magnetic fiel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972-8CBA-4AA8-BF72-A982702EE1C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82640" y="457200"/>
            <a:ext cx="7578720" cy="4932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0" y="65530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54082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pical reading from a mass spectrometer.  The two principal isotopes of copper are shown with the abundance (%) gi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676-D06D-4438-B493-96768CB9428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a mass spectrometer, the mass of one hydrogen atom was determined to be 1.673 x 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C3C-8136-401F-8CB2-A3858AEE088A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4160" y="2666880"/>
            <a:ext cx="8051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of the same element are alike in mass and siz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of different elements have different masses and siz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cal compounds are formed by the union of two or atoms of different ele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2112840"/>
            <a:ext cx="6934320" cy="4304880"/>
            <a:chOff x="228600" y="2112840"/>
            <a:chExt cx="6934320" cy="4304880"/>
          </a:xfrm>
        </p:grpSpPr>
        <p:sp>
          <p:nvSpPr>
            <p:cNvPr id="68" name=""/>
            <p:cNvSpPr/>
            <p:nvPr/>
          </p:nvSpPr>
          <p:spPr>
            <a:xfrm>
              <a:off x="969840" y="2112840"/>
              <a:ext cx="2057400" cy="60984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28600" y="2728800"/>
              <a:ext cx="6934320" cy="3688920"/>
              <a:chOff x="228600" y="2728800"/>
              <a:chExt cx="6934320" cy="3688920"/>
            </a:xfrm>
          </p:grpSpPr>
          <p:sp>
            <p:nvSpPr>
              <p:cNvPr id="70" name=""/>
              <p:cNvSpPr/>
              <p:nvPr/>
            </p:nvSpPr>
            <p:spPr>
              <a:xfrm flipH="1" flipV="1">
                <a:off x="1952640" y="2728800"/>
                <a:ext cx="1238400" cy="211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8600" y="4861440"/>
                <a:ext cx="6934320" cy="155628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odern research has demonstrated that atoms are composed of subatomic particles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228600" y="2112840"/>
            <a:ext cx="6934320" cy="4061880"/>
            <a:chOff x="228600" y="2112840"/>
            <a:chExt cx="6934320" cy="4061880"/>
          </a:xfrm>
        </p:grpSpPr>
        <p:sp>
          <p:nvSpPr>
            <p:cNvPr id="73" name=""/>
            <p:cNvSpPr/>
            <p:nvPr/>
          </p:nvSpPr>
          <p:spPr>
            <a:xfrm>
              <a:off x="969840" y="2112840"/>
              <a:ext cx="2057400" cy="60984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228600" y="2728800"/>
              <a:ext cx="6934320" cy="3445920"/>
              <a:chOff x="228600" y="2728800"/>
              <a:chExt cx="6934320" cy="3445920"/>
            </a:xfrm>
          </p:grpSpPr>
          <p:sp>
            <p:nvSpPr>
              <p:cNvPr id="75" name=""/>
              <p:cNvSpPr/>
              <p:nvPr/>
            </p:nvSpPr>
            <p:spPr>
              <a:xfrm flipH="1" flipV="1">
                <a:off x="1952280" y="2728800"/>
                <a:ext cx="1400040" cy="237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28600" y="5105880"/>
                <a:ext cx="6934320" cy="106884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Atoms under special circumstances can be decomposed.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3800" y="15998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ments are composed of minute indivisible particles called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8D6-005D-4950-90E9-C9FD19B3B50B}" type="slidenum">
              <a:t>8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762120" y="152676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1755360"/>
            <a:ext cx="487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967760"/>
            <a:ext cx="487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218016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9320" y="237780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25758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27738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76520" y="297144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828800" y="315324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3361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351900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6000" y="370116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388404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4066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424872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441576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458280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475020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52680" y="4917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43480" y="5088960"/>
            <a:ext cx="48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609480"/>
            <a:ext cx="64008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number is very sma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4C3-4FAD-451B-99F7-C6AFCDB3A427}" type="slidenum">
              <a:t>80</a:t>
            </a:fld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6" dur="1" fill="hold">
                                    <p:stCondLst>
                                      <p:cond evt="end">
                                        <p:tn val="744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"/>
                            </p:stCondLst>
                            <p:childTnLst>
                              <p:par>
                                <p:cTn id="7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0" dur="1" fill="hold">
                                    <p:stCondLst>
                                      <p:cond evt="end">
                                        <p:tn val="748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600"/>
                            </p:stCondLst>
                            <p:childTnLst>
                              <p:par>
                                <p:cTn id="7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4" dur="1" fill="hold">
                                    <p:stCondLst>
                                      <p:cond evt="end">
                                        <p:tn val="752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900"/>
                            </p:stCondLst>
                            <p:childTnLst>
                              <p:par>
                                <p:cTn id="7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evt="end">
                                        <p:tn val="756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200"/>
                            </p:stCondLst>
                            <p:childTnLst>
                              <p:par>
                                <p:cTn id="7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2" dur="1" fill="hold">
                                    <p:stCondLst>
                                      <p:cond evt="end">
                                        <p:tn val="760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evt="end">
                                        <p:tn val="764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800"/>
                            </p:stCondLst>
                            <p:childTnLst>
                              <p:par>
                                <p:cTn id="7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0" dur="1" fill="hold">
                                    <p:stCondLst>
                                      <p:cond evt="end">
                                        <p:tn val="768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100"/>
                            </p:stCondLst>
                            <p:childTnLst>
                              <p:par>
                                <p:cTn id="7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4" dur="1" fill="hold">
                                    <p:stCondLst>
                                      <p:cond evt="end">
                                        <p:tn val="772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400"/>
                            </p:stCondLst>
                            <p:childTnLst>
                              <p:par>
                                <p:cTn id="7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8" dur="1" fill="hold">
                                    <p:stCondLst>
                                      <p:cond evt="end">
                                        <p:tn val="776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700"/>
                            </p:stCondLst>
                            <p:childTnLst>
                              <p:par>
                                <p:cTn id="7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2" dur="1" fill="hold">
                                    <p:stCondLst>
                                      <p:cond evt="end">
                                        <p:tn val="780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000"/>
                            </p:stCondLst>
                            <p:childTnLst>
                              <p:par>
                                <p:cTn id="7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evt="end">
                                        <p:tn val="784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3300"/>
                            </p:stCondLst>
                            <p:childTnLst>
                              <p:par>
                                <p:cTn id="7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0" dur="1" fill="hold">
                                    <p:stCondLst>
                                      <p:cond evt="end">
                                        <p:tn val="788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600"/>
                            </p:stCondLst>
                            <p:childTnLst>
                              <p:par>
                                <p:cTn id="7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4" dur="1" fill="hold">
                                    <p:stCondLst>
                                      <p:cond evt="end">
                                        <p:tn val="792"/>
                                      </p:cond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3900"/>
                            </p:stCondLst>
                            <p:childTnLst>
                              <p:par>
                                <p:cTn id="7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8" dur="1" fill="hold">
                                    <p:stCondLst>
                                      <p:cond evt="end">
                                        <p:tn val="796"/>
                                      </p:cond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200"/>
                            </p:stCondLst>
                            <p:childTnLst>
                              <p:par>
                                <p:cTn id="8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evt="end">
                                        <p:tn val="800"/>
                                      </p:cond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4500"/>
                            </p:stCondLst>
                            <p:childTnLst>
                              <p:par>
                                <p:cTn id="8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6" dur="1" fill="hold">
                                    <p:stCondLst>
                                      <p:cond evt="end">
                                        <p:tn val="804"/>
                                      </p:cond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800"/>
                            </p:stCondLst>
                            <p:childTnLst>
                              <p:par>
                                <p:cTn id="8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0" dur="1" fill="hold">
                                    <p:stCondLst>
                                      <p:cond evt="end">
                                        <p:tn val="808"/>
                                      </p:cond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100"/>
                            </p:stCondLst>
                            <p:childTnLst>
                              <p:par>
                                <p:cTn id="8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4" dur="1" fill="hold">
                                    <p:stCondLst>
                                      <p:cond evt="end">
                                        <p:tn val="812"/>
                                      </p:cond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400"/>
                            </p:stCondLst>
                            <p:childTnLst>
                              <p:par>
                                <p:cTn id="8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8" dur="1" fill="hold">
                                    <p:stCondLst>
                                      <p:cond evt="end">
                                        <p:tn val="816"/>
                                      </p:cond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700"/>
                            </p:stCondLst>
                            <p:childTnLst>
                              <p:par>
                                <p:cTn id="820" nodeType="afterEffect" fill="hold" presetClass="entr" presetID="1" repeatCount="1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umbers of this size are too small for practical u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324160"/>
            <a:ext cx="7772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overcome this problem, a system of relative atomic masses using “atomic mass units” was devised to express the masses of elements using simpl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0AD-1E27-4A10-B2D2-60F3FE98E1DC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2238480" y="2449440"/>
          <a:ext cx="466560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2449440"/>
                    <a:ext cx="46656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andard to which the masses of all other atoms are compared to was chosen to be the most abundant isotope of carb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73A-4FC5-430D-9D6A-B3F5FDC06D1E}" type="slidenum">
              <a:t>82</a:t>
            </a:fld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2238480" y="2133720"/>
          <a:ext cx="4665600" cy="44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2133720"/>
                    <a:ext cx="466560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800" y="22716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ass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xact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12 atomic mass units (amu) was assigne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372-CDB0-4E55-8058-FDFF73760C86}" type="slidenum">
              <a:t>83</a:t>
            </a:fld>
          </a:p>
        </p:txBody>
      </p:sp>
    </p:spTree>
  </p:cSld>
  <p:transition spd="slow">
    <p:blinds dir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amu is defined as exactly equal t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the mass of a carbon-12 a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7421400" y="28440"/>
          <a:ext cx="503280" cy="11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21400" y="28440"/>
                    <a:ext cx="50328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2238480" y="2128680"/>
          <a:ext cx="4665600" cy="44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8480" y="2128680"/>
                    <a:ext cx="46656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1066680" y="1675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Times New Roman"/>
              </a:rPr>
              <a:t>1 amu = 1.6606 x 10</a:t>
            </a:r>
            <a:r>
              <a:rPr b="0" lang="en-US" sz="3600" spc="-1" strike="noStrike" baseline="30000">
                <a:solidFill>
                  <a:srgbClr val="cc3399"/>
                </a:solidFill>
                <a:latin typeface="Times New Roman"/>
              </a:rPr>
              <a:t>-24 </a:t>
            </a:r>
            <a:r>
              <a:rPr b="0" lang="en-US" sz="3600" spc="-1" strike="noStrike">
                <a:solidFill>
                  <a:srgbClr val="cc3399"/>
                </a:solidFill>
                <a:latin typeface="Times New Roman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7BD-FF80-4F29-BE3D-9C54E6F8FF36}" type="slidenum">
              <a:t>84</a:t>
            </a:fld>
          </a:p>
        </p:txBody>
      </p:sp>
    </p:spTree>
  </p:cSld>
  <p:transition spd="slow">
    <p:blinds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"/>
          <p:cNvGraphicFramePr/>
          <p:nvPr/>
        </p:nvGraphicFramePr>
        <p:xfrm>
          <a:off x="3081240" y="2986200"/>
          <a:ext cx="298152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1240" y="2986200"/>
                    <a:ext cx="298152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1491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e atomic mass 1.00797 am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131-D96A-4A94-9B25-47F06BEF909E}" type="slidenum">
              <a:t>85</a:t>
            </a:fld>
          </a:p>
        </p:txBody>
      </p:sp>
    </p:spTree>
  </p:cSld>
  <p:transition spd="slow">
    <p:blinds dir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3146400" y="2986200"/>
          <a:ext cx="2851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6400" y="2986200"/>
                    <a:ext cx="2851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685800" y="11491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e atomic mass 39.098 am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BAA-FCCD-4654-B4C2-C1C8AA79C403}" type="slidenum">
              <a:t>86</a:t>
            </a:fld>
          </a:p>
        </p:txBody>
      </p:sp>
    </p:spTree>
  </p:cSld>
  <p:transition spd="slow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3146400" y="2922480"/>
          <a:ext cx="2851200" cy="28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6400" y="2922480"/>
                    <a:ext cx="28512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1491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erage atomic mass 248.029 am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D2D-B129-4467-B3E1-8EF5D4009D95}" type="slidenum">
              <a:t>87</a:t>
            </a:fld>
          </a:p>
        </p:txBody>
      </p:sp>
    </p:spTree>
  </p:cSld>
  <p:transition spd="slow">
    <p:blinds dir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Average Relative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Atomic Ma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F8F-0967-4D65-86A9-35FC3F3597C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elements occur as mixtures of isotop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topes of the same element have different ma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sted atomic mass of an element is the average relative mass of the isotopes of that element compared to the mass of carbon-12 (exactly 12.0000…amu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C56-06B5-402B-ABD5-3B4D4298216E}" type="slidenum">
              <a:t>89</a:t>
            </a:fld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0840" y="1600200"/>
            <a:ext cx="8659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combine to form compounds in simple numerical ratios, such as one to one , two to two, two to three, and so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1200" y="3429000"/>
            <a:ext cx="8610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just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oms of two elements may combine in different ratios to form more than on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BD0-6F0C-431D-BF20-19FE90ACC911}" type="slidenum">
              <a:t>9</a:t>
            </a:fld>
          </a:p>
        </p:txBody>
      </p:sp>
    </p:spTree>
  </p:cSld>
  <p:transition spd="slow"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52600" y="-360"/>
            <a:ext cx="8037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calculate the atomic mass, multiply the atomic mass of each isotope by its percent abundance and add the resul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00240" y="4789440"/>
            <a:ext cx="28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62.9998 am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095720" y="479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6909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08600" y="47912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3.48 a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00240" y="5492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64.9278 am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95720" y="549288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3091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08600" y="549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20.07 a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08600" y="6064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3.55 a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28600" y="1806480"/>
          <a:ext cx="8610480" cy="2666880"/>
        </p:xfrm>
        <a:graphic>
          <a:graphicData uri="http://schemas.openxmlformats.org/drawingml/2006/table">
            <a:tbl>
              <a:tblPr/>
              <a:tblGrid>
                <a:gridCol w="2152440"/>
                <a:gridCol w="2152800"/>
                <a:gridCol w="2152440"/>
                <a:gridCol w="2152800"/>
              </a:tblGrid>
              <a:tr h="1411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t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topic mass (am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undanc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rage atomic mass (am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2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9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2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92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3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1028880" y="3267000"/>
          <a:ext cx="73944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3267000"/>
                    <a:ext cx="739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1028880" y="3913200"/>
          <a:ext cx="73944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8880" y="3913200"/>
                    <a:ext cx="739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2" name=""/>
          <p:cNvGrpSpPr/>
          <p:nvPr/>
        </p:nvGrpSpPr>
        <p:grpSpPr>
          <a:xfrm>
            <a:off x="4114800" y="3260880"/>
            <a:ext cx="2057400" cy="2138040"/>
            <a:chOff x="4114800" y="3260880"/>
            <a:chExt cx="2057400" cy="2138040"/>
          </a:xfrm>
        </p:grpSpPr>
        <p:sp>
          <p:nvSpPr>
            <p:cNvPr id="423" name=""/>
            <p:cNvSpPr/>
            <p:nvPr/>
          </p:nvSpPr>
          <p:spPr>
            <a:xfrm>
              <a:off x="5029200" y="3260880"/>
              <a:ext cx="1143000" cy="533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800" y="4865760"/>
              <a:ext cx="1371600" cy="533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114800" y="3886200"/>
            <a:ext cx="2057400" cy="2198520"/>
            <a:chOff x="4114800" y="3886200"/>
            <a:chExt cx="2057400" cy="2198520"/>
          </a:xfrm>
        </p:grpSpPr>
        <p:sp>
          <p:nvSpPr>
            <p:cNvPr id="426" name=""/>
            <p:cNvSpPr/>
            <p:nvPr/>
          </p:nvSpPr>
          <p:spPr>
            <a:xfrm>
              <a:off x="5029200" y="3886200"/>
              <a:ext cx="1143000" cy="53352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4800" y="5551560"/>
              <a:ext cx="1371600" cy="5331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258920" y="3886200"/>
            <a:ext cx="2921040" cy="2198520"/>
            <a:chOff x="1258920" y="3886200"/>
            <a:chExt cx="2921040" cy="2198520"/>
          </a:xfrm>
        </p:grpSpPr>
        <p:sp>
          <p:nvSpPr>
            <p:cNvPr id="429" name=""/>
            <p:cNvSpPr/>
            <p:nvPr/>
          </p:nvSpPr>
          <p:spPr>
            <a:xfrm>
              <a:off x="2732040" y="3886200"/>
              <a:ext cx="1447920" cy="53352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58920" y="5551560"/>
              <a:ext cx="1730520" cy="5331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258920" y="3263760"/>
            <a:ext cx="2921040" cy="2135160"/>
            <a:chOff x="1258920" y="3263760"/>
            <a:chExt cx="2921040" cy="2135160"/>
          </a:xfrm>
        </p:grpSpPr>
        <p:sp>
          <p:nvSpPr>
            <p:cNvPr id="432" name=""/>
            <p:cNvSpPr/>
            <p:nvPr/>
          </p:nvSpPr>
          <p:spPr>
            <a:xfrm>
              <a:off x="2732040" y="3263760"/>
              <a:ext cx="1447920" cy="53352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58920" y="4865760"/>
              <a:ext cx="1730520" cy="53316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00E-3B59-4CDB-A88A-473B751789A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Relationship Between Mass Number and Atomic Numb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F75-062C-495E-9A4F-9CB7D6642657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3520" y="577800"/>
            <a:ext cx="7848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ss number minus the atomic number equals the number of neutrons in the nucle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630600" y="2833560"/>
          <a:ext cx="1882800" cy="10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0600" y="2833560"/>
                    <a:ext cx="188280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8" name=""/>
          <p:cNvGrpSpPr/>
          <p:nvPr/>
        </p:nvGrpSpPr>
        <p:grpSpPr>
          <a:xfrm>
            <a:off x="469800" y="4495680"/>
            <a:ext cx="8204400" cy="1192680"/>
            <a:chOff x="469800" y="4495680"/>
            <a:chExt cx="8204400" cy="1192680"/>
          </a:xfrm>
        </p:grpSpPr>
        <p:sp>
          <p:nvSpPr>
            <p:cNvPr id="439" name=""/>
            <p:cNvSpPr/>
            <p:nvPr/>
          </p:nvSpPr>
          <p:spPr>
            <a:xfrm>
              <a:off x="469800" y="4770360"/>
              <a:ext cx="26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ass numb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5280" y="4495680"/>
              <a:ext cx="163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tomic number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40480" y="4497120"/>
              <a:ext cx="213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number of neutr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181320" y="4770360"/>
              <a:ext cx="3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45240" y="4771800"/>
              <a:ext cx="32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7153200" y="5638680"/>
            <a:ext cx="9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359000" y="5638680"/>
            <a:ext cx="2146320" cy="642600"/>
            <a:chOff x="1359000" y="5638680"/>
            <a:chExt cx="2146320" cy="642600"/>
          </a:xfrm>
        </p:grpSpPr>
        <p:sp>
          <p:nvSpPr>
            <p:cNvPr id="446" name=""/>
            <p:cNvSpPr/>
            <p:nvPr/>
          </p:nvSpPr>
          <p:spPr>
            <a:xfrm>
              <a:off x="1359000" y="56386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Times New Roman"/>
                </a:rPr>
                <a:t>10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81320" y="5638680"/>
              <a:ext cx="3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129200" y="5638680"/>
            <a:ext cx="1938240" cy="642600"/>
            <a:chOff x="4129200" y="5638680"/>
            <a:chExt cx="1938240" cy="642600"/>
          </a:xfrm>
        </p:grpSpPr>
        <p:sp>
          <p:nvSpPr>
            <p:cNvPr id="449" name=""/>
            <p:cNvSpPr/>
            <p:nvPr/>
          </p:nvSpPr>
          <p:spPr>
            <a:xfrm>
              <a:off x="4129200" y="563868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43440" y="5638680"/>
              <a:ext cx="3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447920" y="2606760"/>
            <a:ext cx="2958840" cy="825480"/>
            <a:chOff x="1447920" y="2606760"/>
            <a:chExt cx="2958840" cy="825480"/>
          </a:xfrm>
        </p:grpSpPr>
        <p:sp>
          <p:nvSpPr>
            <p:cNvPr id="452" name=""/>
            <p:cNvSpPr/>
            <p:nvPr/>
          </p:nvSpPr>
          <p:spPr>
            <a:xfrm>
              <a:off x="1447920" y="260676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mass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22680" y="2854440"/>
              <a:ext cx="784080" cy="5587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3276720"/>
            <a:ext cx="2806560" cy="825480"/>
            <a:chOff x="1600200" y="3276720"/>
            <a:chExt cx="2806560" cy="825480"/>
          </a:xfrm>
        </p:grpSpPr>
        <p:sp>
          <p:nvSpPr>
            <p:cNvPr id="455" name=""/>
            <p:cNvSpPr/>
            <p:nvPr/>
          </p:nvSpPr>
          <p:spPr>
            <a:xfrm>
              <a:off x="1600200" y="327672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tomic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84600" y="3382920"/>
              <a:ext cx="722160" cy="558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CCD-DEC2-462B-A832-06B790E05F9A}" type="slidenum">
              <a:t>92</a:t>
            </a:fld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32D-73C1-4A02-A8DE-DB7B01CF648D}" type="slidenum">
              <a:t>93</a:t>
            </a:fld>
          </a:p>
        </p:txBody>
      </p:sp>
    </p:spTree>
  </p:cSld>
  <p:transition spd="slow">
    <p:blinds dir="vert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jyee</cp:lastModifiedBy>
  <dcterms:modified xsi:type="dcterms:W3CDTF">2006-11-01T16:19:07Z</dcterms:modified>
  <cp:revision>499</cp:revision>
  <dc:subject/>
  <dc:title>Hein and Arena</dc:title>
</cp:coreProperties>
</file>