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D502-BF04-4481-91AD-AA2B64418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A396-682E-48E6-AACC-B7883F014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6AF3-D9CA-45A0-9703-576F0AA6C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8FCA-256E-42AA-BA6B-DEE370DA4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993EC-2BE5-4A2A-9CC7-703898B34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8AEE2-0D69-4444-B654-2C209605F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B594D-F256-4747-B314-811FF6925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2186C-E748-4F43-AE16-1217070B8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3AA78-673D-49A8-A852-B013C40B6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997EA-F766-43E7-9B63-8D20038DC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F417A-61CA-440B-9F04-E528205D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6B92-6AE4-4E91-81EC-134095350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4DD7E-CCFD-4D32-A519-208B2061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4D844-FFFA-4164-84D1-51BAE766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4E246-BF76-4724-BD1B-8F6FC5979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E2491-2947-4255-8BC1-69ED1D2DF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77FAD-A463-43E6-AE67-8518D167E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6E3F-5BF2-42AC-A043-E1C351DD1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93AE-E087-47D7-992A-F2EC4E4A5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2731-8A78-4D6F-9879-4DC43D379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00F2-E08D-4861-A472-944865B7B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E30E-04AD-46D6-9C99-9D7DBF72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9B12-77F8-48E0-8460-17BC8791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52AF-B6A7-459D-95BC-03F588EF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D7540-7E19-4060-BA45-E697C8179E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0912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4360" y="1981080"/>
            <a:ext cx="777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5880" y="6248520"/>
            <a:ext cx="289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45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54465-7A45-4C1F-9CF8-E946C345A1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19.xml"/><Relationship Id="rId4" Type="http://schemas.openxmlformats.org/officeDocument/2006/relationships/slide" Target="slide19.xml"/><Relationship Id="rId5" Type="http://schemas.openxmlformats.org/officeDocument/2006/relationships/slide" Target="slide22.xml"/><Relationship Id="rId6" Type="http://schemas.openxmlformats.org/officeDocument/2006/relationships/slide" Target="slide33.xml"/><Relationship Id="rId7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8280" y="1143000"/>
            <a:ext cx="8001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n Introduction to Chemist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apter 1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819520" y="4952520"/>
            <a:ext cx="3657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in and Aren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781680" y="5866560"/>
            <a:ext cx="2362320" cy="824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ugene Passe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Chemistry Department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Bronx Community 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© John Wiley and Sons, I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6004080"/>
            <a:ext cx="1676520" cy="554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sion 2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3333cc"/>
                </a:solidFill>
                <a:uFillTx/>
                <a:latin typeface="Times New Roman"/>
              </a:rPr>
              <a:t>Definitio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120" y="487692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66ff"/>
                </a:solidFill>
                <a:uFillTx/>
                <a:latin typeface="Times New Roman"/>
              </a:rPr>
              <a:t>Law</a:t>
            </a:r>
            <a:r>
              <a:rPr b="1" lang="en-US" sz="3200" spc="-1" strike="noStrike">
                <a:solidFill>
                  <a:srgbClr val="3366ff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Stat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of natural phenomena to which no exceptions are known under the given conditions. A law is not an explan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7080" y="533520"/>
            <a:ext cx="441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66ff"/>
                </a:solidFill>
                <a:uFillTx/>
                <a:latin typeface="Times New Roman"/>
              </a:rPr>
              <a:t>Hypothesis</a:t>
            </a:r>
            <a:r>
              <a:rPr b="1" lang="en-US" sz="3200" spc="-1" strike="noStrike">
                <a:solidFill>
                  <a:srgbClr val="3366ff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A tentative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explan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of certain facts that provide a basis for further experiment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53352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66ff"/>
                </a:solidFill>
                <a:uFillTx/>
                <a:latin typeface="Times New Roman"/>
              </a:rPr>
              <a:t>Theory</a:t>
            </a:r>
            <a:r>
              <a:rPr b="1" lang="en-US" sz="3200" spc="-1" strike="noStrike">
                <a:solidFill>
                  <a:srgbClr val="3366ff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Well-established hypothesis.  An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explan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 general principles of certain phenomena with considerable evidence or facts to support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3333cc"/>
                </a:solidFill>
                <a:uFillTx/>
                <a:latin typeface="Times New Roman"/>
              </a:rPr>
              <a:t>Outlin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49440" y="736560"/>
            <a:ext cx="7843680" cy="53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3333cc"/>
                </a:solidFill>
                <a:uFillTx/>
                <a:latin typeface="Times New Roman"/>
              </a:rPr>
              <a:t>Step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76320" y="3156120"/>
            <a:ext cx="8991360" cy="27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9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Analyze the data to find trends (regularities)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 Formulate a hypothesis that will account for the data and that can be tested by further experiment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4520" y="914400"/>
            <a:ext cx="899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4560" indent="-57456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Collect facts or data that are relevant to the problem or question at hand. This is usually done by experiment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74520" y="3580920"/>
            <a:ext cx="8994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9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. Modify  the hypothesis to ensure compatibility with the experimental dat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4520" y="2057400"/>
            <a:ext cx="89949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4560" indent="-57456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. Plan and do additional experiments to test the hypothesi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387360" y="1222200"/>
          <a:ext cx="8367840" cy="553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7360" y="1222200"/>
                    <a:ext cx="8367840" cy="553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2533680" y="76320"/>
            <a:ext cx="4076640" cy="822240"/>
          </a:xfrm>
          <a:prstGeom prst="wedgeRoundRectCallout">
            <a:avLst>
              <a:gd name="adj1" fmla="val -31736"/>
              <a:gd name="adj2" fmla="val 33171"/>
              <a:gd name="adj3" fmla="val 16667"/>
            </a:avLst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EXPLAN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 rot="5400000">
            <a:off x="4315680" y="-630360"/>
            <a:ext cx="547560" cy="3695400"/>
          </a:xfrm>
          <a:custGeom>
            <a:avLst/>
            <a:gdLst>
              <a:gd name="textAreaLeft" fmla="*/ 349920 w 547560"/>
              <a:gd name="textAreaRight" fmla="*/ 547920 w 547560"/>
              <a:gd name="textAreaTop" fmla="*/ 96120 h 3695400"/>
              <a:gd name="textAreaBottom" fmla="*/ 3599280 h 3695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35"/>
                </a:lnTo>
                <a:cubicBezTo>
                  <a:pt x="10800" y="9835"/>
                  <a:pt x="5400" y="10735"/>
                  <a:pt x="0" y="10735"/>
                </a:cubicBezTo>
                <a:cubicBezTo>
                  <a:pt x="5400" y="10735"/>
                  <a:pt x="10800" y="11635"/>
                  <a:pt x="10800" y="1253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165240" y="1933560"/>
          <a:ext cx="8812080" cy="32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240" y="1933560"/>
                    <a:ext cx="8812080" cy="32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.6</a:t>
            </a:r>
            <a:br>
              <a:rPr sz="72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The Particulate Nature of Matter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rId1" action="ppaction://hlinksldjump"/>
          </p:cNvPr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hapter 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2120" y="1143000"/>
            <a:ext cx="7924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5760" y="1523880"/>
            <a:ext cx="40053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1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y Study Chemistr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2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Nature of Chemi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3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nking Like A Chem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1" action="ppaction://hlinksldjump"/>
              </a:rPr>
              <a:t>A Scientific Approach to_x000b_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2" action="ppaction://hlinksldjump"/>
              </a:rPr>
              <a:t>Problem Sol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5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Scientific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5760" y="2514600"/>
            <a:ext cx="430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1200" indent="-511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1523880"/>
            <a:ext cx="4419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3" action="ppaction://hlinksldjump"/>
              </a:rPr>
              <a:t>The Particulate Nature of _x000b_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4" action="ppaction://hlinksldjump"/>
              </a:rPr>
              <a:t>Ma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2514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5" action="ppaction://hlinksldjump"/>
              </a:rPr>
              <a:t>The Physical States of Ma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0" y="32004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6" action="ppaction://hlinksldjump"/>
              </a:rPr>
              <a:t>Classifying Ma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220760" y="2057040"/>
            <a:ext cx="77709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tter can be invisib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440" indent="-45720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 is matter, but it cannot be se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tter appears to be continuous and unbrok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440" indent="-45720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─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ter is actually discontinuous.  It is made  up of tiny particles c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tom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0760" y="7621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tter is anything that has mass and occupies spa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895480" y="380880"/>
            <a:ext cx="2778120" cy="34243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0" y="6553080"/>
            <a:ext cx="6094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4187880"/>
            <a:ext cx="8382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pparently empty test tube is submerged, mouth downward in water.  Only a small volume of water rises into the tube, which is actually filled with invisible mat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–a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.7</a:t>
            </a:r>
            <a:br>
              <a:rPr sz="44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Physical States</a:t>
            </a:r>
            <a:br>
              <a:rPr sz="72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of Matter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892080" y="905040"/>
            <a:ext cx="117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ha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05240" y="905040"/>
            <a:ext cx="601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e - does not change. It i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dependent of its contain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47720" y="2674800"/>
            <a:ext cx="149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Volu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05600" y="2674800"/>
            <a:ext cx="186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6520" y="3844800"/>
            <a:ext cx="15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P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499480" y="3844800"/>
            <a:ext cx="5950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5960" indent="-345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cles are close together. The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ng rigidly to each 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6600"/>
                </a:solidFill>
                <a:uFillTx/>
                <a:latin typeface="Times New Roman"/>
              </a:rPr>
              <a:t>SOLI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5240" y="5565600"/>
            <a:ext cx="278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Compressi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18240" y="5565600"/>
            <a:ext cx="518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5960" indent="-345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slight–less than liquid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ga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79200" y="2666880"/>
            <a:ext cx="8990640" cy="3504600"/>
            <a:chOff x="79200" y="2666880"/>
            <a:chExt cx="8990640" cy="3504600"/>
          </a:xfrm>
        </p:grpSpPr>
        <p:sp>
          <p:nvSpPr>
            <p:cNvPr id="173" name="_s66564"/>
            <p:cNvSpPr/>
            <p:nvPr/>
          </p:nvSpPr>
          <p:spPr>
            <a:xfrm>
              <a:off x="2500200" y="2666880"/>
              <a:ext cx="4149360" cy="6375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ol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4" name="_s66565"/>
            <p:cNvCxnSpPr>
              <a:stCxn id="175" idx="0"/>
              <a:endCxn id="176" idx="2"/>
            </p:cNvCxnSpPr>
            <p:nvPr/>
          </p:nvCxnSpPr>
          <p:spPr>
            <a:xfrm flipV="1">
              <a:off x="6995160" y="5216760"/>
              <a:ext cx="5040" cy="31932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77" name="_s66566"/>
            <p:cNvCxnSpPr>
              <a:stCxn id="178" idx="0"/>
              <a:endCxn id="179" idx="2"/>
            </p:cNvCxnSpPr>
            <p:nvPr/>
          </p:nvCxnSpPr>
          <p:spPr>
            <a:xfrm flipV="1">
              <a:off x="2153880" y="5216760"/>
              <a:ext cx="5040" cy="31932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80" name="_s66567"/>
            <p:cNvCxnSpPr>
              <a:stCxn id="176" idx="0"/>
              <a:endCxn id="181" idx="2"/>
            </p:cNvCxnSpPr>
            <p:nvPr/>
          </p:nvCxnSpPr>
          <p:spPr>
            <a:xfrm flipV="1">
              <a:off x="6995160" y="4260240"/>
              <a:ext cx="5040" cy="31932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82" name="_s66568"/>
            <p:cNvCxnSpPr>
              <a:stCxn id="179" idx="0"/>
              <a:endCxn id="183" idx="2"/>
            </p:cNvCxnSpPr>
            <p:nvPr/>
          </p:nvCxnSpPr>
          <p:spPr>
            <a:xfrm flipV="1">
              <a:off x="2153880" y="4260240"/>
              <a:ext cx="5040" cy="31932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84" name="_s66569"/>
            <p:cNvCxnSpPr>
              <a:stCxn id="181" idx="0"/>
              <a:endCxn id="173" idx="2"/>
            </p:cNvCxnSpPr>
            <p:nvPr/>
          </p:nvCxnSpPr>
          <p:spPr>
            <a:xfrm flipV="1" rot="16200000">
              <a:off x="5625360" y="2252880"/>
              <a:ext cx="319320" cy="2420640"/>
            </a:xfrm>
            <a:prstGeom prst="bentConnector3">
              <a:avLst>
                <a:gd name="adj1" fmla="val 35778"/>
              </a:avLst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85" name="_s66570"/>
            <p:cNvCxnSpPr>
              <a:stCxn id="183" idx="0"/>
              <a:endCxn id="173" idx="2"/>
            </p:cNvCxnSpPr>
            <p:nvPr/>
          </p:nvCxnSpPr>
          <p:spPr>
            <a:xfrm flipH="1" flipV="1" rot="5400000">
              <a:off x="3204720" y="2252520"/>
              <a:ext cx="319320" cy="2421720"/>
            </a:xfrm>
            <a:prstGeom prst="bentConnector3">
              <a:avLst>
                <a:gd name="adj1" fmla="val 35778"/>
              </a:avLst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183" name="_s66571"/>
            <p:cNvSpPr/>
            <p:nvPr/>
          </p:nvSpPr>
          <p:spPr>
            <a:xfrm>
              <a:off x="79200" y="3623040"/>
              <a:ext cx="4149360" cy="637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morphous Sol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_s66572"/>
            <p:cNvSpPr/>
            <p:nvPr/>
          </p:nvSpPr>
          <p:spPr>
            <a:xfrm>
              <a:off x="4920480" y="3623040"/>
              <a:ext cx="4149360" cy="637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rystalline Sol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_s66573"/>
            <p:cNvSpPr/>
            <p:nvPr/>
          </p:nvSpPr>
          <p:spPr>
            <a:xfrm>
              <a:off x="79200" y="4579560"/>
              <a:ext cx="4149360" cy="63756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articles lack a regul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al arrang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_s66574"/>
            <p:cNvSpPr/>
            <p:nvPr/>
          </p:nvSpPr>
          <p:spPr>
            <a:xfrm>
              <a:off x="4920480" y="4579560"/>
              <a:ext cx="4149360" cy="63756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articles exist in regular, repeating three-dimensional geometric pattern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_s66575"/>
            <p:cNvSpPr/>
            <p:nvPr/>
          </p:nvSpPr>
          <p:spPr>
            <a:xfrm>
              <a:off x="79200" y="5536080"/>
              <a:ext cx="4149360" cy="6354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lass, plastics, ge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_s66576"/>
            <p:cNvSpPr/>
            <p:nvPr/>
          </p:nvSpPr>
          <p:spPr>
            <a:xfrm>
              <a:off x="4920480" y="5536080"/>
              <a:ext cx="4149360" cy="6354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iamond, metals, sa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0" y="638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olid can be eithe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rystalli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amorpho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Which one it is depends on the internal arrangement of the particles that constitute the sol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646200" y="3009960"/>
            <a:ext cx="7850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morphou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without shape or for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>
            <a:hlinkClick r:id="" action="ppaction://hlinkshowjump?jump=previousslide"/>
          </p:cNvPr>
          <p:cNvSpPr/>
          <p:nvPr/>
        </p:nvSpPr>
        <p:spPr>
          <a:xfrm>
            <a:off x="7927920" y="5410080"/>
            <a:ext cx="757440" cy="758880"/>
          </a:xfrm>
          <a:custGeom>
            <a:avLst/>
            <a:gdLst>
              <a:gd name="textAreaLeft" fmla="*/ 48960 w 757440"/>
              <a:gd name="textAreaRight" fmla="*/ 708480 w 757440"/>
              <a:gd name="textAreaTop" fmla="*/ 48960 h 758880"/>
              <a:gd name="textAreaBottom" fmla="*/ 709920 h 758880"/>
            </a:gdLst>
            <a:ahLst/>
            <a:rect l="textAreaLeft" t="textAreaTop" r="textAreaRight" b="textAreaBottom"/>
            <a:pathLst>
              <a:path w="21600" h="21641">
                <a:moveTo>
                  <a:pt x="0" y="0"/>
                </a:moveTo>
                <a:lnTo>
                  <a:pt x="21600" y="0"/>
                </a:lnTo>
                <a:lnTo>
                  <a:pt x="21600" y="21641"/>
                </a:lnTo>
                <a:lnTo>
                  <a:pt x="0" y="21641"/>
                </a:lnTo>
                <a:close/>
              </a:path>
              <a:path fill="lightenLess" w="21600" h="216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1">
                <a:moveTo>
                  <a:pt x="21600" y="0"/>
                </a:moveTo>
                <a:lnTo>
                  <a:pt x="21600" y="21641"/>
                </a:lnTo>
                <a:lnTo>
                  <a:pt x="20200" y="20241"/>
                </a:lnTo>
                <a:lnTo>
                  <a:pt x="20200" y="1400"/>
                </a:lnTo>
                <a:close/>
              </a:path>
              <a:path fill="darkenLess" w="21600" h="21641">
                <a:moveTo>
                  <a:pt x="21600" y="21641"/>
                </a:moveTo>
                <a:lnTo>
                  <a:pt x="0" y="21641"/>
                </a:lnTo>
                <a:lnTo>
                  <a:pt x="1400" y="20241"/>
                </a:lnTo>
                <a:lnTo>
                  <a:pt x="20200" y="20241"/>
                </a:lnTo>
                <a:close/>
              </a:path>
              <a:path fill="lighten" w="21600" h="21641">
                <a:moveTo>
                  <a:pt x="0" y="216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1"/>
                </a:lnTo>
                <a:close/>
              </a:path>
              <a:path fill="darken" w="21600" h="21641">
                <a:moveTo>
                  <a:pt x="3794" y="10821"/>
                </a:moveTo>
                <a:lnTo>
                  <a:pt x="17806" y="3814"/>
                </a:lnTo>
                <a:lnTo>
                  <a:pt x="17806" y="17827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858960" y="861840"/>
            <a:ext cx="1112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cc"/>
                </a:solidFill>
                <a:latin typeface="Times New Roman"/>
              </a:rPr>
              <a:t>Shap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505240" y="838080"/>
            <a:ext cx="60195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ot definite - assumes the shape of its containe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4000" y="2035080"/>
            <a:ext cx="140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cc"/>
                </a:solidFill>
                <a:latin typeface="Times New Roman"/>
              </a:rPr>
              <a:t>Volum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08120" y="2035080"/>
            <a:ext cx="175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efini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04280" y="2690640"/>
            <a:ext cx="148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cc"/>
                </a:solidFill>
                <a:latin typeface="Times New Roman"/>
              </a:rPr>
              <a:t>Particl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505240" y="2666880"/>
            <a:ext cx="618156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articles are close togethe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articles are held together by strong attractive forces.  They stick firmly but not rigidly to each othe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y can move freely throughout the volume of the liqui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6600"/>
                </a:solidFill>
                <a:uFillTx/>
                <a:latin typeface="Times New Roman"/>
              </a:rPr>
              <a:t>LIQUI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1720" y="5715000"/>
            <a:ext cx="261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cc"/>
                </a:solidFill>
                <a:latin typeface="Times New Roman"/>
              </a:rPr>
              <a:t>Compressibil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28680" y="5715000"/>
            <a:ext cx="53060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5960" indent="-345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Very slight–greater than solids,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ss than gase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6600"/>
                </a:solidFill>
                <a:uFillTx/>
                <a:latin typeface="Times New Roman"/>
              </a:rPr>
              <a:t>GA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57160" y="1600200"/>
            <a:ext cx="117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ha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503440" y="16002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fixed shap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80" y="2770200"/>
            <a:ext cx="149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Volu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02720" y="2770200"/>
            <a:ext cx="221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fini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1440" y="3871800"/>
            <a:ext cx="15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P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03440" y="3871800"/>
            <a:ext cx="6488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cles are far apart compared to liquids and soli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cles move independently of each 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6600"/>
                </a:solidFill>
                <a:uFillTx/>
                <a:latin typeface="Times New Roman"/>
              </a:rPr>
              <a:t>GA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080" y="1981080"/>
            <a:ext cx="278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Compressi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18040" y="1981080"/>
            <a:ext cx="57927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ctual volume of the gas particles is small compared to the volume of space occupied by the g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of this a gas can be compressed into a very small volume or expanded almost indefinit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2504880" y="1874520"/>
            <a:ext cx="663876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ractive forces are strongest in a sol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give a solid rigid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6600"/>
                </a:solidFill>
                <a:uFillTx/>
                <a:latin typeface="Times New Roman"/>
              </a:rPr>
              <a:t>ATTRACTIVE FOR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57520" y="1874880"/>
            <a:ext cx="104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ol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31800" y="3581280"/>
            <a:ext cx="126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Liqu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05240" y="3581280"/>
            <a:ext cx="656244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ractive forces are weaker in liquids than in soli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are sufficiently strong so that a liquid has a definite volu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is a Scienc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observation, identification, description, experimental investigation, and theoretical explanation of natural phenomen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6600"/>
                </a:solidFill>
                <a:uFillTx/>
                <a:latin typeface="Times New Roman"/>
              </a:rPr>
              <a:t>ATTRACTIVE FOR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60400" y="1946160"/>
            <a:ext cx="8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438280" y="1946160"/>
            <a:ext cx="6400800" cy="43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ractive forces in a gas are extremely wea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cles in the gaseous state have enough energy to overcome the weak attractive forces that hold them together in liquids or soli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of this the gas particles move almost independently of each o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4400" y="11160"/>
            <a:ext cx="9113760" cy="683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4400" y="11160"/>
            <a:ext cx="9113760" cy="683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.8</a:t>
            </a:r>
            <a:br>
              <a:rPr sz="44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Classifying Matter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>
            <a:hlinkClick r:id="rId1" action="ppaction://hlinksldjump"/>
          </p:cNvPr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tter refers to all of the materials that make up the univers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54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66ff"/>
                </a:solidFill>
                <a:uFillTx/>
                <a:latin typeface="Times New Roman"/>
              </a:rPr>
              <a:t>Subst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074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particular kind of matter that has a fixed composition and distinct propertie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4360" y="3946680"/>
            <a:ext cx="7775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990099"/>
                </a:solidFill>
                <a:uFillTx/>
                <a:latin typeface="Times New Roman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33520" y="4952880"/>
            <a:ext cx="8074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mmonia, water, and oxyg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000"/>
                            </p:stCondLst>
                            <p:childTnLst>
                              <p:par>
                                <p:cTn id="4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54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66ff"/>
                </a:solidFill>
                <a:uFillTx/>
                <a:latin typeface="Times New Roman"/>
              </a:rPr>
              <a:t>Homogeneous Mat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59960" y="1599840"/>
            <a:ext cx="76215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tter that is uniform in appearance and with uniform properties throughou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4360" y="3946680"/>
            <a:ext cx="7775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990099"/>
                </a:solidFill>
                <a:uFillTx/>
                <a:latin typeface="Times New Roman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407960" y="4952880"/>
            <a:ext cx="6326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ce, soda,  pure go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54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66ff"/>
                </a:solidFill>
                <a:uFillTx/>
                <a:latin typeface="Times New Roman"/>
              </a:rPr>
              <a:t>Heterogeneous Mat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59960" y="1599840"/>
            <a:ext cx="76215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tter with two or more physically distinct phases prese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4360" y="3946680"/>
            <a:ext cx="7775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990099"/>
                </a:solidFill>
                <a:uFillTx/>
                <a:latin typeface="Times New Roman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407960" y="4952880"/>
            <a:ext cx="6326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ce and water, wood, blo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0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743200" y="1015920"/>
            <a:ext cx="3657600" cy="1905120"/>
          </a:xfrm>
          <a:prstGeom prst="rect">
            <a:avLst/>
          </a:prstGeom>
          <a:solidFill>
            <a:srgbClr val="00cc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781360" y="1473120"/>
            <a:ext cx="3581280" cy="99072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mogeneo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743200" y="3936960"/>
            <a:ext cx="3657600" cy="1905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781360" y="4394160"/>
            <a:ext cx="3581280" cy="990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terogeneo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54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66ff"/>
                </a:solidFill>
                <a:uFillTx/>
                <a:latin typeface="Times New Roman"/>
              </a:rPr>
              <a:t>Ph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921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homogenous part of a system separated from other parts by physical boundari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4360" y="3946680"/>
            <a:ext cx="7775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990099"/>
                </a:solidFill>
                <a:uFillTx/>
                <a:latin typeface="Times New Roman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9480" y="4952880"/>
            <a:ext cx="79218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an ice water mixture, ice is the solid phase and water is the liquid phas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000"/>
                            </p:stCondLst>
                            <p:childTnLst>
                              <p:par>
                                <p:cTn id="4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914560" y="1828800"/>
            <a:ext cx="3505320" cy="3505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Natural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henomen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476280" y="4665600"/>
            <a:ext cx="3809880" cy="2087280"/>
            <a:chOff x="476280" y="4665600"/>
            <a:chExt cx="3809880" cy="2087280"/>
          </a:xfrm>
        </p:grpSpPr>
        <p:sp>
          <p:nvSpPr>
            <p:cNvPr id="97" name=""/>
            <p:cNvSpPr/>
            <p:nvPr/>
          </p:nvSpPr>
          <p:spPr>
            <a:xfrm flipV="1">
              <a:off x="2685960" y="4665600"/>
              <a:ext cx="99000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76280" y="5318280"/>
              <a:ext cx="3809880" cy="14346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experimentally investigate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4971960" y="4665600"/>
            <a:ext cx="3809880" cy="2117520"/>
            <a:chOff x="4971960" y="4665600"/>
            <a:chExt cx="3809880" cy="2117520"/>
          </a:xfrm>
        </p:grpSpPr>
        <p:sp>
          <p:nvSpPr>
            <p:cNvPr id="100" name=""/>
            <p:cNvSpPr/>
            <p:nvPr/>
          </p:nvSpPr>
          <p:spPr>
            <a:xfrm flipH="1" flipV="1">
              <a:off x="5276520" y="4665600"/>
              <a:ext cx="99072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71960" y="5348520"/>
              <a:ext cx="3809880" cy="14346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theoretically</a:t>
              </a:r>
              <a:br>
                <a:rPr sz="4400"/>
              </a:b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explai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2800440" y="151200"/>
            <a:ext cx="3695400" cy="2273040"/>
            <a:chOff x="2800440" y="151200"/>
            <a:chExt cx="3695400" cy="2273040"/>
          </a:xfrm>
        </p:grpSpPr>
        <p:sp>
          <p:nvSpPr>
            <p:cNvPr id="103" name=""/>
            <p:cNvSpPr/>
            <p:nvPr/>
          </p:nvSpPr>
          <p:spPr>
            <a:xfrm>
              <a:off x="4648320" y="747720"/>
              <a:ext cx="0" cy="1676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00440" y="151200"/>
              <a:ext cx="3695400" cy="764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observe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5276880" y="994320"/>
            <a:ext cx="3771720" cy="1461600"/>
            <a:chOff x="5276880" y="994320"/>
            <a:chExt cx="3771720" cy="1461600"/>
          </a:xfrm>
        </p:grpSpPr>
        <p:sp>
          <p:nvSpPr>
            <p:cNvPr id="106" name=""/>
            <p:cNvSpPr/>
            <p:nvPr/>
          </p:nvSpPr>
          <p:spPr>
            <a:xfrm flipH="1">
              <a:off x="5276880" y="1541520"/>
              <a:ext cx="99072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353200" y="994320"/>
              <a:ext cx="3695400" cy="76428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describe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95400" y="1098720"/>
            <a:ext cx="3774960" cy="1357200"/>
            <a:chOff x="95400" y="1098720"/>
            <a:chExt cx="3774960" cy="1357200"/>
          </a:xfrm>
        </p:grpSpPr>
        <p:sp>
          <p:nvSpPr>
            <p:cNvPr id="109" name=""/>
            <p:cNvSpPr/>
            <p:nvPr/>
          </p:nvSpPr>
          <p:spPr>
            <a:xfrm>
              <a:off x="2685960" y="1541520"/>
              <a:ext cx="99072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5400" y="1098720"/>
              <a:ext cx="3774960" cy="77148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identify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54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66ff"/>
                </a:solidFill>
                <a:uFillTx/>
                <a:latin typeface="Times New Roman"/>
              </a:rPr>
              <a:t>Mix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75000"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tter containing 2 or more substances that are present in variable amounts. Mixtures are variable in composition.  They can be homogeneous or heterogeneous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4360" y="456840"/>
            <a:ext cx="7775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66ff"/>
                </a:solidFill>
                <a:uFillTx/>
                <a:latin typeface="Times New Roman"/>
              </a:rPr>
              <a:t>Homogeneous Mixture (Solutio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79246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homogeneous mixture of 2 or more substances. It has one phas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4360" y="3079800"/>
            <a:ext cx="7775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990099"/>
                </a:solidFill>
                <a:uFillTx/>
                <a:latin typeface="Times New Roman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33520" y="3886200"/>
            <a:ext cx="799776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gar and water.  Before the sugar and water are mixed, each is a separate phase.  After mixing the sugar is evenly dispersed throughout the volume of the wate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000"/>
                            </p:stCondLst>
                            <p:childTnLst>
                              <p:par>
                                <p:cTn id="5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1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684360" y="2362320"/>
            <a:ext cx="7775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990099"/>
                </a:solidFill>
                <a:uFillTx/>
                <a:latin typeface="Times New Roman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33520" y="3368520"/>
            <a:ext cx="799776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gar and fine white sand. The amount of sugar relative to sand can be varied.  The sugar and sand each retain their own properties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84360" y="304920"/>
            <a:ext cx="7775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66ff"/>
                </a:solidFill>
                <a:uFillTx/>
                <a:latin typeface="Times New Roman"/>
              </a:rPr>
              <a:t>Heterogeneous Mix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" y="915840"/>
            <a:ext cx="82263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heterogeneous  mixture consists of 2 or more phas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0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000"/>
                            </p:stCondLst>
                            <p:childTnLst>
                              <p:par>
                                <p:cTn id="5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429000" y="1219320"/>
            <a:ext cx="228600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990099"/>
                </a:solidFill>
                <a:uFillTx/>
                <a:latin typeface="Times New Roman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43080" y="1981080"/>
            <a:ext cx="84582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ron (II) sulfide (FeS) is 63.5% Fe and 36.5% S by m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ing iron and sulfur in these proportions does not form iron (II) sulfide. Two phases are present: a sulfur phase and an iron phas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mixture is heated strongly a chemical reaction occurs and iron (II) sulfide is form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S is a compound of iron and sulfur and has none of the properties of iron or sulfu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4360" y="-76320"/>
            <a:ext cx="7775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66ff"/>
                </a:solidFill>
                <a:uFillTx/>
                <a:latin typeface="Times New Roman"/>
              </a:rPr>
              <a:t>Heterogeneous Mix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" y="534960"/>
            <a:ext cx="822636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heterogeneous  mixture consists of 2 or more pha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10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10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10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10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10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10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884320" y="1600200"/>
            <a:ext cx="5268960" cy="3657600"/>
          </a:xfrm>
          <a:prstGeom prst="rect">
            <a:avLst/>
          </a:prstGeom>
          <a:solidFill>
            <a:srgbClr val="99cc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04920" y="2057400"/>
            <a:ext cx="7315200" cy="3162240"/>
            <a:chOff x="304920" y="2057400"/>
            <a:chExt cx="7315200" cy="3162240"/>
          </a:xfrm>
        </p:grpSpPr>
        <p:sp>
          <p:nvSpPr>
            <p:cNvPr id="257" name=""/>
            <p:cNvSpPr/>
            <p:nvPr/>
          </p:nvSpPr>
          <p:spPr>
            <a:xfrm>
              <a:off x="304920" y="4038480"/>
              <a:ext cx="2057400" cy="457200"/>
            </a:xfrm>
            <a:prstGeom prst="rect">
              <a:avLst/>
            </a:prstGeom>
            <a:noFill/>
            <a:ln w="28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olid phas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3112920" y="2057400"/>
              <a:ext cx="4507200" cy="3162240"/>
              <a:chOff x="3112920" y="2057400"/>
              <a:chExt cx="4507200" cy="3162240"/>
            </a:xfrm>
          </p:grpSpPr>
          <p:sp>
            <p:nvSpPr>
              <p:cNvPr id="259" name=""/>
              <p:cNvSpPr/>
              <p:nvPr/>
            </p:nvSpPr>
            <p:spPr>
              <a:xfrm>
                <a:off x="3112920" y="4381560"/>
                <a:ext cx="838440" cy="838080"/>
              </a:xfrm>
              <a:prstGeom prst="ellipse">
                <a:avLst/>
              </a:prstGeom>
              <a:noFill/>
              <a:ln w="2844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781680" y="3009960"/>
                <a:ext cx="838440" cy="838080"/>
              </a:xfrm>
              <a:prstGeom prst="ellipse">
                <a:avLst/>
              </a:prstGeom>
              <a:noFill/>
              <a:ln w="2844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798720" y="2057400"/>
                <a:ext cx="838440" cy="838080"/>
              </a:xfrm>
              <a:prstGeom prst="ellipse">
                <a:avLst/>
              </a:prstGeom>
              <a:noFill/>
              <a:ln w="2844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856120" y="4235400"/>
                <a:ext cx="838440" cy="838080"/>
              </a:xfrm>
              <a:prstGeom prst="ellipse">
                <a:avLst/>
              </a:prstGeom>
              <a:noFill/>
              <a:ln w="2844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3" name=""/>
          <p:cNvGrpSpPr/>
          <p:nvPr/>
        </p:nvGrpSpPr>
        <p:grpSpPr>
          <a:xfrm>
            <a:off x="3303720" y="2247840"/>
            <a:ext cx="4125960" cy="2781360"/>
            <a:chOff x="3303720" y="2247840"/>
            <a:chExt cx="4125960" cy="2781360"/>
          </a:xfrm>
        </p:grpSpPr>
        <p:sp>
          <p:nvSpPr>
            <p:cNvPr id="264" name=""/>
            <p:cNvSpPr/>
            <p:nvPr/>
          </p:nvSpPr>
          <p:spPr>
            <a:xfrm>
              <a:off x="3303720" y="4572000"/>
              <a:ext cx="457200" cy="4572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972480" y="3200400"/>
              <a:ext cx="457200" cy="4572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046920" y="4425840"/>
              <a:ext cx="457200" cy="4572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989520" y="2247840"/>
              <a:ext cx="457200" cy="4572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3357720" y="1969920"/>
            <a:ext cx="4157640" cy="2922840"/>
            <a:chOff x="3357720" y="1969920"/>
            <a:chExt cx="4157640" cy="2922840"/>
          </a:xfrm>
        </p:grpSpPr>
        <p:sp>
          <p:nvSpPr>
            <p:cNvPr id="269" name=""/>
            <p:cNvSpPr/>
            <p:nvPr/>
          </p:nvSpPr>
          <p:spPr>
            <a:xfrm>
              <a:off x="5033880" y="2046240"/>
              <a:ext cx="347760" cy="554040"/>
            </a:xfrm>
            <a:prstGeom prst="rtTriangl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357720" y="2960640"/>
              <a:ext cx="347400" cy="554040"/>
            </a:xfrm>
            <a:prstGeom prst="rtTriangl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00720" y="4179960"/>
              <a:ext cx="347400" cy="554040"/>
            </a:xfrm>
            <a:prstGeom prst="rtTriangl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643720" y="3265560"/>
              <a:ext cx="347400" cy="554040"/>
            </a:xfrm>
            <a:prstGeom prst="rtTriangl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167600" y="1969920"/>
              <a:ext cx="347760" cy="554040"/>
            </a:xfrm>
            <a:prstGeom prst="rtTriangl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167600" y="4338720"/>
              <a:ext cx="347760" cy="554040"/>
            </a:xfrm>
            <a:prstGeom prst="rtTriangl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4491000" y="32004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quid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04920" y="1828800"/>
            <a:ext cx="7456320" cy="3206880"/>
            <a:chOff x="304920" y="1828800"/>
            <a:chExt cx="7456320" cy="3206880"/>
          </a:xfrm>
        </p:grpSpPr>
        <p:sp>
          <p:nvSpPr>
            <p:cNvPr id="277" name=""/>
            <p:cNvSpPr/>
            <p:nvPr/>
          </p:nvSpPr>
          <p:spPr>
            <a:xfrm>
              <a:off x="304920" y="2362320"/>
              <a:ext cx="2057400" cy="457200"/>
            </a:xfrm>
            <a:prstGeom prst="rect">
              <a:avLst/>
            </a:prstGeom>
            <a:noFill/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olid phas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3112920" y="1828800"/>
              <a:ext cx="4648320" cy="3206880"/>
              <a:chOff x="3112920" y="1828800"/>
              <a:chExt cx="4648320" cy="3206880"/>
            </a:xfrm>
          </p:grpSpPr>
          <p:sp>
            <p:nvSpPr>
              <p:cNvPr id="279" name=""/>
              <p:cNvSpPr/>
              <p:nvPr/>
            </p:nvSpPr>
            <p:spPr>
              <a:xfrm>
                <a:off x="5398920" y="3124080"/>
                <a:ext cx="838440" cy="838440"/>
              </a:xfrm>
              <a:prstGeom prst="ellipse">
                <a:avLst/>
              </a:prstGeom>
              <a:noFill/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112920" y="2819520"/>
                <a:ext cx="838440" cy="838080"/>
              </a:xfrm>
              <a:prstGeom prst="ellipse">
                <a:avLst/>
              </a:prstGeom>
              <a:noFill/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255920" y="4038480"/>
                <a:ext cx="838440" cy="838440"/>
              </a:xfrm>
              <a:prstGeom prst="ellipse">
                <a:avLst/>
              </a:prstGeom>
              <a:noFill/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923160" y="1828800"/>
                <a:ext cx="838080" cy="838080"/>
              </a:xfrm>
              <a:prstGeom prst="ellipse">
                <a:avLst/>
              </a:prstGeom>
              <a:noFill/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789440" y="1905120"/>
                <a:ext cx="838080" cy="838080"/>
              </a:xfrm>
              <a:prstGeom prst="ellipse">
                <a:avLst/>
              </a:prstGeom>
              <a:noFill/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923160" y="4197240"/>
                <a:ext cx="838080" cy="838440"/>
              </a:xfrm>
              <a:prstGeom prst="ellipse">
                <a:avLst/>
              </a:prstGeom>
              <a:noFill/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5" name=""/>
          <p:cNvSpPr/>
          <p:nvPr/>
        </p:nvSpPr>
        <p:spPr>
          <a:xfrm>
            <a:off x="2284560" y="212760"/>
            <a:ext cx="647856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66ff"/>
                </a:solidFill>
                <a:uFillTx/>
                <a:latin typeface="New York"/>
              </a:rPr>
              <a:t>Heterogeneous Mix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"/>
          <p:cNvGraphicFramePr/>
          <p:nvPr/>
        </p:nvGraphicFramePr>
        <p:xfrm>
          <a:off x="228600" y="609480"/>
          <a:ext cx="8686800" cy="5670720"/>
        </p:xfrm>
        <a:graphic>
          <a:graphicData uri="http://schemas.openxmlformats.org/drawingml/2006/table">
            <a:tbl>
              <a:tblPr/>
              <a:tblGrid>
                <a:gridCol w="2863800"/>
                <a:gridCol w="2955960"/>
                <a:gridCol w="2867040"/>
              </a:tblGrid>
              <a:tr h="111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xture of iron and sulf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ound of iron and sulf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151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mul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s no definite formula: consists of Fe and 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15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os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ains Fe and S in any proportion by mas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.5% Fe and 36.5% S by mas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151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par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 and S can be separated by physical mean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 and S can be separated only by chemical chang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87" name=""/>
          <p:cNvSpPr/>
          <p:nvPr/>
        </p:nvSpPr>
        <p:spPr>
          <a:xfrm flipH="1">
            <a:off x="9372240" y="2895480"/>
            <a:ext cx="152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5016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66ff"/>
                </a:solidFill>
                <a:uFillTx/>
                <a:latin typeface="Times New Roman"/>
              </a:rPr>
              <a:t>Heterogeneous Mixture </a:t>
            </a:r>
            <a:br>
              <a:rPr sz="4000"/>
            </a:br>
            <a:r>
              <a:rPr b="1" lang="en-US" sz="4000" spc="-1" strike="noStrike" u="sng">
                <a:solidFill>
                  <a:srgbClr val="3366ff"/>
                </a:solidFill>
                <a:uFillTx/>
                <a:latin typeface="Times New Roman"/>
              </a:rPr>
              <a:t>of One Subst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pure substance can exist as different phases in a heterogeneous system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4360" y="3276720"/>
            <a:ext cx="7775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990099"/>
                </a:solidFill>
                <a:uFillTx/>
                <a:latin typeface="Times New Roman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33520" y="4282920"/>
            <a:ext cx="799776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ce floating in water consists of two phases and one substance.  Ice is one phase, and water is the other phase.  The substance in both cases is the same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1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1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4360" y="547200"/>
            <a:ext cx="7775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66ff"/>
                </a:solidFill>
                <a:uFillTx/>
                <a:latin typeface="Times New Roman"/>
              </a:rPr>
              <a:t>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59960" y="1294920"/>
            <a:ext cx="7621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body of matter under consideration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4360" y="3170160"/>
            <a:ext cx="7775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990099"/>
                </a:solidFill>
                <a:uFillTx/>
                <a:latin typeface="Times New Roman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09480" y="4114800"/>
            <a:ext cx="7921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an ice water mixture, ice is the solid phase and water is the liquid phase.  The system is the ice and water togeth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1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1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316080" y="353880"/>
            <a:ext cx="8510400" cy="344340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0880" y="4154400"/>
            <a:ext cx="8382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ification of matter:  A pure substance is always homogeneous in composition, whereas a mixture always contains two or more substances and may be either homogeneous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o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1855800" y="2570040"/>
            <a:ext cx="5432400" cy="172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he End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blinds dir="vert"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hemis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496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cience of the composition, structure, properties and reactions of matter, especially of atomic and molecular system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819520" y="1676520"/>
            <a:ext cx="3504960" cy="3504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att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33520" y="761040"/>
            <a:ext cx="3238560" cy="1753560"/>
            <a:chOff x="533520" y="761040"/>
            <a:chExt cx="3238560" cy="1753560"/>
          </a:xfrm>
        </p:grpSpPr>
        <p:sp>
          <p:nvSpPr>
            <p:cNvPr id="115" name=""/>
            <p:cNvSpPr/>
            <p:nvPr/>
          </p:nvSpPr>
          <p:spPr>
            <a:xfrm>
              <a:off x="2438280" y="1447920"/>
              <a:ext cx="1143000" cy="10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3520" y="761040"/>
              <a:ext cx="3238560" cy="76428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compositio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5370480" y="761040"/>
            <a:ext cx="3240000" cy="1753560"/>
            <a:chOff x="5370480" y="761040"/>
            <a:chExt cx="3240000" cy="1753560"/>
          </a:xfrm>
        </p:grpSpPr>
        <p:sp>
          <p:nvSpPr>
            <p:cNvPr id="118" name=""/>
            <p:cNvSpPr/>
            <p:nvPr/>
          </p:nvSpPr>
          <p:spPr>
            <a:xfrm flipH="1">
              <a:off x="5486040" y="1447920"/>
              <a:ext cx="1143000" cy="10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370480" y="761040"/>
              <a:ext cx="3240000" cy="76428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structure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80880" y="4495680"/>
            <a:ext cx="3278160" cy="1611000"/>
            <a:chOff x="380880" y="4495680"/>
            <a:chExt cx="3278160" cy="1611000"/>
          </a:xfrm>
        </p:grpSpPr>
        <p:sp>
          <p:nvSpPr>
            <p:cNvPr id="121" name=""/>
            <p:cNvSpPr/>
            <p:nvPr/>
          </p:nvSpPr>
          <p:spPr>
            <a:xfrm flipV="1">
              <a:off x="2438280" y="4495680"/>
              <a:ext cx="1143000" cy="106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0880" y="5342400"/>
              <a:ext cx="3278160" cy="7642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properties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5486040" y="4495680"/>
            <a:ext cx="3277080" cy="1611000"/>
            <a:chOff x="5486040" y="4495680"/>
            <a:chExt cx="3277080" cy="1611000"/>
          </a:xfrm>
        </p:grpSpPr>
        <p:sp>
          <p:nvSpPr>
            <p:cNvPr id="124" name=""/>
            <p:cNvSpPr/>
            <p:nvPr/>
          </p:nvSpPr>
          <p:spPr>
            <a:xfrm flipH="1" flipV="1">
              <a:off x="5486040" y="4495680"/>
              <a:ext cx="1143000" cy="106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526000" y="5342400"/>
              <a:ext cx="3237120" cy="7642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reactions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.4</a:t>
            </a:r>
            <a:br>
              <a:rPr sz="4400"/>
            </a:br>
            <a:r>
              <a:rPr b="1" lang="en-US" sz="5400" spc="-1" strike="noStrike" u="sng">
                <a:solidFill>
                  <a:srgbClr val="cc3399"/>
                </a:solidFill>
                <a:uFillTx/>
                <a:latin typeface="Times New Roman"/>
              </a:rPr>
              <a:t>A Scientific Approach to Problem Solv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rId1" action="ppaction://hlinksldjump"/>
          </p:cNvPr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 Solv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144792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the problem by recognizing it and stating it clearl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95280" y="243828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science this is called an </a:t>
            </a:r>
            <a:r>
              <a:rPr b="0" i="1" lang="en-US" sz="3200" spc="-1" strike="noStrike">
                <a:solidFill>
                  <a:srgbClr val="3366ff"/>
                </a:solidFill>
                <a:latin typeface="Times New Roman"/>
              </a:rPr>
              <a:t>observ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342900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Propose solutions to the proble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95280" y="39625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science this is called a </a:t>
            </a:r>
            <a:r>
              <a:rPr b="0" i="1" lang="en-US" sz="3200" spc="-1" strike="noStrike">
                <a:solidFill>
                  <a:srgbClr val="3366ff"/>
                </a:solidFill>
                <a:latin typeface="Times New Roman"/>
              </a:rPr>
              <a:t>hypothes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495144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Decide the best way to solve the proble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95280" y="54864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science we perform an </a:t>
            </a:r>
            <a:r>
              <a:rPr b="0" i="1" lang="en-US" sz="3200" spc="-1" strike="noStrike">
                <a:solidFill>
                  <a:srgbClr val="3366ff"/>
                </a:solidFill>
                <a:latin typeface="Times New Roman"/>
              </a:rPr>
              <a:t>experi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.5</a:t>
            </a:r>
            <a:br>
              <a:rPr sz="4400"/>
            </a:br>
            <a:r>
              <a:rPr b="1" lang="en-US" sz="6600" spc="-1" strike="noStrike" u="sng">
                <a:solidFill>
                  <a:srgbClr val="cc3399"/>
                </a:solidFill>
                <a:uFillTx/>
                <a:latin typeface="Times New Roman"/>
              </a:rPr>
              <a:t>The Scientific Metho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rId1" action="ppaction://hlinksldjump"/>
          </p:cNvPr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1T16:54:34Z</dcterms:created>
  <dc:creator>Eugene Passer</dc:creator>
  <dc:description/>
  <dc:language>en-US</dc:language>
  <cp:lastModifiedBy>jyee</cp:lastModifiedBy>
  <dcterms:modified xsi:type="dcterms:W3CDTF">2006-10-27T17:03:52Z</dcterms:modified>
  <cp:revision>44</cp:revision>
  <dc:subject/>
  <dc:title>Hein and Arena</dc:title>
</cp:coreProperties>
</file>