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01A-42C9-44A1-8126-C535C508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F1C-482B-41FE-9000-6763F58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7D5-9241-44A1-ABD9-9271474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FFA-2534-41F4-BDFA-4239614C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BB67-9E71-47E8-8DC3-DD2C1EAA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1C72-552A-426E-91C4-5B9652B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A03B-1CC7-4140-824C-19889B6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3B25-83B4-4ED3-9917-9B54FC9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3D6B-06EA-44C5-892E-81917355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F0AB-D502-418D-836B-5D83997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54DA-5C58-4255-9B1D-89D525B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5AF-55BF-4098-A068-5C58F20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F94-2704-4506-8125-C687DA8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727-A7F2-4537-8CD6-2A566B3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F1BA-FE83-49AD-9BAD-E988B75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3401-AE64-4B8F-89B8-4D158552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AEB-F833-4AFD-8BC6-9C563AD4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F9B-6CC5-4F2F-856F-79871E0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85A-AFC1-4159-A2D2-4C02FCB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798-19C7-458F-B17F-AB4627B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98F-BE80-4982-AA25-5283B9C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8EE-7F0D-4B66-B09C-6C91990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2E5-5D13-4101-BF19-487051B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C3C-1F38-4A98-9635-84CA9A01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75C-EE80-4953-A84F-7BAD90166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5880" y="6248520"/>
            <a:ext cx="289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2E81-F8F8-48F8-B216-D887B353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2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 Introduction to Chemist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Defini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20" y="4876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f natural phenomena to which no exceptions are known under the given conditions. A law is not an expla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80" y="5335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Hypothesis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tentativ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f certain facts that provide a basis for further experi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533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Theory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ll-established hypothesis. 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general principles of certain phenomena with considerable evidence or facts to suppor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Ste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320" y="3156120"/>
            <a:ext cx="8991360" cy="27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Analyze the data to find trends (regularitie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ormulate a hypothesis that will account for the data and that can be tested by further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520" y="914400"/>
            <a:ext cx="899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ollect facts or data that are relevant to the problem or question at hand. This is usually done by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4520" y="3580920"/>
            <a:ext cx="899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Modify  the hypothesis to ensure compatibility with the experimental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520" y="2057400"/>
            <a:ext cx="8994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Plan and do additional experiments to test the hypo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6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Particulate Nature 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143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5760" y="1523880"/>
            <a:ext cx="40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y Study Chemi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ing Like A Chem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 Scientific Approach to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760" y="2514600"/>
            <a:ext cx="430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5238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The Particulate Nature of 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The Physical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200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20760" y="2057040"/>
            <a:ext cx="7770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can be in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matter, but it cannot be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appears to be continuous and unbro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is actually discontinuous.  It is made  up of tiny particles c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076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is anything that has mass and occupies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2778120" cy="342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55308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187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arently empty test tube is submerged, mouth downward in water.  Only a small volume of water rises into the tube, which is actually filled with invisible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hysical Stat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92080" y="9050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5240" y="90504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- does not change.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pendent of its contai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7720" y="267480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5600" y="2674800"/>
            <a:ext cx="18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520" y="38448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99480" y="3844800"/>
            <a:ext cx="59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are close together.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g rigidly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SOL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0" y="556560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8240" y="5565600"/>
            <a:ext cx="51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light–less than liqui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g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79200" y="2666880"/>
            <a:ext cx="8990640" cy="3504600"/>
            <a:chOff x="79200" y="2666880"/>
            <a:chExt cx="8990640" cy="3504600"/>
          </a:xfrm>
        </p:grpSpPr>
        <p:sp>
          <p:nvSpPr>
            <p:cNvPr id="173" name="_s66564"/>
            <p:cNvSpPr/>
            <p:nvPr/>
          </p:nvSpPr>
          <p:spPr>
            <a:xfrm>
              <a:off x="2500200" y="266688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_s66565"/>
            <p:cNvCxnSpPr>
              <a:stCxn id="175" idx="0"/>
              <a:endCxn id="176" idx="2"/>
            </p:cNvCxnSpPr>
            <p:nvPr/>
          </p:nvCxnSpPr>
          <p:spPr>
            <a:xfrm flipV="1">
              <a:off x="6995160" y="521676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_s66566"/>
            <p:cNvCxnSpPr>
              <a:stCxn id="178" idx="0"/>
              <a:endCxn id="179" idx="2"/>
            </p:cNvCxnSpPr>
            <p:nvPr/>
          </p:nvCxnSpPr>
          <p:spPr>
            <a:xfrm flipV="1">
              <a:off x="2153880" y="521676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0" name="_s66567"/>
            <p:cNvCxnSpPr>
              <a:stCxn id="176" idx="0"/>
              <a:endCxn id="181" idx="2"/>
            </p:cNvCxnSpPr>
            <p:nvPr/>
          </p:nvCxnSpPr>
          <p:spPr>
            <a:xfrm flipV="1">
              <a:off x="6995160" y="426024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2" name="_s66568"/>
            <p:cNvCxnSpPr>
              <a:stCxn id="179" idx="0"/>
              <a:endCxn id="183" idx="2"/>
            </p:cNvCxnSpPr>
            <p:nvPr/>
          </p:nvCxnSpPr>
          <p:spPr>
            <a:xfrm flipV="1">
              <a:off x="2153880" y="426024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4" name="_s66569"/>
            <p:cNvCxnSpPr>
              <a:stCxn id="181" idx="0"/>
              <a:endCxn id="173" idx="2"/>
            </p:cNvCxnSpPr>
            <p:nvPr/>
          </p:nvCxnSpPr>
          <p:spPr>
            <a:xfrm flipV="1" rot="16200000">
              <a:off x="5625360" y="2252880"/>
              <a:ext cx="319320" cy="2420640"/>
            </a:xfrm>
            <a:prstGeom prst="bentConnector3">
              <a:avLst>
                <a:gd name="adj1" fmla="val 35778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5" name="_s66570"/>
            <p:cNvCxnSpPr>
              <a:stCxn id="183" idx="0"/>
              <a:endCxn id="173" idx="2"/>
            </p:cNvCxnSpPr>
            <p:nvPr/>
          </p:nvCxnSpPr>
          <p:spPr>
            <a:xfrm flipH="1" flipV="1" rot="5400000">
              <a:off x="3204720" y="2252520"/>
              <a:ext cx="319320" cy="2421720"/>
            </a:xfrm>
            <a:prstGeom prst="bentConnector3">
              <a:avLst>
                <a:gd name="adj1" fmla="val 35778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83" name="_s66571"/>
            <p:cNvSpPr/>
            <p:nvPr/>
          </p:nvSpPr>
          <p:spPr>
            <a:xfrm>
              <a:off x="79200" y="362304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orphous 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66572"/>
            <p:cNvSpPr/>
            <p:nvPr/>
          </p:nvSpPr>
          <p:spPr>
            <a:xfrm>
              <a:off x="4920480" y="362304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ystalline 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66573"/>
            <p:cNvSpPr/>
            <p:nvPr/>
          </p:nvSpPr>
          <p:spPr>
            <a:xfrm>
              <a:off x="79200" y="457956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ticles lack a 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al arran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66574"/>
            <p:cNvSpPr/>
            <p:nvPr/>
          </p:nvSpPr>
          <p:spPr>
            <a:xfrm>
              <a:off x="4920480" y="457956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ticles exist in regular, repeating three-dimensional geometric patter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66575"/>
            <p:cNvSpPr/>
            <p:nvPr/>
          </p:nvSpPr>
          <p:spPr>
            <a:xfrm>
              <a:off x="79200" y="5536080"/>
              <a:ext cx="4149360" cy="63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lass, plastics, 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66576"/>
            <p:cNvSpPr/>
            <p:nvPr/>
          </p:nvSpPr>
          <p:spPr>
            <a:xfrm>
              <a:off x="4920480" y="5536080"/>
              <a:ext cx="4149360" cy="63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amond, metals, sa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6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id can be eith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morph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hich one it is depends on the internal arrangement of the particles that constitute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46200" y="3009960"/>
            <a:ext cx="78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orph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ithout shape o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927920" y="5410080"/>
            <a:ext cx="757440" cy="75888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  <a:path fill="darken" w="21600" h="21641">
                <a:moveTo>
                  <a:pt x="3794" y="10821"/>
                </a:moveTo>
                <a:lnTo>
                  <a:pt x="17806" y="3814"/>
                </a:lnTo>
                <a:lnTo>
                  <a:pt x="17806" y="1782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58960" y="86184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5240" y="838080"/>
            <a:ext cx="6019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t definite - assumes the shape of its contain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4000" y="203508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2035080"/>
            <a:ext cx="175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4280" y="2690640"/>
            <a:ext cx="148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5240" y="2666880"/>
            <a:ext cx="6181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cles are close toge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cles are held together by strong attractive forces.  They stick firmly but not rigidly to each 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y can move freely throughout the volume of the liqui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0" y="5715000"/>
            <a:ext cx="26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8680" y="5715000"/>
            <a:ext cx="530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ry slight–greater than solid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ss than ga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7160" y="16002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3440" y="1600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80" y="277020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2720" y="2770200"/>
            <a:ext cx="22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1440" y="38718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3440" y="3871800"/>
            <a:ext cx="648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are far apart compared to liquids and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move independently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080" y="198108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18040" y="1981080"/>
            <a:ext cx="5792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volume of the gas particles is small compared to the volume of space occupied by the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 a gas can be compressed into a very small volume or expanded almost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4880" y="1874520"/>
            <a:ext cx="66387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are strongest in a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ive a solid rigid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ATTRAC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7520" y="18748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800" y="35812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5240" y="3581280"/>
            <a:ext cx="6562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are weaker in liquids than in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sufficiently strong so that a liquid has a definite volu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Scie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rvation, identification, description, experimental investigation, and theoretical explanation of natural phenome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ATTRAC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400" y="19461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946160"/>
            <a:ext cx="64008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in a gas are extremely w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in the gaseous state have enough energy to overcome the weak attractive forces that hold them together in liquids or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 the gas particles move almost independently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lassifying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refers to all of the materials that make up the univer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4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rticular kind of matter that has a fixed composition and distinct properti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952880"/>
            <a:ext cx="807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monia, water,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omogeneous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9960" y="1599840"/>
            <a:ext cx="762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that is uniform in appearance and with uniform properties through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960" y="4952880"/>
            <a:ext cx="63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, soda,  pure g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9960" y="1599840"/>
            <a:ext cx="762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with two or more physically distinct phas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7960" y="4952880"/>
            <a:ext cx="63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 and water, wood,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743200" y="1015920"/>
            <a:ext cx="3657600" cy="1905120"/>
          </a:xfrm>
          <a:prstGeom prst="rect">
            <a:avLst/>
          </a:prstGeom>
          <a:solidFill>
            <a:srgbClr val="00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1360" y="1473120"/>
            <a:ext cx="3581280" cy="990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ogene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3936960"/>
            <a:ext cx="365760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1360" y="4394160"/>
            <a:ext cx="358128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2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omogenous part of a system separated from other parts by physical bounda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952880"/>
            <a:ext cx="7921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ice water mixture, ice is the solid phase and water is the liquid 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14560" y="1828800"/>
            <a:ext cx="3505320" cy="350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ur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enom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76280" y="4665600"/>
            <a:ext cx="3809880" cy="2087280"/>
            <a:chOff x="476280" y="4665600"/>
            <a:chExt cx="3809880" cy="2087280"/>
          </a:xfrm>
        </p:grpSpPr>
        <p:sp>
          <p:nvSpPr>
            <p:cNvPr id="97" name=""/>
            <p:cNvSpPr/>
            <p:nvPr/>
          </p:nvSpPr>
          <p:spPr>
            <a:xfrm flipV="1">
              <a:off x="2685960" y="4665600"/>
              <a:ext cx="9900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318280"/>
              <a:ext cx="3809880" cy="143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perimentally investigat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71960" y="4665600"/>
            <a:ext cx="3809880" cy="2117520"/>
            <a:chOff x="4971960" y="4665600"/>
            <a:chExt cx="3809880" cy="2117520"/>
          </a:xfrm>
        </p:grpSpPr>
        <p:sp>
          <p:nvSpPr>
            <p:cNvPr id="100" name=""/>
            <p:cNvSpPr/>
            <p:nvPr/>
          </p:nvSpPr>
          <p:spPr>
            <a:xfrm flipH="1" flipV="1">
              <a:off x="5276520" y="466560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1960" y="5348520"/>
              <a:ext cx="3809880" cy="143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heoretically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plai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00440" y="151200"/>
            <a:ext cx="3695400" cy="2273040"/>
            <a:chOff x="2800440" y="151200"/>
            <a:chExt cx="3695400" cy="2273040"/>
          </a:xfrm>
        </p:grpSpPr>
        <p:sp>
          <p:nvSpPr>
            <p:cNvPr id="103" name=""/>
            <p:cNvSpPr/>
            <p:nvPr/>
          </p:nvSpPr>
          <p:spPr>
            <a:xfrm>
              <a:off x="4648320" y="7477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00440" y="151200"/>
              <a:ext cx="369540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obser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76880" y="994320"/>
            <a:ext cx="3771720" cy="1461600"/>
            <a:chOff x="5276880" y="994320"/>
            <a:chExt cx="3771720" cy="1461600"/>
          </a:xfrm>
        </p:grpSpPr>
        <p:sp>
          <p:nvSpPr>
            <p:cNvPr id="106" name=""/>
            <p:cNvSpPr/>
            <p:nvPr/>
          </p:nvSpPr>
          <p:spPr>
            <a:xfrm flipH="1">
              <a:off x="5276880" y="154152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53200" y="994320"/>
              <a:ext cx="3695400" cy="764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escrib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5400" y="1098720"/>
            <a:ext cx="3774960" cy="1357200"/>
            <a:chOff x="95400" y="1098720"/>
            <a:chExt cx="3774960" cy="1357200"/>
          </a:xfrm>
        </p:grpSpPr>
        <p:sp>
          <p:nvSpPr>
            <p:cNvPr id="109" name=""/>
            <p:cNvSpPr/>
            <p:nvPr/>
          </p:nvSpPr>
          <p:spPr>
            <a:xfrm>
              <a:off x="2685960" y="154152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5400" y="1098720"/>
              <a:ext cx="3774960" cy="7714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identif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containing 2 or more substances that are present in variable amounts. Mixtures are variable in composition.  They can be homogeneous or heterogeneou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omogeneous Mixture (Solu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omogeneous mixture of 2 or more substances. It has one 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307980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88620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ar and water.  Before the sugar and water are mixed, each is a separate phase.  After mixing the sugar is evenly dispersed throughout the volume of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4360" y="236232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36852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ar and fine white sand. The amount of sugar relative to sand can be varied.  The sugar and sand each retain their own propertie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304920"/>
            <a:ext cx="777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15840"/>
            <a:ext cx="82263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eterogeneous  mixture consists of 2 or more p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29000" y="1219320"/>
            <a:ext cx="2286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308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 (II) sulfide (FeS) is 63.5% Fe and 36.5% S by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 iron and sulfur in these proportions does not form iron (II) sulfide. Two phases are present: a sulfur phase and an iron ph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mixture is heated strongly a chemical reaction occurs and iron (II) sulfide i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 is a compound of iron and sulfur and has none of the properties of iron or sulf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-76320"/>
            <a:ext cx="777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34960"/>
            <a:ext cx="82263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terogeneous  mixture consists of 2 or more ph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84320" y="1600200"/>
            <a:ext cx="5268960" cy="365760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04920" y="2057400"/>
            <a:ext cx="7315200" cy="3162240"/>
            <a:chOff x="304920" y="2057400"/>
            <a:chExt cx="7315200" cy="3162240"/>
          </a:xfrm>
        </p:grpSpPr>
        <p:sp>
          <p:nvSpPr>
            <p:cNvPr id="257" name=""/>
            <p:cNvSpPr/>
            <p:nvPr/>
          </p:nvSpPr>
          <p:spPr>
            <a:xfrm>
              <a:off x="304920" y="4038480"/>
              <a:ext cx="2057400" cy="45720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 pha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112920" y="2057400"/>
              <a:ext cx="4507200" cy="3162240"/>
              <a:chOff x="3112920" y="2057400"/>
              <a:chExt cx="4507200" cy="3162240"/>
            </a:xfrm>
          </p:grpSpPr>
          <p:sp>
            <p:nvSpPr>
              <p:cNvPr id="259" name=""/>
              <p:cNvSpPr/>
              <p:nvPr/>
            </p:nvSpPr>
            <p:spPr>
              <a:xfrm>
                <a:off x="3112920" y="438156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81680" y="300996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8720" y="205740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56120" y="423540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303720" y="2247840"/>
            <a:ext cx="4125960" cy="2781360"/>
            <a:chOff x="3303720" y="2247840"/>
            <a:chExt cx="4125960" cy="2781360"/>
          </a:xfrm>
        </p:grpSpPr>
        <p:sp>
          <p:nvSpPr>
            <p:cNvPr id="264" name=""/>
            <p:cNvSpPr/>
            <p:nvPr/>
          </p:nvSpPr>
          <p:spPr>
            <a:xfrm>
              <a:off x="3303720" y="457200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72480" y="320040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46920" y="442584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89520" y="224784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57720" y="1969920"/>
            <a:ext cx="4157640" cy="2922840"/>
            <a:chOff x="3357720" y="1969920"/>
            <a:chExt cx="4157640" cy="2922840"/>
          </a:xfrm>
        </p:grpSpPr>
        <p:sp>
          <p:nvSpPr>
            <p:cNvPr id="269" name=""/>
            <p:cNvSpPr/>
            <p:nvPr/>
          </p:nvSpPr>
          <p:spPr>
            <a:xfrm>
              <a:off x="5033880" y="204624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7720" y="296064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7996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3720" y="326556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7600" y="196992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67600" y="433872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910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04920" y="1828800"/>
            <a:ext cx="7456320" cy="3206880"/>
            <a:chOff x="304920" y="1828800"/>
            <a:chExt cx="7456320" cy="3206880"/>
          </a:xfrm>
        </p:grpSpPr>
        <p:sp>
          <p:nvSpPr>
            <p:cNvPr id="277" name=""/>
            <p:cNvSpPr/>
            <p:nvPr/>
          </p:nvSpPr>
          <p:spPr>
            <a:xfrm>
              <a:off x="304920" y="2362320"/>
              <a:ext cx="2057400" cy="4572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 pha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12920" y="1828800"/>
              <a:ext cx="4648320" cy="3206880"/>
              <a:chOff x="3112920" y="1828800"/>
              <a:chExt cx="4648320" cy="3206880"/>
            </a:xfrm>
          </p:grpSpPr>
          <p:sp>
            <p:nvSpPr>
              <p:cNvPr id="279" name=""/>
              <p:cNvSpPr/>
              <p:nvPr/>
            </p:nvSpPr>
            <p:spPr>
              <a:xfrm>
                <a:off x="5398920" y="3124080"/>
                <a:ext cx="83844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12920" y="281952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55920" y="4038480"/>
                <a:ext cx="83844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23160" y="1828800"/>
                <a:ext cx="83808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89440" y="1905120"/>
                <a:ext cx="83808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23160" y="4197240"/>
                <a:ext cx="83808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2284560" y="212760"/>
            <a:ext cx="6478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New York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609480"/>
          <a:ext cx="8686800" cy="5670720"/>
        </p:xfrm>
        <a:graphic>
          <a:graphicData uri="http://schemas.openxmlformats.org/drawingml/2006/table">
            <a:tbl>
              <a:tblPr/>
              <a:tblGrid>
                <a:gridCol w="2863800"/>
                <a:gridCol w="2955960"/>
                <a:gridCol w="286704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ture of iron and sulf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 of iron and sulf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no definite formula: consists of Fe and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ins Fe and S in any proportion by ma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5% Fe and 36.5% S by ma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and S can be separated by physical mea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and S can be separated only by chemical chan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 flipH="1">
            <a:off x="9372240" y="289548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501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 </a:t>
            </a:r>
            <a:br>
              <a:rPr sz="4000"/>
            </a:b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of One 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ure substance can exist as different phases in a heterogeneous syst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327672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28292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 floating in water consists of two phases and one substance.  Ice is one phase, and water is the other phase.  The substance in both cases is the sam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360" y="547200"/>
            <a:ext cx="777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9960" y="129492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dy of matter under considera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17016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7921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ice water mixture, ice is the solid phase and water is the liquid phase.  The system is the ice and water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16080" y="353880"/>
            <a:ext cx="8510400" cy="3443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415440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matter:  A pure substance is always homogeneous in composition, whereas a mixture always contains two or more substances and may be either homogeneous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ience of the composition, structure, properties and reactions of matter, especially of atomic and molecular syst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1676520"/>
            <a:ext cx="3504960" cy="350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761040"/>
            <a:ext cx="3238560" cy="1753560"/>
            <a:chOff x="533520" y="761040"/>
            <a:chExt cx="3238560" cy="1753560"/>
          </a:xfrm>
        </p:grpSpPr>
        <p:sp>
          <p:nvSpPr>
            <p:cNvPr id="115" name=""/>
            <p:cNvSpPr/>
            <p:nvPr/>
          </p:nvSpPr>
          <p:spPr>
            <a:xfrm>
              <a:off x="2438280" y="1447920"/>
              <a:ext cx="11430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761040"/>
              <a:ext cx="3238560" cy="764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composi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70480" y="761040"/>
            <a:ext cx="3240000" cy="1753560"/>
            <a:chOff x="5370480" y="761040"/>
            <a:chExt cx="3240000" cy="1753560"/>
          </a:xfrm>
        </p:grpSpPr>
        <p:sp>
          <p:nvSpPr>
            <p:cNvPr id="118" name=""/>
            <p:cNvSpPr/>
            <p:nvPr/>
          </p:nvSpPr>
          <p:spPr>
            <a:xfrm flipH="1">
              <a:off x="5486040" y="1447920"/>
              <a:ext cx="11430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0480" y="761040"/>
              <a:ext cx="3240000" cy="764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80880" y="4495680"/>
            <a:ext cx="3278160" cy="1611000"/>
            <a:chOff x="380880" y="4495680"/>
            <a:chExt cx="3278160" cy="1611000"/>
          </a:xfrm>
        </p:grpSpPr>
        <p:sp>
          <p:nvSpPr>
            <p:cNvPr id="121" name=""/>
            <p:cNvSpPr/>
            <p:nvPr/>
          </p:nvSpPr>
          <p:spPr>
            <a:xfrm flipV="1">
              <a:off x="2438280" y="4495680"/>
              <a:ext cx="11430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342400"/>
              <a:ext cx="3278160" cy="76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operti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486040" y="4495680"/>
            <a:ext cx="3277080" cy="1611000"/>
            <a:chOff x="5486040" y="4495680"/>
            <a:chExt cx="3277080" cy="1611000"/>
          </a:xfrm>
        </p:grpSpPr>
        <p:sp>
          <p:nvSpPr>
            <p:cNvPr id="124" name=""/>
            <p:cNvSpPr/>
            <p:nvPr/>
          </p:nvSpPr>
          <p:spPr>
            <a:xfrm flipH="1" flipV="1">
              <a:off x="5486040" y="4495680"/>
              <a:ext cx="11430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26000" y="5342400"/>
              <a:ext cx="3237120" cy="76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eaction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4</a:t>
            </a:r>
            <a:br>
              <a:rPr sz="4400"/>
            </a:br>
            <a:r>
              <a:rPr b="1" lang="en-US" sz="5400" spc="-1" strike="noStrike" u="sng">
                <a:solidFill>
                  <a:srgbClr val="cc3399"/>
                </a:solidFill>
                <a:uFillTx/>
                <a:latin typeface="Times New Roman"/>
              </a:rPr>
              <a:t>A Scientific Approach to Problem Sol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447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problem by recognizing it and stating it clear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438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this is called an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4290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opose solutions to the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962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this is called a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9514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Decide the best way to solve the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we perform an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5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The Scientific Metho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6:54:34Z</dcterms:created>
  <dc:creator>Eugene Passer</dc:creator>
  <dc:description/>
  <dc:language>en-US</dc:language>
  <cp:lastModifiedBy>jyee</cp:lastModifiedBy>
  <dcterms:modified xsi:type="dcterms:W3CDTF">2006-10-27T17:03:52Z</dcterms:modified>
  <cp:revision>44</cp:revision>
  <dc:subject/>
  <dc:title>Hein and Arena</dc:title>
</cp:coreProperties>
</file>