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0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30.wmf" ContentType="image/x-wmf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147169-5AB6-4D91-A666-1D4D1EE6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9DD-0AAD-4DD4-B92F-7AA9E1AD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1FB-502A-4C05-8A9C-089078E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F9C-4157-4639-AED9-08D58EE1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AEB-8AC7-44FC-9B0C-014C7446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37C-D7A2-4DB9-A9DA-3AE430B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8FE-56D7-40F1-BF63-F437D9A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B8B-DB03-48BF-B268-A6F40FC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326-58C1-4D72-BF15-EC43476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CEF-9E21-4D7A-A7E7-FB7420F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2DF-19A6-4CD9-A2A7-9A3F8EED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3FF-038A-41E4-A582-B80E992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849-3A4C-4DE8-88AF-BB073A9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BC31-5FAF-40BA-9495-5D20A4D7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ticulate Nature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tangible substance of nature,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anything with mass that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most fundamental level, matter is discrete or particulate i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, most basic units of matter are called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thus comprised of individual atoms, or specific combinations of atoms calle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broken apart into their constituent atoms but atoms cannot be further broken apart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and still retain the properties of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exist in one or more physical states (or ph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Reac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863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0" name=""/>
              <p:cNvCxnSpPr>
                <a:endCxn id="869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71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990033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2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ances that speed up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of catalysts in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s  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breakdown of 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13080" y="50022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735200" y="5975280"/>
          <a:ext cx="523728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5975280"/>
                    <a:ext cx="5237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 &amp; Energy i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208160"/>
            <a:ext cx="8420040" cy="4798800"/>
            <a:chOff x="228600" y="1208160"/>
            <a:chExt cx="8420040" cy="4798800"/>
          </a:xfrm>
        </p:grpSpPr>
        <p:sp>
          <p:nvSpPr>
            <p:cNvPr id="888" name=""/>
            <p:cNvSpPr/>
            <p:nvPr/>
          </p:nvSpPr>
          <p:spPr>
            <a:xfrm>
              <a:off x="2265840" y="1916640"/>
              <a:ext cx="0" cy="40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2248200" y="6006960"/>
              <a:ext cx="60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79360" y="199044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606760" y="3552480"/>
              <a:ext cx="2535840" cy="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9640" y="5052600"/>
              <a:ext cx="278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5669640" y="3552480"/>
              <a:ext cx="0" cy="14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"/>
            <p:cNvCxnSpPr>
              <a:endCxn id="893" idx="0"/>
            </p:cNvCxnSpPr>
            <p:nvPr/>
          </p:nvCxnSpPr>
          <p:spPr>
            <a:xfrm flipV="1">
              <a:off x="5142960" y="353412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95" name=""/>
            <p:cNvSpPr/>
            <p:nvPr/>
          </p:nvSpPr>
          <p:spPr>
            <a:xfrm>
              <a:off x="2772360" y="317448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27720" y="468612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85080" y="3537720"/>
              <a:ext cx="23641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39920" y="3232440"/>
              <a:ext cx="0" cy="3200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5440" y="282312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8600" y="120816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"/>
            <p:cNvCxnSpPr>
              <a:stCxn id="891" idx="0"/>
              <a:endCxn id="893" idx="1"/>
            </p:cNvCxnSpPr>
            <p:nvPr/>
          </p:nvCxnSpPr>
          <p:spPr>
            <a:xfrm flipH="1" rot="16200000">
              <a:off x="5405400" y="327132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902" name=""/>
            <p:cNvSpPr/>
            <p:nvPr/>
          </p:nvSpPr>
          <p:spPr>
            <a:xfrm>
              <a:off x="5397120" y="3220560"/>
              <a:ext cx="1056240" cy="0"/>
            </a:xfrm>
            <a:prstGeom prst="line">
              <a:avLst/>
            </a:prstGeom>
            <a:ln cap="rnd" w="3816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09720" y="200232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8400" y="175176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98560" y="201132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9: Calculations from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(Sections 9.1 to 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530280"/>
            <a:ext cx="868680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: What do they tell u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74240" y="1352160"/>
            <a:ext cx="883620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ly written chemical equation will provide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actants &amp; products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state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any catalysts involved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quantity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 to molecu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 to mo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ss to mass ratios can be determined (with use of molar mass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formation Given by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2280" y="968040"/>
            <a:ext cx="8839440" cy="45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anced chemical equation provides the relationship between the relative numbers of reacting molecules and produc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The formation of carbon dioxide from carbon monoxide and oxy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this chemical equation, it is indicated that 2 CO molecules react with every 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 to produce 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lternative interpretati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re is a 2:1 (numerical) ratio of CO to 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for this completed reaction,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CO: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: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3" dur="500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ation of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1120" y="1158480"/>
            <a:ext cx="8839440" cy="51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formation given in a balanced chemical reaction is rel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are alternative interpretations of the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react with 100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0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illion CO molecules react with 1 billion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 billion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oles CO molecules react with 1 mol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les CO molecules react with 6 mo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1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The coefficients in the balanced chemical equation also shows the molecules and mole ratio of the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5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0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86920"/>
            <a:ext cx="86011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and Mass Ratios in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1076040"/>
            <a:ext cx="8381880" cy="55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following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ole relations are impl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 moles CO : 1 mole 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: 2 moles C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molar masses of the compounds in this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f CO = 28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2.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4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can be determined using the molar mas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(28.01) g CO : 1(32.00) g 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: 2(44.01) g C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6.02 g CO : 32.00 g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: 88.02 g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7" dur="500"/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2" dur="500"/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52280" y="2185560"/>
            <a:ext cx="883944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find the mol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oles CO : 1 mol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: 2 moles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mensional analysis to obtain the #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0240" y="885960"/>
            <a:ext cx="91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Moles of Carbon Monoxide required to react with 3.2 moles Oxygen, and the moles of Carbon Dioxid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2873520" y="4408560"/>
          <a:ext cx="57862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4408560"/>
                    <a:ext cx="57862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2460600" y="5659560"/>
          <a:ext cx="64944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0600" y="5659560"/>
                    <a:ext cx="6494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9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222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6056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348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586728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0280" y="5851440"/>
            <a:ext cx="99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" y="2001960"/>
            <a:ext cx="86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2000" y="20019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6400" y="2001960"/>
            <a:ext cx="125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1040" y="2001960"/>
            <a:ext cx="1623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96640" y="2001960"/>
            <a:ext cx="77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9200" y="19810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496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496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4320" y="19810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83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783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83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7680" y="19810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324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1324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22960" y="19810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408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08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40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3440" y="19810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496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83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324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408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74080" y="1990800"/>
            <a:ext cx="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885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26859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12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5520" y="3036960"/>
            <a:ext cx="8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536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25480" y="3036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7660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384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200" y="26668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496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496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6668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783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783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83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87680" y="26668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324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324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324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26668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7408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7408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40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26668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85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885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885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496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83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1324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08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080" y="2676600"/>
            <a:ext cx="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885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2320" y="33973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4520" y="339732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32560" y="374796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3400" y="409896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5360" y="339732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5480" y="3747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6600" y="339732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63720" y="339732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200" y="3378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3378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83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83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83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7680" y="3378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324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324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22960" y="3378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7408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7408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740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3440" y="3378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885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85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885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496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408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4080" y="3387600"/>
            <a:ext cx="0" cy="10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885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00" y="4457880"/>
            <a:ext cx="54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452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480852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0340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076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12160" y="48085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964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648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6372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200" y="4440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496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496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7496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4440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783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783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783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7680" y="4440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1324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324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324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440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08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08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0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83440" y="4440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885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885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85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9200" y="5502240"/>
            <a:ext cx="13557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496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496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496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4320" y="5502240"/>
            <a:ext cx="149400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83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783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83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87680" y="5502240"/>
            <a:ext cx="18255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87680" y="5502240"/>
            <a:ext cx="182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324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324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324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324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22960" y="5502240"/>
            <a:ext cx="18511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7408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7408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7408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40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3440" y="5502240"/>
            <a:ext cx="140508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5885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981080"/>
            <a:ext cx="7979040" cy="3521160"/>
            <a:chOff x="609480" y="1981080"/>
            <a:chExt cx="7979040" cy="3521160"/>
          </a:xfrm>
        </p:grpSpPr>
        <p:sp>
          <p:nvSpPr>
            <p:cNvPr id="257" name=""/>
            <p:cNvSpPr/>
            <p:nvPr/>
          </p:nvSpPr>
          <p:spPr>
            <a:xfrm>
              <a:off x="5313240" y="1990800"/>
              <a:ext cx="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9480" y="1981080"/>
              <a:ext cx="7979040" cy="3521160"/>
              <a:chOff x="609480" y="1981080"/>
              <a:chExt cx="7979040" cy="352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619200" y="19810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84320" y="19810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87680" y="19810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2960" y="19810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9810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48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7496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783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885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9200" y="26668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4320" y="26668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87680" y="26668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22960" y="26668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83440" y="26668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948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7496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83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324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85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9200" y="3378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4320" y="3378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7680" y="3378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22960" y="3378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3440" y="3378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48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7496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83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324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885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200" y="4440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4320" y="4440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87680" y="4440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2960" y="4440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83440" y="4440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94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9200" y="5502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496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4320" y="5502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83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1324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22960" y="5502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740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83440" y="5502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5885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6880" y="5510160"/>
            <a:ext cx="3600" cy="1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Librari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7160" y="299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assific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1600" y="92700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l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sed of only one type of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d of either individual atoms or molecules (e.g.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oun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sed of more than one type of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re (or mi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om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form throughout, appears to be on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(single 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ions (multi-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eter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uniform, contains regions with different properties than othe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09800" y="2723760"/>
            <a:ext cx="5248440" cy="1815840"/>
            <a:chOff x="3709800" y="2723760"/>
            <a:chExt cx="5248440" cy="1815840"/>
          </a:xfrm>
        </p:grpSpPr>
        <p:grpSp>
          <p:nvGrpSpPr>
            <p:cNvPr id="313" name=""/>
            <p:cNvGrpSpPr/>
            <p:nvPr/>
          </p:nvGrpSpPr>
          <p:grpSpPr>
            <a:xfrm>
              <a:off x="3709800" y="2723760"/>
              <a:ext cx="5248440" cy="1815840"/>
              <a:chOff x="3709800" y="2723760"/>
              <a:chExt cx="5248440" cy="181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333840" y="316044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6728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0076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67280" y="3369960"/>
                <a:ext cx="136656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3840" y="3369960"/>
                <a:ext cx="136692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71960" y="3614400"/>
                <a:ext cx="1823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Pure Subst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23920" y="3876480"/>
                <a:ext cx="2321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</a:rPr>
                  <a:t>Constant Composi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50800" y="4138200"/>
                <a:ext cx="1677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Homogeneou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4120" y="3614400"/>
                <a:ext cx="858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ixtur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6680" y="3876480"/>
                <a:ext cx="2480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Variable Compositio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2720" y="275868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att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"/>
            <p:cNvCxnSpPr>
              <a:stCxn id="330" idx="2"/>
              <a:endCxn id="323" idx="0"/>
            </p:cNvCxnSpPr>
            <p:nvPr/>
          </p:nvCxnSpPr>
          <p:spPr>
            <a:xfrm rot="5400000">
              <a:off x="5456520" y="2686320"/>
              <a:ext cx="387720" cy="136728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30" idx="2"/>
              <a:endCxn id="327" idx="0"/>
            </p:cNvCxnSpPr>
            <p:nvPr/>
          </p:nvCxnSpPr>
          <p:spPr>
            <a:xfrm flipH="1" rot="16200000">
              <a:off x="6822720" y="2685960"/>
              <a:ext cx="387720" cy="136764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par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1880" y="954000"/>
            <a:ext cx="826632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separation based on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fu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: separation based on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easurements &amp;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Observ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ve/subjective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qualities such as color, tas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 “It is really warm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by a number and a unit (an accepted 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tes on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scribed with a value (number) &amp; a unit (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th the value and unit are of equal importanc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value indicates a measurement’s size (based on it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unit indicates a measurement’s relationship to other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“The temperature is 8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 of Scientific No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771480"/>
            <a:ext cx="8991720" cy="597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riting numbers in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cat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ve the decimal point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of the non-zero digit in the larges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new number is now between 1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ly the new number by 10</a:t>
            </a:r>
            <a:r>
              <a:rPr b="1" i="1" lang="en-US" sz="20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number of places you moved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termine the sign on the exponen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lef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righ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not moved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riting Scientific Notation numbers in Conven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sign o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of 10</a:t>
            </a:r>
            <a:r>
              <a:rPr b="0" i="1" lang="en-US" sz="2000" spc="-1" strike="noStrike" baseline="30000">
                <a:solidFill>
                  <a:srgbClr val="cc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+ the decimal point will move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– the decimal point will move to th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value of the exponent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Tells the number of places to mov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 the decimal point and rewrite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400" y="1116000"/>
            <a:ext cx="79092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standard unit systems we will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S, Albania, and a couple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-set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s &amp; the Metric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7794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s in the metric system are related to the fundamental unit by a power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of 10 is indicated by a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es are always the same, regardless of the fundament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asurement has a specific metric unit (i.e. 25 cm) it can be expressed using different metric un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ing it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of measurement unit is somewhat arbitrary, what is important is the observation it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8160" y="309240"/>
            <a:ext cx="8915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, Uncertainty &amp; Significant Figur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7520" y="1007640"/>
            <a:ext cx="8826480" cy="55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always has some amount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mes from limitations of the techniques used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stated otherwise, the uncertainty in the last digit is 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 cm  uncertainty: 0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 cm  uncertainty: 0.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0 cm  uncertainty: 0.0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Chemistr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often described as the “central”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“stuff” that makes up the universe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i.e. anything that has mass and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atter be describ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ne type of matter interact with other typ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matter transform into other form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ules for Counting Significant Figur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70000" y="846000"/>
            <a:ext cx="8874000" cy="60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zero integer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zeros never count as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 zero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ing zeros are significant if the number ha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numbers have an unlimited number of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les for Round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igit to be remove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ss than 5, the preceding digit stay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qual to or greater than 5, the preceding digit is increased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rou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n’t forget to add place-holding zeros if necessary to keep value the sam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ct Numb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3120" y="1019160"/>
            <a:ext cx="8570880" cy="577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umbers that are assumed to have unlimited number of significant figures are considered to be known with “absolute” certain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not need to consider or count significant figures for exact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consid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H1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unting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sides on a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apples on a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fined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those used for conversion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umbers or cons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 = 3x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th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exac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verting between Uni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nits from one unit system to another (especially within the Metric system) can appear daunting at first glance.  However, with a little guidance, and a lot of practice, you can develop the necessary skill set to master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gin, here is a simple mnemonic to guide you through the unit convers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 conversions, regardless of how complex they appear, involve these 3 simple steps.   In the following sections, you will be stepped through the unit conversion process using these 3 words as a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Unit Convers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25.0 m to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.26 g to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tric Prefix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the quantity of matter in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measured in units of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d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 how much volume something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logram (kg) unit is the preferred unit of mass in the SI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ilogram is equal to the mass of a platinum-iridium cylinder kept in a vault at Sevres,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g has the weight equivalent (on Earth) of 2.205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 of Mass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of mass is never created nor destroyed during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520720"/>
            <a:ext cx="4765680" cy="43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a fundamental property of matter,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it is the amount of “stuff” i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represents an object’s inertia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tendency to resist change in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the same everywhere in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 Units of mass are kilogram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35360" y="2526840"/>
            <a:ext cx="424512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the effect (or force) of gravity on an object’s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depends on location (&amp; local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 units of weight are newtons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CS units are pounds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963720"/>
            <a:ext cx="85647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mass and weight are commonly used interchangeably but they are fundamentally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some important differences between mass and we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85860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is the 3-dimensional space that an object occ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 for volume is the cubic meter, or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ters x meters x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common metric unit of volume is the Liter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oratory, the milliliter (mL) is often more conven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mass and volume are not the same thing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ry not to confuse them…).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objects with the same volume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(e.g. a pillow &amp; a sack of potatoes can have different masses 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9000" y="3376440"/>
            <a:ext cx="4792680" cy="2228400"/>
            <a:chOff x="189000" y="3376440"/>
            <a:chExt cx="4792680" cy="2228400"/>
          </a:xfrm>
        </p:grpSpPr>
        <p:sp>
          <p:nvSpPr>
            <p:cNvPr id="366" name=""/>
            <p:cNvSpPr/>
            <p:nvPr/>
          </p:nvSpPr>
          <p:spPr>
            <a:xfrm>
              <a:off x="1789200" y="3376440"/>
              <a:ext cx="1909800" cy="1609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47800" y="5089320"/>
              <a:ext cx="1651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30720" y="46562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000" y="413208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9240" y="389232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1811160" y="5156280"/>
              <a:ext cx="1460520" cy="14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420720" y="472752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944960" y="3687840"/>
            <a:ext cx="3676680" cy="1484280"/>
            <a:chOff x="4944960" y="3687840"/>
            <a:chExt cx="3676680" cy="1484280"/>
          </a:xfrm>
        </p:grpSpPr>
        <p:sp>
          <p:nvSpPr>
            <p:cNvPr id="374" name=""/>
            <p:cNvSpPr/>
            <p:nvPr/>
          </p:nvSpPr>
          <p:spPr>
            <a:xfrm>
              <a:off x="4944960" y="417996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14840" y="394020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176680" y="477540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97720" y="3724200"/>
              <a:ext cx="2023920" cy="1447920"/>
            </a:xfrm>
            <a:prstGeom prst="can">
              <a:avLst>
                <a:gd name="adj" fmla="val 35527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4720" y="3741840"/>
              <a:ext cx="1992240" cy="4572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3240" y="36878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0" name=""/>
          <p:cNvGraphicFramePr/>
          <p:nvPr/>
        </p:nvGraphicFramePr>
        <p:xfrm>
          <a:off x="2814480" y="2154240"/>
          <a:ext cx="216216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154240"/>
                    <a:ext cx="2162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792520" y="2820960"/>
          <a:ext cx="2333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820960"/>
                    <a:ext cx="2333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425520"/>
            <a:ext cx="756288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6160" y="835200"/>
            <a:ext cx="874080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perty of matter representing the mass per uni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volumes, a denser object has greate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masses, a denser object has smalle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ly used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Notes on Den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of matter in various states:  solids &gt; liquids &gt;&gt;&gt; ga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ception: 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eterogeneous mixture, the denser matter will tend to sink to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433840" y="3278160"/>
          <a:ext cx="3341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3278160"/>
                    <a:ext cx="334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81040" y="457200"/>
            <a:ext cx="7980480" cy="617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oyle proposed the concept of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0-9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isier proposed the concept of compounds &amp; the Law of Mass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estly isolates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9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ust proposed the Law of Definite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ton re-introduces the concept of the atom and establishes Dalton’s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eev create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proposes the “nuclear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proposes a “planetary” model of the hydro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oedinger publishes his wave equation for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rray Gell-Mann proposes the theory of QCD (proposing the existence of qu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nipulating the Density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903920" y="1603440"/>
          <a:ext cx="3155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603440"/>
                    <a:ext cx="3155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815000" y="3344760"/>
          <a:ext cx="3030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3344760"/>
                    <a:ext cx="3030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3670200" y="5257800"/>
          <a:ext cx="48135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5257800"/>
                    <a:ext cx="481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2122560" y="1581120"/>
            <a:ext cx="4216320" cy="3176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040" y="1515960"/>
            <a:ext cx="3719520" cy="3146400"/>
            <a:chOff x="365040" y="1515960"/>
            <a:chExt cx="3719520" cy="3146400"/>
          </a:xfrm>
        </p:grpSpPr>
        <p:sp>
          <p:nvSpPr>
            <p:cNvPr id="398" name=""/>
            <p:cNvSpPr/>
            <p:nvPr/>
          </p:nvSpPr>
          <p:spPr>
            <a:xfrm>
              <a:off x="365040" y="1515960"/>
              <a:ext cx="3719520" cy="3146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69800" y="224460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440" y="4024080"/>
              <a:ext cx="167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ens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3760" y="402408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volu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 Elements &amp;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Symbols &amp; Formula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7600" y="947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lecule has a uniqu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formula of a molecule in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of chemical form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123920"/>
            <a:ext cx="85536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known elements are arranged in a chart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in the Periodic Table is identified by both its chemical symbol and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are organized left-to-right and top-to-bottom according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are arranged by similarity of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each group typically have simila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w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reflect the periodicity of chemical properties as atomic number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 of Elem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66760" y="1108080"/>
          <a:ext cx="86090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108080"/>
                    <a:ext cx="8609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ments and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can be categorized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most element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70% of all of the elements ar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that reside along the “stair step” between the metals and nonmetal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ties of semimetals are not quite metallic or non-metallic, but rather somewhere 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mitri Mendeleev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4-190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born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ce teachers of hi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ganized the known elements of his time into the first “periodic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were organized by chemical properties (&amp; by weight) -&gt;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ly, his periodic table predicted the existence of 3 new elem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ich were subsequently discov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: Properti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Propert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98360" y="912960"/>
            <a:ext cx="8717040" cy="49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aracteristics are directly observable or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Ex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objects (i.e. size, shape, mas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In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substances (i.e. density, conductivity, colo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emical Propert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re the characteristics of a substance that determine the tendency of the matter to transform in composition as a result of the interaction with other substances, the influence of energy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1500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se are characteristics that describe the behavior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Chan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840960"/>
            <a:ext cx="8839440" cy="569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es that do not result in a change the fundamental composition of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ypical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hysical State Changes: boiling, melting, conden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, Size or Tex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 a change in the fundamental composition of th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s on Chemic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duction of a new substanc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ferred to as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representation: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Both physical and chemical changes will likely produce  an alteration of appearance, the key is to discern the type of change that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first observed by Eugene Golds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 (JJ Thomp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named by Ernest Ruther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utron (James Chadw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6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ine Hen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querel discovers radio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Kamerlingh Onnes discovers superconductivity in low temperature 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7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Shockley and colleagues invent the first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nell, Wieman, and Ketterle observe the 5th state of matter (the Bose-Einstein condensate) in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89000" y="990360"/>
            <a:ext cx="868824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osely described as the capacity of something to do work (or alter the physical or chemical state of an object or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, chemical, thermal, electrical, radiant, 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energy is the Joule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ly used units are Calories (cal) and Kilowatt-hours (k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es of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oten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or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net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associated with motion an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that flows from high to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 of Energy Con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is never created nor destroy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it does change from one type to anoth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3760" y="293760"/>
            <a:ext cx="824076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Heat Energy &amp; Temperat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t or cold something is (an extrinsic physical property), it represents a particular therm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inetic) energy of the sub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the total energy but the average ener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Fahrenheit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Celsius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vin 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that flows from hot objects to cold object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physical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bsorbed or released by an object resulting in its temperatur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les (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ories (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owatt Hours (kW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ottom Line: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Heat energy absorbed or released is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easured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by changes in temperature but do not confuse heat energy fo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000" y="1004400"/>
            <a:ext cx="878688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 traditional temperature scales, Fahrenheit and Celsius, were originally defined in terms of the physical states of water at se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ahrenheit Scale, 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32°F, boiling point = 212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elsius Scale,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0°C, boiling point = 10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elsius temperature unit is larger than 1 Fahrenhei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for temperature is a variant of the Celsiu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lvin Scale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273 K, boiling point = 373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lvin temperature unit is the same size as the Celsiu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169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of ice water and boiling water.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7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Energ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0440" y="934920"/>
            <a:ext cx="87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energy that flows due to a temperat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flows from higher temperature to lower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volving H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burning paper is an exothermic process because energy is produced as heat (the temperature ris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melting ice to form liquid water is an endothermic process because heat energy must be absorbed to change the physical state (in this case the temperature does not change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85680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absorbs or loses heat energy, 1 of 2 thing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emperatur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ot coffee will cool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hysical stat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ice will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er case above, the heat energy absorbed or lost by an object is proportion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the object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temperature the object undergo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fic heat capacity (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physical property unique to the sub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heat gained (Q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01640" y="5516640"/>
          <a:ext cx="3125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516640"/>
                    <a:ext cx="3125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5735520" y="4678200"/>
            <a:ext cx="2925720" cy="2027520"/>
            <a:chOff x="5735520" y="4678200"/>
            <a:chExt cx="2925720" cy="2027520"/>
          </a:xfrm>
        </p:grpSpPr>
        <p:sp>
          <p:nvSpPr>
            <p:cNvPr id="437" name=""/>
            <p:cNvSpPr/>
            <p:nvPr/>
          </p:nvSpPr>
          <p:spPr>
            <a:xfrm>
              <a:off x="5735520" y="4678200"/>
              <a:ext cx="2925720" cy="202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39040" y="4842000"/>
              <a:ext cx="131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5160" y="609120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6880" y="6091200"/>
              <a:ext cx="82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54760" y="609588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cific Heat Capacity (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30040" y="938160"/>
            <a:ext cx="868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reflects how absorbed heat energy relates to the corresponding increase in temperature for a given amount of mass, i.e.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nergy per unit mass per unit temperature chang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commonly measured in uni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a unique intrinsic physical property of matter.  Typically,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tals have higher specific heat capacity tha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54520" y="2049480"/>
          <a:ext cx="22878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049480"/>
                    <a:ext cx="2287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19280" y="396720"/>
            <a:ext cx="7807320" cy="623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5524560" y="356868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32480" y="316080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able of Specific Heat for Various Substanc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33520" y="1066680"/>
            <a:ext cx="8076240" cy="5486400"/>
            <a:chOff x="533520" y="1066680"/>
            <a:chExt cx="8076240" cy="5486400"/>
          </a:xfrm>
        </p:grpSpPr>
        <p:grpSp>
          <p:nvGrpSpPr>
            <p:cNvPr id="451" name=""/>
            <p:cNvGrpSpPr/>
            <p:nvPr/>
          </p:nvGrpSpPr>
          <p:grpSpPr>
            <a:xfrm>
              <a:off x="542880" y="1068840"/>
              <a:ext cx="8055360" cy="5481360"/>
              <a:chOff x="542880" y="1068840"/>
              <a:chExt cx="8055360" cy="548136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542880" y="1068840"/>
                <a:ext cx="2257920" cy="410040"/>
                <a:chOff x="542880" y="1068840"/>
                <a:chExt cx="2257920" cy="410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81040" y="10782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42880" y="10688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801520" y="1068840"/>
                <a:ext cx="1870920" cy="410040"/>
                <a:chOff x="2801520" y="1068840"/>
                <a:chExt cx="1870920" cy="4100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839680" y="10782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801520" y="10688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673520" y="1068840"/>
                <a:ext cx="2446200" cy="410040"/>
                <a:chOff x="4673520" y="1068840"/>
                <a:chExt cx="2446200" cy="4100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711680" y="10782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673520" y="10688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120440" y="1068840"/>
                <a:ext cx="1477800" cy="410040"/>
                <a:chOff x="7120440" y="1068840"/>
                <a:chExt cx="1477800" cy="4100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158600" y="10782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mol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120440" y="10688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2880" y="1497960"/>
                <a:ext cx="2257920" cy="318960"/>
                <a:chOff x="542880" y="1497960"/>
                <a:chExt cx="2257920" cy="318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81040" y="15073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42880" y="14979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801520" y="1497960"/>
                <a:ext cx="1870920" cy="318960"/>
                <a:chOff x="2801520" y="1497960"/>
                <a:chExt cx="1870920" cy="318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839680" y="15073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801520" y="14979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673520" y="1497960"/>
                <a:ext cx="2446200" cy="318960"/>
                <a:chOff x="4673520" y="1497960"/>
                <a:chExt cx="2446200" cy="318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711680" y="15073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73520" y="14979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120440" y="1497960"/>
                <a:ext cx="1477800" cy="318960"/>
                <a:chOff x="7120440" y="1497960"/>
                <a:chExt cx="1477800" cy="318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158600" y="15073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20440" y="14979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542880" y="1836000"/>
                <a:ext cx="2257920" cy="318960"/>
                <a:chOff x="542880" y="1836000"/>
                <a:chExt cx="2257920" cy="318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81040" y="18453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2880" y="18360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801520" y="1836000"/>
                <a:ext cx="1870920" cy="318960"/>
                <a:chOff x="2801520" y="1836000"/>
                <a:chExt cx="1870920" cy="318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839680" y="18453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7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801520" y="18360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673520" y="1836000"/>
                <a:ext cx="2446200" cy="318960"/>
                <a:chOff x="4673520" y="1836000"/>
                <a:chExt cx="2446200" cy="3189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711680" y="18453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73520" y="18360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120440" y="1836000"/>
                <a:ext cx="1477800" cy="318960"/>
                <a:chOff x="7120440" y="1836000"/>
                <a:chExt cx="1477800" cy="318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158600" y="18453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120440" y="18360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42880" y="2174040"/>
                <a:ext cx="2257920" cy="318960"/>
                <a:chOff x="542880" y="2174040"/>
                <a:chExt cx="2257920" cy="318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81040" y="2183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42880" y="2174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801520" y="2174040"/>
                <a:ext cx="1870920" cy="318960"/>
                <a:chOff x="2801520" y="2174040"/>
                <a:chExt cx="1870920" cy="3189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839680" y="2183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801520" y="2174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4673520" y="2174040"/>
                <a:ext cx="2446200" cy="318960"/>
                <a:chOff x="4673520" y="2174040"/>
                <a:chExt cx="2446200" cy="318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711680" y="2183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673520" y="2174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120440" y="2174040"/>
                <a:ext cx="1477800" cy="318960"/>
                <a:chOff x="7120440" y="2174040"/>
                <a:chExt cx="1477800" cy="318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158600" y="2183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120440" y="2174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42880" y="2512080"/>
                <a:ext cx="2257920" cy="318960"/>
                <a:chOff x="542880" y="2512080"/>
                <a:chExt cx="2257920" cy="318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81040" y="2521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2880" y="2512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801520" y="2512080"/>
                <a:ext cx="1870920" cy="318960"/>
                <a:chOff x="2801520" y="2512080"/>
                <a:chExt cx="1870920" cy="318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839680" y="2521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801520" y="2512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673520" y="2512080"/>
                <a:ext cx="2446200" cy="318960"/>
                <a:chOff x="4673520" y="2512080"/>
                <a:chExt cx="2446200" cy="318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711680" y="2521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673520" y="2512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120440" y="2512080"/>
                <a:ext cx="1477800" cy="318960"/>
                <a:chOff x="7120440" y="2512080"/>
                <a:chExt cx="1477800" cy="3189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158600" y="2521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120440" y="2512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42880" y="2850120"/>
                <a:ext cx="2257920" cy="318960"/>
                <a:chOff x="542880" y="2850120"/>
                <a:chExt cx="2257920" cy="31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81040" y="2859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42880" y="2850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801520" y="2850120"/>
                <a:ext cx="1870920" cy="318960"/>
                <a:chOff x="2801520" y="2850120"/>
                <a:chExt cx="1870920" cy="318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839680" y="2859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801520" y="2850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673520" y="2850120"/>
                <a:ext cx="2446200" cy="318960"/>
                <a:chOff x="4673520" y="2850120"/>
                <a:chExt cx="2446200" cy="318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4711680" y="2859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673520" y="2850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120440" y="2850120"/>
                <a:ext cx="1477800" cy="318960"/>
                <a:chOff x="7120440" y="2850120"/>
                <a:chExt cx="1477800" cy="3189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158600" y="2859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120440" y="2850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42880" y="3188520"/>
                <a:ext cx="2257920" cy="318960"/>
                <a:chOff x="542880" y="3188520"/>
                <a:chExt cx="2257920" cy="318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581040" y="31978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42880" y="31885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801520" y="3188520"/>
                <a:ext cx="1870920" cy="318960"/>
                <a:chOff x="2801520" y="3188520"/>
                <a:chExt cx="1870920" cy="318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839680" y="31978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801520" y="31885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673520" y="3188520"/>
                <a:ext cx="2446200" cy="318960"/>
                <a:chOff x="4673520" y="3188520"/>
                <a:chExt cx="2446200" cy="3189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711680" y="31978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673520" y="31885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120440" y="3188520"/>
                <a:ext cx="1477800" cy="318960"/>
                <a:chOff x="7120440" y="3188520"/>
                <a:chExt cx="1477800" cy="3189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58600" y="31978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120440" y="31885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42880" y="3526560"/>
                <a:ext cx="2257920" cy="318960"/>
                <a:chOff x="542880" y="3526560"/>
                <a:chExt cx="2257920" cy="318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81040" y="35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42880" y="35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801520" y="3526560"/>
                <a:ext cx="1870920" cy="318960"/>
                <a:chOff x="2801520" y="3526560"/>
                <a:chExt cx="1870920" cy="318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2839680" y="35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801520" y="35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673520" y="3526560"/>
                <a:ext cx="2446200" cy="318960"/>
                <a:chOff x="4673520" y="3526560"/>
                <a:chExt cx="2446200" cy="3189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711680" y="35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3520" y="35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120440" y="3526560"/>
                <a:ext cx="1477800" cy="318960"/>
                <a:chOff x="7120440" y="3526560"/>
                <a:chExt cx="1477800" cy="318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158600" y="35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120440" y="35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542880" y="3864600"/>
                <a:ext cx="2257920" cy="318960"/>
                <a:chOff x="542880" y="3864600"/>
                <a:chExt cx="2257920" cy="318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81040" y="38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42880" y="38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801520" y="3864600"/>
                <a:ext cx="1870920" cy="318960"/>
                <a:chOff x="2801520" y="3864600"/>
                <a:chExt cx="1870920" cy="3189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839680" y="38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801520" y="38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673520" y="3864600"/>
                <a:ext cx="2446200" cy="318960"/>
                <a:chOff x="4673520" y="3864600"/>
                <a:chExt cx="2446200" cy="318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711680" y="38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673520" y="38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120440" y="3864600"/>
                <a:ext cx="1477800" cy="318960"/>
                <a:chOff x="7120440" y="3864600"/>
                <a:chExt cx="1477800" cy="3189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158600" y="38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20440" y="38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542880" y="4202640"/>
                <a:ext cx="2257920" cy="318960"/>
                <a:chOff x="542880" y="4202640"/>
                <a:chExt cx="2257920" cy="3189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581040" y="42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2880" y="42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801520" y="4202640"/>
                <a:ext cx="1870920" cy="318960"/>
                <a:chOff x="2801520" y="4202640"/>
                <a:chExt cx="1870920" cy="3189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839680" y="42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801520" y="42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673520" y="4202640"/>
                <a:ext cx="2446200" cy="318960"/>
                <a:chOff x="4673520" y="4202640"/>
                <a:chExt cx="2446200" cy="3189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711680" y="42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673520" y="42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20440" y="4202640"/>
                <a:ext cx="1477800" cy="318960"/>
                <a:chOff x="7120440" y="4202640"/>
                <a:chExt cx="1477800" cy="3189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58600" y="42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120440" y="42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42880" y="4541040"/>
                <a:ext cx="2257920" cy="318960"/>
                <a:chOff x="542880" y="4541040"/>
                <a:chExt cx="2257920" cy="3189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81040" y="4550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42880" y="4541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801520" y="4541040"/>
                <a:ext cx="1870920" cy="318960"/>
                <a:chOff x="2801520" y="4541040"/>
                <a:chExt cx="1870920" cy="318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2839680" y="4550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801520" y="4541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673520" y="4541040"/>
                <a:ext cx="2446200" cy="318960"/>
                <a:chOff x="4673520" y="4541040"/>
                <a:chExt cx="2446200" cy="3189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711680" y="4550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673520" y="4541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120440" y="4541040"/>
                <a:ext cx="1477800" cy="318960"/>
                <a:chOff x="7120440" y="4541040"/>
                <a:chExt cx="1477800" cy="3189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158600" y="4550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120440" y="4541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42880" y="4879080"/>
                <a:ext cx="2257920" cy="318960"/>
                <a:chOff x="542880" y="4879080"/>
                <a:chExt cx="2257920" cy="318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81040" y="4888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cohol (ethyl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42880" y="4879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801520" y="4879080"/>
                <a:ext cx="1870920" cy="318960"/>
                <a:chOff x="2801520" y="4879080"/>
                <a:chExt cx="1870920" cy="318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39680" y="4888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3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801520" y="4879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673520" y="4879080"/>
                <a:ext cx="2446200" cy="318960"/>
                <a:chOff x="4673520" y="4879080"/>
                <a:chExt cx="2446200" cy="3189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711680" y="4888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5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673520" y="4879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7120440" y="4879080"/>
                <a:ext cx="1477800" cy="318960"/>
                <a:chOff x="7120440" y="4879080"/>
                <a:chExt cx="1477800" cy="3189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158600" y="4888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120440" y="4879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542880" y="5217120"/>
                <a:ext cx="2257920" cy="318960"/>
                <a:chOff x="542880" y="5217120"/>
                <a:chExt cx="2257920" cy="3189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81040" y="5226120"/>
                  <a:ext cx="2181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42880" y="52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801520" y="5217120"/>
                <a:ext cx="1870920" cy="318960"/>
                <a:chOff x="2801520" y="5217120"/>
                <a:chExt cx="1870920" cy="318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839680" y="5226120"/>
                  <a:ext cx="1794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801520" y="52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673520" y="5217120"/>
                <a:ext cx="2446200" cy="318960"/>
                <a:chOff x="4673520" y="5217120"/>
                <a:chExt cx="2446200" cy="318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711680" y="5226120"/>
                  <a:ext cx="23695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673520" y="52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7120440" y="5217120"/>
                <a:ext cx="1477800" cy="318960"/>
                <a:chOff x="7120440" y="5217120"/>
                <a:chExt cx="1477800" cy="3189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7158600" y="5226120"/>
                  <a:ext cx="14011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120440" y="52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42880" y="5555160"/>
                <a:ext cx="2257920" cy="318960"/>
                <a:chOff x="542880" y="5555160"/>
                <a:chExt cx="2257920" cy="3189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81040" y="55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880" y="55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2801520" y="5555160"/>
                <a:ext cx="1870920" cy="318960"/>
                <a:chOff x="2801520" y="5555160"/>
                <a:chExt cx="1870920" cy="318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2839680" y="55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05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801520" y="55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673520" y="5555160"/>
                <a:ext cx="2446200" cy="318960"/>
                <a:chOff x="4673520" y="5555160"/>
                <a:chExt cx="2446200" cy="3189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711680" y="55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673520" y="55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120440" y="5555160"/>
                <a:ext cx="1477800" cy="318960"/>
                <a:chOff x="7120440" y="5555160"/>
                <a:chExt cx="1477800" cy="3189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158600" y="55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120440" y="55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542880" y="5893200"/>
                <a:ext cx="2257920" cy="318960"/>
                <a:chOff x="542880" y="5893200"/>
                <a:chExt cx="2257920" cy="318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81040" y="59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2880" y="58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2801520" y="5893200"/>
                <a:ext cx="1870920" cy="318960"/>
                <a:chOff x="2801520" y="5893200"/>
                <a:chExt cx="1870920" cy="3189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2839680" y="59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801520" y="58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673520" y="5893200"/>
                <a:ext cx="2446200" cy="318960"/>
                <a:chOff x="4673520" y="5893200"/>
                <a:chExt cx="2446200" cy="3189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711680" y="59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673520" y="58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7120440" y="5893200"/>
                <a:ext cx="1477800" cy="318960"/>
                <a:chOff x="7120440" y="5893200"/>
                <a:chExt cx="1477800" cy="3189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158600" y="59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20440" y="58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542880" y="6231240"/>
                <a:ext cx="2257920" cy="318960"/>
                <a:chOff x="542880" y="6231240"/>
                <a:chExt cx="2257920" cy="318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581040" y="62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42880" y="62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801520" y="6231240"/>
                <a:ext cx="1870920" cy="318960"/>
                <a:chOff x="2801520" y="6231240"/>
                <a:chExt cx="1870920" cy="3189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839680" y="62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801520" y="62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673520" y="6231240"/>
                <a:ext cx="2446200" cy="318960"/>
                <a:chOff x="4673520" y="6231240"/>
                <a:chExt cx="2446200" cy="3189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711680" y="62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673520" y="62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7120440" y="6231240"/>
                <a:ext cx="1477800" cy="318960"/>
                <a:chOff x="7120440" y="6231240"/>
                <a:chExt cx="1477800" cy="3189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7158600" y="62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20440" y="62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533520" y="10666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5: Early Atomic Theory &amp;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8280" y="1022400"/>
            <a:ext cx="7978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OBSERV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PLAN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educated guess -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consequences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ALID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xperimental data support or dispute hypo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72720" y="1035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n important step in understanding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his model of nature, all forms of matter are mixtures of one of 4  basic “element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has one or more of 4 basic “qualitie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cording to Aristot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y substance could be transformed into any other substance by altering the relative proportion of these elements and qualities (i.e. lead to 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arly Model of Matter:  Aristot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384-322 BC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079720" y="2540160"/>
            <a:ext cx="3047760" cy="1066680"/>
            <a:chOff x="2079720" y="2540160"/>
            <a:chExt cx="3047760" cy="1066680"/>
          </a:xfrm>
        </p:grpSpPr>
        <p:sp>
          <p:nvSpPr>
            <p:cNvPr id="651" name=""/>
            <p:cNvSpPr/>
            <p:nvPr/>
          </p:nvSpPr>
          <p:spPr>
            <a:xfrm>
              <a:off x="3644640" y="307368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79720" y="307368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44640" y="254016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79720" y="254016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79720" y="2540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79720" y="360684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7972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2748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44640" y="2540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7972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2748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44640" y="360684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066760" y="4065480"/>
            <a:ext cx="3048120" cy="1066680"/>
            <a:chOff x="2066760" y="4065480"/>
            <a:chExt cx="3048120" cy="1066680"/>
          </a:xfrm>
        </p:grpSpPr>
        <p:sp>
          <p:nvSpPr>
            <p:cNvPr id="664" name=""/>
            <p:cNvSpPr/>
            <p:nvPr/>
          </p:nvSpPr>
          <p:spPr>
            <a:xfrm>
              <a:off x="3632040" y="4599000"/>
              <a:ext cx="148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D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66760" y="4599000"/>
              <a:ext cx="156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2040" y="406548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6760" y="406548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66760" y="406548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66760" y="513216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6676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1488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32040" y="406548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6676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1488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32040" y="513216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7000920" y="1163520"/>
            <a:ext cx="19382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lton’s Atomic Theo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231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consists of individual particle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either be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oms of a given element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ombined chemically in definite whole-number ratios to form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have different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6149880" y="1119240"/>
            <a:ext cx="2743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dern Atomic Mod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our modern model of the matter, the atom has 2 primary regions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protons &amp; neutrons (called nucleons, coll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most of the atom’s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neutron = 1.675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proton = 1.673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dense region at the center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nucleus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femt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Electr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electron = 9.109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the effective volume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electron cloud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Angst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the chemical properties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600200" y="161604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ructure of the Ato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holds the atom together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lectromagnetic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electric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electrons to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rong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strong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nucleons together with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96660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– repel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of a prot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electr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smallest amount that occurs in nature, it is called the quantum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4920" y="1176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(or molecules) that have gained or los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lost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gained extra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s have both cations and anions (so that their net charge is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37920" y="1036800"/>
            <a:ext cx="8272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s are electrically charged atoms and thus carry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charge of an ion is due to the imbalance of electrons and 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lost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lectron that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gained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”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cess electron that is g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/molecule is an ion, its charge must be spec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x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on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site charges at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441680" y="4875120"/>
            <a:ext cx="2667240" cy="764280"/>
            <a:chOff x="4441680" y="4875120"/>
            <a:chExt cx="2667240" cy="764280"/>
          </a:xfrm>
        </p:grpSpPr>
        <p:sp>
          <p:nvSpPr>
            <p:cNvPr id="693" name=""/>
            <p:cNvSpPr/>
            <p:nvPr/>
          </p:nvSpPr>
          <p:spPr>
            <a:xfrm>
              <a:off x="4441680" y="4983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75400" y="4875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98880" y="5332320"/>
              <a:ext cx="38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118200" y="5332320"/>
              <a:ext cx="3808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718080" y="5584680"/>
            <a:ext cx="2666520" cy="655200"/>
            <a:chOff x="3718080" y="5584680"/>
            <a:chExt cx="2666520" cy="655200"/>
          </a:xfrm>
        </p:grpSpPr>
        <p:sp>
          <p:nvSpPr>
            <p:cNvPr id="698" name=""/>
            <p:cNvSpPr/>
            <p:nvPr/>
          </p:nvSpPr>
          <p:spPr>
            <a:xfrm>
              <a:off x="3718080" y="5584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51440" y="559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4174920" y="593388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94240" y="593388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730680" y="6067440"/>
            <a:ext cx="2666520" cy="776880"/>
            <a:chOff x="3730680" y="6067440"/>
            <a:chExt cx="2666520" cy="776880"/>
          </a:xfrm>
        </p:grpSpPr>
        <p:sp>
          <p:nvSpPr>
            <p:cNvPr id="703" name=""/>
            <p:cNvSpPr/>
            <p:nvPr/>
          </p:nvSpPr>
          <p:spPr>
            <a:xfrm>
              <a:off x="3730680" y="60674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64040" y="60800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187520" y="653724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6840" y="653724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omic Bookkeep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in an atom or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def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&amp; neutrons in a specific atom or iso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represents the mas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o determine number of neu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# of neutrons = (Mass #) – (Atomic 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# of neutrons = A -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# vs. Atomic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the equivalent of sibling members of 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2 (        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4 (       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total mass of an element’s various naturally occurring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a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There 6 protons &amp; 6 neutrons in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is actually slightly less than the combined mass of all of the nucleons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462040" y="2151000"/>
            <a:ext cx="4038480" cy="778680"/>
            <a:chOff x="2462040" y="2151000"/>
            <a:chExt cx="4038480" cy="778680"/>
          </a:xfrm>
        </p:grpSpPr>
        <p:sp>
          <p:nvSpPr>
            <p:cNvPr id="713" name=""/>
            <p:cNvSpPr/>
            <p:nvPr/>
          </p:nvSpPr>
          <p:spPr>
            <a:xfrm>
              <a:off x="3528720" y="22273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90640" y="2151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62040" y="25322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354480" y="2881440"/>
            <a:ext cx="3200400" cy="778320"/>
            <a:chOff x="3354480" y="2881440"/>
            <a:chExt cx="3200400" cy="778320"/>
          </a:xfrm>
        </p:grpSpPr>
        <p:sp>
          <p:nvSpPr>
            <p:cNvPr id="717" name=""/>
            <p:cNvSpPr/>
            <p:nvPr/>
          </p:nvSpPr>
          <p:spPr>
            <a:xfrm>
              <a:off x="3583080" y="2957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54480" y="2881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07120" y="3262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602320" y="2908440"/>
            <a:ext cx="3200400" cy="778320"/>
            <a:chOff x="5602320" y="2908440"/>
            <a:chExt cx="3200400" cy="778320"/>
          </a:xfrm>
        </p:grpSpPr>
        <p:sp>
          <p:nvSpPr>
            <p:cNvPr id="721" name=""/>
            <p:cNvSpPr/>
            <p:nvPr/>
          </p:nvSpPr>
          <p:spPr>
            <a:xfrm>
              <a:off x="5830920" y="2984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02320" y="2908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54960" y="3289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Isotop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6: Nomenclature of Inorga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ounds are formed they are held together by the association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ociation is call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c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general types of chemical b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many compounds have more than one type of chemical bond present, but we will focus on only “simple compou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ractical” purposes will separate all simple compounds into 2 general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ions (both positive and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no net charge (i.e. combined charge of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 on the attraction between positive and negative charges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metal is present as a cation and a nonmetal is present as an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aka: Molecular or Covalent)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atoms that share their outer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plays no direct role in their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usually no metals are present in these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iest way (usually) to identify an ionic compound is to ask whether or not there is a metal present in the chemical formula (or the na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metal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n Ionic Compound (e.g. 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 Non-Ionic Compound (e.g. C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 an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s do not use the Greek prefixes and are named according to the identity of the ion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require the use of Greek prefixes to indicate the number of each element present in on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Simple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simple”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 is a compound made of only 2 types of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irst element is a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o metal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3680" y="333000"/>
            <a:ext cx="874224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termining Chemical Formula of an Ionic Compou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chemical formula of an ionic compound from its chemical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ions present, both cation(s) and anion(s), from th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ion: 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ion: 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ionic charge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assium ion,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lfide ion,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each ion needed to obtain a neutral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ons are needed for every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he chemical sysmbols of the ions to get the final chem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is the formula for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15328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harges &amp;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 of an element in the Periodic Table is a useful indicator of the type of ion an element is capable of for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1+ cat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d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2+ cations (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3+ cations (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umin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3-12 Metals (plus Sn, Pb, &amp; Bi) can form more than one type of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numerals are used to indicate the charge of the 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able Exce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amp; Z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5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3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N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it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6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2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O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ox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7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1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hlo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8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not form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41112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eek Prefixes for Compound Nam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32920" y="1128240"/>
            <a:ext cx="4459320" cy="35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C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tr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49400" y="1106640"/>
            <a:ext cx="4341960" cy="35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p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Dec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ct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9400" y="4021200"/>
            <a:ext cx="8610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are used when the compound does not have a metal present (or when H is the first element in the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must be used for every element present in the comp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- is not used for the first element in a compound name (e.g.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8680" y="385920"/>
            <a:ext cx="8285040" cy="7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ompounds containing Polyatomic 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1541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onic compounds are made up of polyatomic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atomic ions are usually ions formed from non-ion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.g.  The sulfate ion, S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, is essentially a molecular compound containing S and O with 2 additional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encounter polyatomic ions in compound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not freak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familiar with the common polyatomic ions on th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nitrate ion (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, the naming of ionic compounds containing polyatomic ions is similar to that for 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219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term for “sou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are substances that donate or release hydrogen cations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usually when 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formula for acids usually begins with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(a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bit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ote: it is not advised to taste strong bas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that accept hydrogen cat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OH(aq) +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3481560"/>
            <a:ext cx="7772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separate acids into 2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acids containing oxy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prefix to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oot of the anion (i.e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ch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i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toine Lavoisier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94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by many to be the “Father of Modern Chemist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6221520" y="1117440"/>
            <a:ext cx="2743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7: Quantitative Composition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tions 7.1 to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85560" y="1115640"/>
            <a:ext cx="852804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is a counting unit (analogous to the dozen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known as Avogadro’s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the mole &amp;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Unicode MS"/>
              </a:rPr>
              <a:t>Got mole problems? 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l Avogadro at 602-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ar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675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is the mass in grams of 1 mole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refers to both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(a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(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atoms (or molecules) to moles, divide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atoms (or molecules), multiply 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933480" y="2338560"/>
          <a:ext cx="667080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338560"/>
                    <a:ext cx="6670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907920" y="4721400"/>
          <a:ext cx="719928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4721400"/>
                    <a:ext cx="7199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-Mass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grams, multiply the # of mole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grams to moles, divide the mass in gram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in 2.5 g of lith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1704960" y="2355840"/>
          <a:ext cx="613404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355840"/>
                    <a:ext cx="6134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671480" y="4748040"/>
          <a:ext cx="62978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1480" y="4748040"/>
                    <a:ext cx="62978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128240"/>
            <a:ext cx="8683920" cy="48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is the percentage of each element in a compound (by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can be determined from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percentages may not always total to 100% due to 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984240" y="3289320"/>
          <a:ext cx="603720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289320"/>
                    <a:ext cx="60372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160" y="2106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240" y="996480"/>
            <a:ext cx="88390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% Composition from the chemical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olar mass of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is value by the molar mass of the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The % Composition of sodium in tabl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lar mass of NaCl is 58.44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is 1 atom of Na in each NaCl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atomic mass of Na is 22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204840" y="2946240"/>
          <a:ext cx="8510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946240"/>
                    <a:ext cx="851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835200" y="5743440"/>
          <a:ext cx="7438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5743440"/>
                    <a:ext cx="7438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32184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following % Composition calc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arbon in carbon 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oxygen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hlorine in sodium hypochl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51920" y="293760"/>
            <a:ext cx="670572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adeo Avogadro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2280" y="135216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ian lawyer turned chem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contribution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difference between atoms &amp; molec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&amp; nitrogen exist as molecu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ed the work of Dalton &amp; Guy-Lus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vogadro’s Princi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vogadro did not determine Avogadro’s number nor the mo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concepts cam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 is honored because the molar volume of all gases should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Avogadro’s work was acknowledged after he died, by Stanislao Canniza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6959520" y="48888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Chemic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Intro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833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quations are used to  symbolically describe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hemical equation (or reaction for that matter) the substances that undergo chemical change(s)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substances formed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representation of a chemic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(s)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Produc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produc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+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ined number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chemical equations indicate the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each reactant &amp; product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qu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79000" y="262080"/>
            <a:ext cx="84582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w of Mass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amp; John Dalton!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ter is never created nor destroyed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of the at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eactants of a chemical reaction must be accounted for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Process of Balancing Chemical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his is the unbalanced chemical eq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nt the number of each atom for each compound for each reactant &amp; produc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balance one atom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eat until all atoms are balanced for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w you should have a balanced chemical equ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the unbalanced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balance the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Reac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Hint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82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reat the whole ion as a “unit” when balancing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nitrate io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gets swapped between the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in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eated as a whole unit when balancing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236844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ottom Line: The Scientific Attitu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“Matter is made up of tiny particles called 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mmon Classifications for Chemical Reac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(or Synthesi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reactants combine to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mposi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s down into small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one reactant is displaced and combined with another rea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Zn(s) + 2H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ZnC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two reactants is displaced and ex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Na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gCl(s) + Na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Acid-base neu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Formation of insoluble products (Precipitation re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Metal oxide +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Ga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on-Reduction Rea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ctions involving the transfer or rearrangement of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mbination &amp; Decomposi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34720" y="863280"/>
            <a:ext cx="8654760" cy="57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chemicals combine to ma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r Synthesi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+ Nonmetal reactions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between Metals or Nonmetals with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se two types of Combination Reactions are also subclasses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xidation-Reduc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down into smaller molecule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generally initiated by the addition of energy (via electric current or he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the opposite of Combina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Cl(l)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2 Na(l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isplacement reactions involve one part of a reactant being transferred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pattern of the single displacemen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Y +  A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 + AY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Aci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lt +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n(s) + 2 HCl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2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Water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ydrogen + Metal Oxid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or metal hydrox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 Fe(s) +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3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 Al(s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Fe(s) + A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4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logen + Halide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alogen + Halid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Br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B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C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Displacement Reactions involve the double exchange of a component (such as ions) between two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double displacement reaction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X, Y, A, and B are the components of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1:  Acid Base Neu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OH)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2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2:  Metal Oxide +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+ 2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3:  Formation of an Insoluble Precipitate (Precip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4:  Formation of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aq) +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92880" y="3340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69160" y="4267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8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500"/>
                                        <p:tgtEl>
                                          <p:spTgt spid="8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olubility &amp; Precipita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52280" y="898200"/>
            <a:ext cx="87631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solutions are combined and result in the formation of an insoluble pro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not dissolve in the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form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lu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rinsic physical property and a measure of how well a substance (solute) will dissolve in another substance (sol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s temperatu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d water than hot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NaCl is 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insoluble if no appreciable amount of it will dissolve in sol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AgCl is in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tion (formation of an insoluble solid) is one indication that a chemical change has occur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Rules for Solubil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8160" y="99216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, except AgCl, 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, except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b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lightly soluble (will precipitate), except NaOH, KOH, are soluble and 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erately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lightly soluble (will precipi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8926560" cy="56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that involve transfer or rearrangement of elec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ation-reduction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s of oxidation-reduc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Nonmetal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Na(s) + Cl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NaC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 loses an electron(s) and becomes a cat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xida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metal gets oxid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metal gains an electron(s) and becomes an an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duc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nonmetal gets reduced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electrons are transferred from the metal to the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s a reactant or product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)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+ 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it is not obvious that electron transfer has taken place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this case, oxidation states are a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is type of reaction involves the release of large amounts of energy, even combu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8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8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tes of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a chemical reaction occurs is indicated by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ors that influence 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28120" y="2556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Role of 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2280" y="1049400"/>
            <a:ext cx="883944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transformations always accompany chemical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quired to break bonds (energy absorbed 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ctivation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when bonds ar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 amount of energy required to break a chemical bond is the same as the energy released when that type of bond is formed, this is called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emical reaction to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ust be absorbed in order to break chemical bonds in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as new bonds are formed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93 k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5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685800" y="933480"/>
            <a:ext cx="6705720" cy="2743200"/>
            <a:chOff x="685800" y="933480"/>
            <a:chExt cx="6705720" cy="2743200"/>
          </a:xfrm>
        </p:grpSpPr>
        <p:sp>
          <p:nvSpPr>
            <p:cNvPr id="828" name=""/>
            <p:cNvSpPr/>
            <p:nvPr/>
          </p:nvSpPr>
          <p:spPr>
            <a:xfrm>
              <a:off x="2971800" y="13906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971440" y="3676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8800" y="128268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048120" y="1348920"/>
              <a:ext cx="3505320" cy="1794240"/>
              <a:chOff x="3048120" y="1348920"/>
              <a:chExt cx="3505320" cy="1794240"/>
            </a:xfrm>
          </p:grpSpPr>
          <p:sp>
            <p:nvSpPr>
              <p:cNvPr id="832" name=""/>
              <p:cNvSpPr/>
              <p:nvPr/>
            </p:nvSpPr>
            <p:spPr>
              <a:xfrm>
                <a:off x="3048120" y="23050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29200" y="314316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5029200" y="23050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35" name=""/>
              <p:cNvCxnSpPr>
                <a:endCxn id="834" idx="0"/>
              </p:cNvCxnSpPr>
              <p:nvPr/>
            </p:nvCxnSpPr>
            <p:spPr>
              <a:xfrm flipV="1">
                <a:off x="4572000" y="228996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36" name=""/>
            <p:cNvSpPr/>
            <p:nvPr/>
          </p:nvSpPr>
          <p:spPr>
            <a:xfrm>
              <a:off x="3048120" y="193824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1840" y="32194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48320" y="2305080"/>
              <a:ext cx="205740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00600" y="1390680"/>
              <a:ext cx="0" cy="9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24640" y="139068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3600" y="230508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91320" y="245736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5800" y="93348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5800" y="3753000"/>
            <a:ext cx="6781320" cy="2743200"/>
            <a:chOff x="685800" y="3753000"/>
            <a:chExt cx="6781320" cy="2743200"/>
          </a:xfrm>
        </p:grpSpPr>
        <p:sp>
          <p:nvSpPr>
            <p:cNvPr id="845" name=""/>
            <p:cNvSpPr/>
            <p:nvPr/>
          </p:nvSpPr>
          <p:spPr>
            <a:xfrm>
              <a:off x="2971440" y="421020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971440" y="6496200"/>
              <a:ext cx="434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28440" y="410220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3047760" y="4438080"/>
              <a:ext cx="3428280" cy="1086480"/>
              <a:chOff x="3047760" y="4438080"/>
              <a:chExt cx="3428280" cy="1086480"/>
            </a:xfrm>
          </p:grpSpPr>
          <p:sp>
            <p:nvSpPr>
              <p:cNvPr id="849" name=""/>
              <p:cNvSpPr/>
              <p:nvPr/>
            </p:nvSpPr>
            <p:spPr>
              <a:xfrm>
                <a:off x="3047760" y="550584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952520" y="497232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952520" y="4667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2" name=""/>
              <p:cNvCxnSpPr>
                <a:stCxn id="849" idx="0"/>
                <a:endCxn id="851" idx="0"/>
              </p:cNvCxnSpPr>
              <p:nvPr/>
            </p:nvCxnSpPr>
            <p:spPr>
              <a:xfrm flipH="1" flipV="1" rot="5400000">
                <a:off x="4323240" y="489564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53" name=""/>
            <p:cNvSpPr/>
            <p:nvPr/>
          </p:nvSpPr>
          <p:spPr>
            <a:xfrm>
              <a:off x="3047760" y="54439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81480" y="459144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47960" y="5505840"/>
              <a:ext cx="205704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00240" y="4438800"/>
              <a:ext cx="0" cy="10670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0040" y="439128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43240" y="4972320"/>
              <a:ext cx="0" cy="5335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67280" y="497232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5800" y="375300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8T19:47:54Z</dcterms:modified>
  <cp:revision>179</cp:revision>
  <dc:subject/>
  <dc:title>Phy 211: General Physics I</dc:title>
</cp:coreProperties>
</file>