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0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2.wmf" ContentType="image/x-wmf"/>
  <Override PartName="/ppt/media/image20.jpeg" ContentType="image/jpeg"/>
  <Override PartName="/ppt/media/image19.jpeg" ContentType="image/jpe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10.wmf" ContentType="image/x-wmf"/>
  <Override PartName="/ppt/media/image30.wmf" ContentType="image/x-wmf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6A0B10-7EF5-4DE2-AA32-DBD83C8F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due to collisions must be great enough to overcome the energy barrier for existing chemical bonds.  The magnitude of this energy is referred to as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A83-231A-4177-B33D-71D7E918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B72-DAC8-47BA-9D46-0BC6C153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999-D151-435B-A4A8-7F52879D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BFC-E295-4769-B90D-585D209C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6F7B-BC37-4CF8-8FF5-20700016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BA4-907A-4F5E-9641-8381D743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06D-5237-4CE8-8A87-33F746DF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33E-13A6-49B6-931B-C3D89145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F7A-9FA2-494A-B03B-A1736ABE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D52-0F80-474C-B686-7ABACF98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4F9-FB1E-4970-AC2A-C1B98BD5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2F6-3C3C-4BB9-A2E0-5301AB4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0DB6-8BDD-4535-94D3-18F732E08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ticulate Nature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the tangible substance of nature,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anything with mass that occupie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most fundamental level, matter is discrete or particulate in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st, most basic units of matter are called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tter is thus comprised of individual atoms, or specific combinations of atoms calle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can be broken apart into their constituent atoms but atoms cannot be further broken apart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and still retain the properties of ma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can exist in one or more physical states (or ph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React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228600" y="1060560"/>
            <a:ext cx="8534520" cy="5140080"/>
            <a:chOff x="228600" y="1060560"/>
            <a:chExt cx="8534520" cy="5140080"/>
          </a:xfrm>
        </p:grpSpPr>
        <p:sp>
          <p:nvSpPr>
            <p:cNvPr id="863" name=""/>
            <p:cNvSpPr/>
            <p:nvPr/>
          </p:nvSpPr>
          <p:spPr>
            <a:xfrm>
              <a:off x="2303640" y="1819440"/>
              <a:ext cx="0" cy="438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2286000" y="6200640"/>
              <a:ext cx="615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197000" y="1898640"/>
              <a:ext cx="1604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2651040" y="3220920"/>
              <a:ext cx="5959440" cy="1957680"/>
              <a:chOff x="2651040" y="3220920"/>
              <a:chExt cx="5959440" cy="1957680"/>
            </a:xfrm>
          </p:grpSpPr>
          <p:sp>
            <p:nvSpPr>
              <p:cNvPr id="867" name=""/>
              <p:cNvSpPr/>
              <p:nvPr/>
            </p:nvSpPr>
            <p:spPr>
              <a:xfrm flipV="1">
                <a:off x="2651040" y="3571560"/>
                <a:ext cx="258300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770440" y="5178600"/>
                <a:ext cx="284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5770440" y="3571560"/>
                <a:ext cx="0" cy="160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70" name=""/>
              <p:cNvCxnSpPr>
                <a:endCxn id="869" idx="0"/>
              </p:cNvCxnSpPr>
              <p:nvPr/>
            </p:nvCxnSpPr>
            <p:spPr>
              <a:xfrm flipV="1">
                <a:off x="5234040" y="3552480"/>
                <a:ext cx="536760" cy="21600"/>
              </a:xfrm>
              <a:prstGeom prst="curvedConnector5">
                <a:avLst>
                  <a:gd name="adj1" fmla="val 10738"/>
                  <a:gd name="adj2" fmla="val 830508"/>
                  <a:gd name="adj3" fmla="val 10738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71" name=""/>
            <p:cNvSpPr/>
            <p:nvPr/>
          </p:nvSpPr>
          <p:spPr>
            <a:xfrm>
              <a:off x="2819520" y="3166920"/>
              <a:ext cx="20350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Na(s) + 2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(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027840" y="5245200"/>
              <a:ext cx="26622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NaOH(aq) + 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22960" y="3571920"/>
              <a:ext cx="240804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3228840"/>
              <a:ext cx="0" cy="3430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14960" y="2543040"/>
              <a:ext cx="18716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33"/>
                  </a:solidFill>
                  <a:latin typeface="Arial"/>
                </a:rPr>
                <a:t>Low Activation Energy (E</a:t>
              </a:r>
              <a:r>
                <a:rPr b="0" lang="en-US" sz="1600" spc="-1" strike="noStrike" baseline="-25000">
                  <a:solidFill>
                    <a:srgbClr val="990033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990033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40360" y="3571920"/>
              <a:ext cx="0" cy="160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89680" y="4079880"/>
              <a:ext cx="1873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arge amount of Energy Releas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8600" y="1060560"/>
              <a:ext cx="6334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ample: Sodium Water Rea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486400" y="3244680"/>
              <a:ext cx="99072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316480" y="4340160"/>
              <a:ext cx="40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38268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talys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30040" y="1036800"/>
            <a:ext cx="8761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yst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tances that speed up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reactions to occur that might not otherwise take place (due to low temperature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activation energy for a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of catalysts in a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undergo a chemical change as a reactant but they are always recycled as a product (so there is no net change in the catalyst molec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ysts are indicated in a chemical reaction by placing the chemical formula over/under the reaction a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ctants  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breakdown of 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213080" y="500220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t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1735200" y="5975280"/>
          <a:ext cx="5237280" cy="6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5975280"/>
                    <a:ext cx="52372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talysts &amp; Energy i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228600" y="1208160"/>
            <a:ext cx="8420040" cy="4798800"/>
            <a:chOff x="228600" y="1208160"/>
            <a:chExt cx="8420040" cy="4798800"/>
          </a:xfrm>
        </p:grpSpPr>
        <p:sp>
          <p:nvSpPr>
            <p:cNvPr id="888" name=""/>
            <p:cNvSpPr/>
            <p:nvPr/>
          </p:nvSpPr>
          <p:spPr>
            <a:xfrm>
              <a:off x="2265840" y="1916640"/>
              <a:ext cx="0" cy="409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2248200" y="6006960"/>
              <a:ext cx="60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79360" y="1990440"/>
              <a:ext cx="157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2606760" y="3552480"/>
              <a:ext cx="2535840" cy="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69640" y="5052600"/>
              <a:ext cx="278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5669640" y="3552480"/>
              <a:ext cx="0" cy="149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"/>
            <p:cNvCxnSpPr>
              <a:endCxn id="893" idx="0"/>
            </p:cNvCxnSpPr>
            <p:nvPr/>
          </p:nvCxnSpPr>
          <p:spPr>
            <a:xfrm flipV="1">
              <a:off x="5142960" y="3534120"/>
              <a:ext cx="526680" cy="19800"/>
            </a:xfrm>
            <a:prstGeom prst="curvedConnector5">
              <a:avLst>
                <a:gd name="adj1" fmla="val 10738"/>
                <a:gd name="adj2" fmla="val 829629"/>
                <a:gd name="adj3" fmla="val 10738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895" name=""/>
            <p:cNvSpPr/>
            <p:nvPr/>
          </p:nvSpPr>
          <p:spPr>
            <a:xfrm>
              <a:off x="2772360" y="3174480"/>
              <a:ext cx="199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327720" y="4686120"/>
              <a:ext cx="163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85080" y="3537720"/>
              <a:ext cx="2364120" cy="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839920" y="3232440"/>
              <a:ext cx="0" cy="3200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65440" y="2823120"/>
              <a:ext cx="2188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with</a:t>
              </a: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28600" y="1208160"/>
              <a:ext cx="621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Catalysts lower Activation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1" name=""/>
            <p:cNvCxnSpPr>
              <a:stCxn id="891" idx="0"/>
              <a:endCxn id="893" idx="1"/>
            </p:cNvCxnSpPr>
            <p:nvPr/>
          </p:nvCxnSpPr>
          <p:spPr>
            <a:xfrm flipH="1" rot="16200000">
              <a:off x="5405400" y="3271320"/>
              <a:ext cx="1800" cy="526680"/>
            </a:xfrm>
            <a:prstGeom prst="curvedConnector5">
              <a:avLst>
                <a:gd name="adj1" fmla="val -104000000"/>
                <a:gd name="adj2" fmla="val 50000"/>
                <a:gd name="adj3" fmla="val -104000000"/>
              </a:avLst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902" name=""/>
            <p:cNvSpPr/>
            <p:nvPr/>
          </p:nvSpPr>
          <p:spPr>
            <a:xfrm>
              <a:off x="5397120" y="3220560"/>
              <a:ext cx="1056240" cy="0"/>
            </a:xfrm>
            <a:prstGeom prst="line">
              <a:avLst/>
            </a:prstGeom>
            <a:ln cap="rnd" w="3816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09720" y="2002320"/>
              <a:ext cx="105660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368400" y="1751760"/>
              <a:ext cx="2280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withou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398560" y="2011320"/>
              <a:ext cx="29520" cy="153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9: Calculations from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(Sections 9.1 to 9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28600" y="530280"/>
            <a:ext cx="868680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: What do they tell us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74240" y="1352160"/>
            <a:ext cx="8836200" cy="42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ly written chemical equation will provide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actants &amp; products involved 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state of all reactant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f any catalysts involved in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quantity of all reactant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 to molecul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 to mol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mass to mass ratios can be determined (with use of molar mass val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formation Given by the Chemical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2280" y="968040"/>
            <a:ext cx="8839440" cy="457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anced chemical equation provides the relationship between the relative numbers of reacting molecules and product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The formation of carbon dioxide from carbon monoxide and oxy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 this chemical equation, it is indicated that 2 CO molecules react with every 1 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molecule to produce 2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lternative interpretation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there is a 2:1 (numerical) ratio of CO to O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for this completed reaction,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2 CO:1 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:2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3" dur="500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8" dur="500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3" dur="500"/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8" dur="500"/>
                                        <p:tgtEl>
                                          <p:spTgt spid="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ation of the Chemical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41120" y="1158480"/>
            <a:ext cx="8839440" cy="51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information given in a balanced chemical reaction is rel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 CO + 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2 C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are alternative interpretations of the chemical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 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react with 100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00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illion CO molecules react with 1 billion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0 billion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oles CO molecules react with 1 mole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 mole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les CO molecules react with 6 moles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12 mole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The coefficients in the balanced chemical equation also shows the molecules and mole ratio of the reactants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moles can be converted to masses, we can determine the mass ratio of the reactants and produc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5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0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0" dur="500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5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0" dur="500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5" dur="500"/>
                                        <p:tgtEl>
                                          <p:spTgt spid="9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9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80880" y="286920"/>
            <a:ext cx="860112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 and Mass Ratios in Chemical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4560" y="1076040"/>
            <a:ext cx="8381880" cy="55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following chemical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ole relations are impl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 moles CO : 1 mole O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: 2 moles CO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e molar masses of the compounds in this re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of CO = 28.0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2.0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4.0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he mass ratio of the compounds in this reaction can be determined using the molar mass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2(28.01) g CO : 1(32.00) g O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: 2(44.01) g CO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mass ratio of the compounds in this reac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6.02 g CO : 32.00 g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: 88.02 g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2" dur="5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7" dur="500"/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2" dur="500"/>
                                        <p:tgtEl>
                                          <p:spTgt spid="9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7" dur="500"/>
                                        <p:tgtEl>
                                          <p:spTgt spid="9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2" dur="500"/>
                                        <p:tgtEl>
                                          <p:spTgt spid="9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7" dur="500"/>
                                        <p:tgtEl>
                                          <p:spTgt spid="9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2" dur="500"/>
                                        <p:tgtEl>
                                          <p:spTgt spid="9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/>
          </p:nvPr>
        </p:nvSpPr>
        <p:spPr>
          <a:xfrm>
            <a:off x="152280" y="2185560"/>
            <a:ext cx="883944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balanced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efficients to find the mole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moles CO : 1 mol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: 2 moles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mensional analysis to obtain the #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mol of 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mo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0240" y="885960"/>
            <a:ext cx="911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Number of Moles of Carbon Monoxide required to react with 3.2 moles Oxygen, and the moles of Carbon Dioxide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2873520" y="4408560"/>
          <a:ext cx="578628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3520" y="4408560"/>
                    <a:ext cx="57862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1" name=""/>
          <p:cNvGraphicFramePr/>
          <p:nvPr/>
        </p:nvGraphicFramePr>
        <p:xfrm>
          <a:off x="2460600" y="5659560"/>
          <a:ext cx="649440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0600" y="5659560"/>
                    <a:ext cx="64944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4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9" dur="5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4" dur="500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9" dur="500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9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9" dur="500"/>
                                        <p:tgtEl>
                                          <p:spTgt spid="9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4" dur="500"/>
                                        <p:tgtEl>
                                          <p:spTgt spid="9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222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→  Liquid  →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60560" y="99072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3480" y="99072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←  Liquid  ←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84480" y="586728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0280" y="5851440"/>
            <a:ext cx="990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" y="2001960"/>
            <a:ext cx="864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32000" y="200196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Sh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76400" y="2001960"/>
            <a:ext cx="1258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1040" y="2001960"/>
            <a:ext cx="1623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96640" y="2001960"/>
            <a:ext cx="770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9200" y="1981080"/>
            <a:ext cx="13557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496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496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4320" y="1981080"/>
            <a:ext cx="149400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783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783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783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87680" y="1981080"/>
            <a:ext cx="18255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1324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1324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1324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22960" y="1981080"/>
            <a:ext cx="18511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408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7408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740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83440" y="1981080"/>
            <a:ext cx="140508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885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885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885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885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885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885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90800"/>
            <a:ext cx="972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496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7832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3240" y="1990800"/>
            <a:ext cx="972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408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74080" y="1990800"/>
            <a:ext cx="0" cy="67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8852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268596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49120" y="268596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45520" y="3036960"/>
            <a:ext cx="8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55360" y="268596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25480" y="3036960"/>
            <a:ext cx="109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76600" y="268596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3840" y="268596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6668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6668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9200" y="2666880"/>
            <a:ext cx="13557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496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496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496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4320" y="2666880"/>
            <a:ext cx="149400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7832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7832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7832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87680" y="2666880"/>
            <a:ext cx="18255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3240" y="26668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13240" y="26668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1324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2960" y="2666880"/>
            <a:ext cx="18511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7408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7408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7408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3440" y="2666880"/>
            <a:ext cx="140508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8852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8852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8852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676600"/>
            <a:ext cx="972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496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7832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13240" y="2676600"/>
            <a:ext cx="972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7408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74080" y="2676600"/>
            <a:ext cx="0" cy="70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8852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2320" y="3397320"/>
            <a:ext cx="88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4520" y="339732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32560" y="3747960"/>
            <a:ext cx="13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03400" y="409896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5360" y="339732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25480" y="3747960"/>
            <a:ext cx="109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76600" y="339732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63720" y="339732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378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378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9200" y="3378240"/>
            <a:ext cx="13557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496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496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496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4320" y="3378240"/>
            <a:ext cx="149400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832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7832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7832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87680" y="3378240"/>
            <a:ext cx="18255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13240" y="3378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13240" y="3378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324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22960" y="3378240"/>
            <a:ext cx="18511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7408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7408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7408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83440" y="3378240"/>
            <a:ext cx="140508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8852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852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8852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387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496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7832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3240" y="3387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7408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74080" y="3387600"/>
            <a:ext cx="0" cy="10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58852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00" y="4457880"/>
            <a:ext cx="54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4520" y="445788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32560" y="4808520"/>
            <a:ext cx="13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03400" y="515952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60760" y="445788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12160" y="480852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9640" y="515952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06480" y="445788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63720" y="445788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440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4440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9200" y="4440240"/>
            <a:ext cx="13557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496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496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7496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4320" y="4440240"/>
            <a:ext cx="149400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7832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7832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7832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87680" y="4440240"/>
            <a:ext cx="18255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13240" y="4440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13240" y="4440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1324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440240"/>
            <a:ext cx="18511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7408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7408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7408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83440" y="4440240"/>
            <a:ext cx="140508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8852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8852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8852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449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9200" y="5502240"/>
            <a:ext cx="13557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496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496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496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4320" y="5502240"/>
            <a:ext cx="149400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7832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783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783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87680" y="5502240"/>
            <a:ext cx="18255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87680" y="5502240"/>
            <a:ext cx="182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13240" y="4449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1324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1324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1324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22960" y="5502240"/>
            <a:ext cx="18511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7408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7408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7408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740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83440" y="5502240"/>
            <a:ext cx="140508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58852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09480" y="1981080"/>
            <a:ext cx="7979040" cy="3521160"/>
            <a:chOff x="609480" y="1981080"/>
            <a:chExt cx="7979040" cy="3521160"/>
          </a:xfrm>
        </p:grpSpPr>
        <p:sp>
          <p:nvSpPr>
            <p:cNvPr id="257" name=""/>
            <p:cNvSpPr/>
            <p:nvPr/>
          </p:nvSpPr>
          <p:spPr>
            <a:xfrm>
              <a:off x="5313240" y="1990800"/>
              <a:ext cx="0" cy="6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09480" y="1981080"/>
              <a:ext cx="7979040" cy="3521160"/>
              <a:chOff x="609480" y="1981080"/>
              <a:chExt cx="7979040" cy="3521160"/>
            </a:xfrm>
          </p:grpSpPr>
          <p:sp>
            <p:nvSpPr>
              <p:cNvPr id="259" name=""/>
              <p:cNvSpPr/>
              <p:nvPr/>
            </p:nvSpPr>
            <p:spPr>
              <a:xfrm>
                <a:off x="619200" y="198108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84320" y="198108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87680" y="198108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22960" y="198108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3440" y="198108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948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7496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7832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8852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9200" y="266688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84320" y="266688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87680" y="266688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322960" y="266688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83440" y="266688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948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7496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832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324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8852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9200" y="3378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4320" y="3378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87680" y="337824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22960" y="3378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83440" y="3378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948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7496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7832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1324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58852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9200" y="4440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4320" y="4440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87680" y="444024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22960" y="4440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83440" y="4440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948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9200" y="5502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496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4320" y="5502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7832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1324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22960" y="5502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7408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83440" y="5502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58852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85885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885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885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885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5885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885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6880" y="5510160"/>
            <a:ext cx="3600" cy="1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Librari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87160" y="299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assification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1600" y="927000"/>
            <a:ext cx="86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can be classified as either Pure or Imp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le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posed of only one type of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d of either individual atoms or molecules (e.g.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mpoun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sed of more than one type of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re (or mix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omogeneo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form throughout, appears to be one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sub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 (single phase homogeneous mix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ions (multi-phase homogeneous mix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eterogeneo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-uniform, contains regions with different properties than other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709800" y="2723760"/>
            <a:ext cx="5248440" cy="1815840"/>
            <a:chOff x="3709800" y="2723760"/>
            <a:chExt cx="5248440" cy="1815840"/>
          </a:xfrm>
        </p:grpSpPr>
        <p:grpSp>
          <p:nvGrpSpPr>
            <p:cNvPr id="313" name=""/>
            <p:cNvGrpSpPr/>
            <p:nvPr/>
          </p:nvGrpSpPr>
          <p:grpSpPr>
            <a:xfrm>
              <a:off x="3709800" y="2723760"/>
              <a:ext cx="5248440" cy="1815840"/>
              <a:chOff x="3709800" y="2723760"/>
              <a:chExt cx="5248440" cy="1815840"/>
            </a:xfrm>
          </p:grpSpPr>
          <p:sp>
            <p:nvSpPr>
              <p:cNvPr id="314" name=""/>
              <p:cNvSpPr/>
              <p:nvPr/>
            </p:nvSpPr>
            <p:spPr>
              <a:xfrm>
                <a:off x="6333840" y="316044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67280" y="336996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00760" y="336996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67280" y="3369960"/>
                <a:ext cx="1366560" cy="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3840" y="3369960"/>
                <a:ext cx="1366920" cy="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09800" y="3579480"/>
                <a:ext cx="2514600" cy="960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71960" y="3614400"/>
                <a:ext cx="1823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Pure Substanc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23920" y="3876480"/>
                <a:ext cx="2321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00"/>
                    </a:solidFill>
                    <a:latin typeface="Arial"/>
                  </a:rPr>
                  <a:t>Constant Composi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50800" y="4138200"/>
                <a:ext cx="1677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Homogeneous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09800" y="3579480"/>
                <a:ext cx="2514600" cy="9601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43640" y="3579480"/>
                <a:ext cx="2514600" cy="960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14120" y="3614400"/>
                <a:ext cx="858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Mixtur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66680" y="3876480"/>
                <a:ext cx="2480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Variable Composition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43640" y="3579480"/>
                <a:ext cx="2514600" cy="9601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76720" y="2723760"/>
                <a:ext cx="2514600" cy="436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12720" y="2758680"/>
                <a:ext cx="724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Matter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76720" y="2723760"/>
                <a:ext cx="2514600" cy="4363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"/>
            <p:cNvCxnSpPr>
              <a:stCxn id="330" idx="2"/>
              <a:endCxn id="323" idx="0"/>
            </p:cNvCxnSpPr>
            <p:nvPr/>
          </p:nvCxnSpPr>
          <p:spPr>
            <a:xfrm rot="5400000">
              <a:off x="5456520" y="2686320"/>
              <a:ext cx="387720" cy="1367280"/>
            </a:xfrm>
            <a:prstGeom prst="bentConnector3">
              <a:avLst>
                <a:gd name="adj1" fmla="val 4953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30" idx="2"/>
              <a:endCxn id="327" idx="0"/>
            </p:cNvCxnSpPr>
            <p:nvPr/>
          </p:nvCxnSpPr>
          <p:spPr>
            <a:xfrm flipH="1" rot="16200000">
              <a:off x="6822720" y="2685960"/>
              <a:ext cx="387720" cy="1367640"/>
            </a:xfrm>
            <a:prstGeom prst="bentConnector3">
              <a:avLst>
                <a:gd name="adj1" fmla="val 49535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paration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1880" y="954000"/>
            <a:ext cx="8266320" cy="53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re substan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broken down into its component substances by physical means only by a chem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eakdown of a pure substance results in formation of new substances (i.e. chemical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ure substance there is nothing to separate (its only 1 substance to begin w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separat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(and also by chemical methods,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general methods of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: separation based on phys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fu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: separation based on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easurements &amp;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Observ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4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ve/subjective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qualities such as color, tas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:  “It is really warm outside to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by a number and a unit (an accepted reference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tes on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scribed with a value (number) &amp; a unit (reference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th the value and unit are of equal importance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value indicates a measurement’s size (based on its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unit indicates a measurement’s relationship to other physical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: “The temperature is 8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 outside to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pplication of Scientific Not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771480"/>
            <a:ext cx="8991720" cy="597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riting numbers in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ocate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ove the decimal point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of the non-zero digit in the larges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new number is now between 1 and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ultiply the new number by 10</a:t>
            </a:r>
            <a:r>
              <a:rPr b="1" i="1" lang="en-US" sz="2000" spc="-1" strike="noStrike" baseline="30000">
                <a:solidFill>
                  <a:srgbClr val="0000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number of places you moved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termine the sign on the exponen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moved lef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moved righ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not moved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riting Scientific Notation numbers in Convention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termine the sign o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of 10</a:t>
            </a:r>
            <a:r>
              <a:rPr b="0" i="1" lang="en-US" sz="2000" spc="-1" strike="noStrike" baseline="30000">
                <a:solidFill>
                  <a:srgbClr val="cc0066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is + the decimal point will move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is – the decimal point will move to th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termine the value of the exponent o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Tells the number of places to move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ove the decimal point and rewrite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3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3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3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3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3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3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3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400" y="1116000"/>
            <a:ext cx="790920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standard unit systems we will 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nited States Customary System (US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ly the British system of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US, Albania, and a couple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units are defined but seem arbitrary (e.g. there are 12 inches in 1 fo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mos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in France during Napoleon’s re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related by powers of 10 (e.g. there are 1000 meters in 1 kilo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I (L’Systeme Internation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-set set of 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scientists and most science text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 the most practical unit system for la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s &amp; the Metric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7794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its in the metric system are related to the fundamental unit by a power of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 of 10 is indicated by a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fixes are always the same, regardless of the fundamenta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easurement has a specific metric unit (i.e. 25 cm) it can be expressed using different metric un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ing its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25 cm is the same as 0.25 m or even 250 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ice of measurement unit is somewhat arbitrary, what is important is the observation it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8160" y="309240"/>
            <a:ext cx="891540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, Uncertainty &amp; Significant Figur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17520" y="1007640"/>
            <a:ext cx="8826480" cy="55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always has some amount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 comes from limitations of the techniques used fo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how reliable a measurement is, we need to understand the limitations of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dicate the uncertainty of a single measurement scientists use a system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digit written in a measurement is the number that is considered to be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stated otherwise, the uncertainty in the last digit is ±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 cm  uncertainty: 0.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0 cm  uncertainty: 0.0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00 cm  uncertainty: 0.00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Chemistr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is often described as the “central”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is the study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the “stuff” that makes up the universe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i.e. anything that has mass and occupie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damental questions of Chemistry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atter be describ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one type of matter interact with other typ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matter transform into other form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ules for Counting Significant Figur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70000" y="846000"/>
            <a:ext cx="8874000" cy="60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zero integers are always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 zeros never count as significa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ive zeros are always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ing zeros are significant if the number has a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 numbers have an unlimited number of significa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ules for Rounding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igit to be removed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ess than 5, the preceding digit stay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qual to or greater than 5, the preceding digit is increased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a series of calculations, carry the extra digits to the final result and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roun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on’t forget to add place-holding zeros if necessary to keep value the sam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3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25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ct Numbe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3120" y="1019160"/>
            <a:ext cx="8570880" cy="577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umbers that are assumed to have unlimited number of significant figures are considered to be known with “absolute” certain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do not need to consider or count significant figures for exact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re conside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H1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unting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sides on a 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apples on a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efined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those used for conversion factor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 cm = 1 m, 12 in = 1 ft, 1 in = 2.5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kg = 1000 g, 1 LB = 16 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0 mL = 1 L; 1 gal = 4 q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inute =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umbers or cons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 eq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 = 3x +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oth the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the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re exac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verting between Unit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units from one unit system to another (especially within the Metric system) can appear daunting at first glance.  However, with a little guidance, and a lot of practice, you can develop the necessary skill set to master thi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gin, here is a simple mnemonic to guide you through the unit conversion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i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it conversions, regardless of how complex they appear, involve these 3 simple steps.   In the following sections, you will be stepped through the unit conversion process using these 3 words as a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:  Unit Convers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25.0 m to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1.26 g to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tric Prefix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74600" y="1538280"/>
            <a:ext cx="8793360" cy="41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the quantity of matter in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measured in units of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d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 how much volume something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logram (kg) unit is the preferred unit of mass in the SI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ilogram is equal to the mass of a platinum-iridium cylinder kept in a vault at Sevres,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g has the weight equivalent (on Earth) of 2.205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on of Mass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quantity of mass is never created nor destroyed during a chem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tinguishing Mass vs. We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280" y="2520720"/>
            <a:ext cx="4765680" cy="437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is a fundamental property of matter,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it is the amount of “stuff” in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represents an object’s inertia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(tendency to resist change in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is the same everywhere in the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 Units of mass are kilogram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35360" y="2526840"/>
            <a:ext cx="424512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is the effect (or force) of gravity on an object’s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depends on location (&amp; local gra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 fundamental property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 units of weight are newtons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CS units are pounds (l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9280" y="963720"/>
            <a:ext cx="85647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mass and weight are commonly used interchangeably but they are fundamentally differ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re some important differences between mass and we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2280" y="858600"/>
            <a:ext cx="8839440" cy="57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is the 3-dimensional space that an object occu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Un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 for volume is the cubic meter, or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ters x meters x me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common metric unit of volume is the Liter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boratory, the milliliter (mL) is often more conven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mass and volume are not the same thing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try not to confuse them…).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wo objects with the same volume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(e.g. a pillow &amp; a sack of potatoes can have different masses and vice ver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89000" y="3376440"/>
            <a:ext cx="4792680" cy="2228400"/>
            <a:chOff x="189000" y="3376440"/>
            <a:chExt cx="4792680" cy="2228400"/>
          </a:xfrm>
        </p:grpSpPr>
        <p:sp>
          <p:nvSpPr>
            <p:cNvPr id="366" name=""/>
            <p:cNvSpPr/>
            <p:nvPr/>
          </p:nvSpPr>
          <p:spPr>
            <a:xfrm>
              <a:off x="1789200" y="3376440"/>
              <a:ext cx="1909800" cy="1609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47800" y="5089320"/>
              <a:ext cx="1651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30720" y="465624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wid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000" y="413208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59240" y="3892320"/>
              <a:ext cx="0" cy="9684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1811160" y="5156280"/>
              <a:ext cx="1460520" cy="14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3420720" y="4727520"/>
              <a:ext cx="314280" cy="368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944960" y="3687840"/>
            <a:ext cx="3676680" cy="1484280"/>
            <a:chOff x="4944960" y="3687840"/>
            <a:chExt cx="3676680" cy="1484280"/>
          </a:xfrm>
        </p:grpSpPr>
        <p:sp>
          <p:nvSpPr>
            <p:cNvPr id="374" name=""/>
            <p:cNvSpPr/>
            <p:nvPr/>
          </p:nvSpPr>
          <p:spPr>
            <a:xfrm>
              <a:off x="4944960" y="417996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414840" y="3940200"/>
              <a:ext cx="0" cy="9684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8176680" y="4775400"/>
              <a:ext cx="314280" cy="368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97720" y="3724200"/>
              <a:ext cx="2023920" cy="1447920"/>
            </a:xfrm>
            <a:prstGeom prst="can">
              <a:avLst>
                <a:gd name="adj" fmla="val 35527"/>
              </a:avLst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24720" y="3741840"/>
              <a:ext cx="1992240" cy="4572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53240" y="368784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0" name=""/>
          <p:cNvGraphicFramePr/>
          <p:nvPr/>
        </p:nvGraphicFramePr>
        <p:xfrm>
          <a:off x="2814480" y="2154240"/>
          <a:ext cx="216216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154240"/>
                    <a:ext cx="21621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2792520" y="2820960"/>
          <a:ext cx="233352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2520" y="2820960"/>
                    <a:ext cx="23335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4200" y="425520"/>
            <a:ext cx="756288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6160" y="835200"/>
            <a:ext cx="874080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perty of matter representing the mass per unit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al volumes, a denser object has greater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al masses, a denser object has smaller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ly used 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lids = g/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quids =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ases = 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Notes on Den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a solid can be determined by water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 of matter in various states:  solids &gt; liquids &gt;&gt;&gt; ga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xception: 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heterogeneous mixture, the denser matter will tend to sink to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433840" y="3278160"/>
          <a:ext cx="33418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3840" y="3278160"/>
                    <a:ext cx="3341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81040" y="457200"/>
            <a:ext cx="7980480" cy="617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30592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jor Developments in Chemistry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00 B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mocritus proposed the concept of the “ato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300 B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istotle developed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ehensive model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700 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inese alchemists invent gun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6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Boyle proposed the concept of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0-9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avoisier proposed the concept of compounds &amp; the Law of Mass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estly isolates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9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ust proposed the Law of Definite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ton re-introduces the concept of the atom and establishes Dalton’s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deleev creates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iod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 proposes the “nuclear” model of the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proposes a “planetary” model of the hydro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oedinger publishes his wave equation for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rray Gell-Mann proposes the theory of QCD (proposing the existence of qu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nipulating the Density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903920" y="1603440"/>
          <a:ext cx="31557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1603440"/>
                    <a:ext cx="31557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4815000" y="3344760"/>
          <a:ext cx="30304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5000" y="3344760"/>
                    <a:ext cx="30304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3670200" y="5257800"/>
          <a:ext cx="48135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5257800"/>
                    <a:ext cx="481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2122560" y="1581120"/>
            <a:ext cx="4216320" cy="31766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040" y="1515960"/>
            <a:ext cx="3719520" cy="3146400"/>
            <a:chOff x="365040" y="1515960"/>
            <a:chExt cx="3719520" cy="3146400"/>
          </a:xfrm>
        </p:grpSpPr>
        <p:sp>
          <p:nvSpPr>
            <p:cNvPr id="398" name=""/>
            <p:cNvSpPr/>
            <p:nvPr/>
          </p:nvSpPr>
          <p:spPr>
            <a:xfrm>
              <a:off x="365040" y="1515960"/>
              <a:ext cx="3719520" cy="31464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69800" y="2244600"/>
              <a:ext cx="1673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a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3440" y="4024080"/>
              <a:ext cx="167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dens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3760" y="4024080"/>
              <a:ext cx="1673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volu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: Elements &amp;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Symbols &amp; Formula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37600" y="947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has a unique chemical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chemical symb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: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: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: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lecule has a unique chem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mical formula of a molecule in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mical symbol for each of the elem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of atoms of each element present in th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of chemical form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mental oxygen: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O atoms per molec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: 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H atoms &amp; 1 O at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uminum sulfate: A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Al, 3 S &amp; 12 O a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63520" y="1123920"/>
            <a:ext cx="855360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known elements are arranged in a chart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in the Periodic Table is identified by both its chemical symbol and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s are organized left-to-right and top-to-bottom according to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s are arranged by similarity of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umn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of each group typically have similar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w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reflect the periodicity of chemical properties as atomic number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eriodic Table of Elemen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66760" y="1108080"/>
          <a:ext cx="86090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108080"/>
                    <a:ext cx="86090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ments and 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can be categorized 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most elements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70% of all of the elements ar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n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most elements of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mimetals (metallo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s that reside along the “stair step” between the metals and nonmetals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erties of semimetals are not quite metallic or non-metallic, but rather somewhere i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mitri Mendeleev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834-1907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born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one of the greatest science teachers of his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rganized the known elements of his time into the first “periodic 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were organized by chemical properties (&amp; by weight) -&gt;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ic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ingly, his periodic table predicted the existence of 3 new elem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ich were subsequently discov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2673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4: Properties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al &amp; Chemical Propert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98360" y="912960"/>
            <a:ext cx="8717040" cy="496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characteristics of matter that can be changed without changing its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aracteristics are directly observable or meas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Physical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3502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Extrinsic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roperties are unique to objects (i.e. size, shape, mas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3502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Intrinsic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roperties are unique to substances (i.e. density, conductivity, colo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emical Properti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re the characteristics of a substance that determine the tendency of the matter to transform in composition as a result of the interaction with other substances, the influence of energy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1500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se are characteristics that describe the behavior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al &amp; Chemical Chang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2280" y="840960"/>
            <a:ext cx="8839440" cy="569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hanges that do not result in a change the fundamental composition of th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ypical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hysical State Changes: boiling, melting, condens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hape, Size or Textu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olve a change in the fundamental composition of the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Notes on Chemica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duction of a new substanc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ferred to as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basic representation: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ctant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Both physical and chemical changes will likely produce  an alteration of appearance, the key is to discern the type of change that has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jor Developments in Chemistry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of subatomic parti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8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n (first observed by Eugene Golds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7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 (JJ Thomp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n (named by Ernest Ruther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utron (James Chadw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ther Important Discov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6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ine Hen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querel discovers radio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Kamerlingh Onnes discovers superconductivity in low temperature merc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7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Shockley and colleagues invent the first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nell, Wieman, and Ketterle observe the 5th state of matter (the Bose-Einstein condensate) in th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89000" y="990360"/>
            <a:ext cx="8688240" cy="569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osely described as the capacity of something to do work (or alter the physical or chemical state of an object or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orm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, chemical, thermal, electrical, radiant, 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of energy is the Joule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mmonly used units are Calories (cal) and Kilowatt-hours (k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ypes of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otent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tor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ineti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 associated with motion and v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ea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ergy that flows from high to low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 of Energy Conser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ergy is never created nor destroy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it does change from one type to anothe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3760" y="293760"/>
            <a:ext cx="824076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tinguishing Heat Energy &amp; Temperatu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is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ot or cold something is (an extrinsic physical property), it represents a particular therm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inetic) energy of the substa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 the total energy but the average ener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in uni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s Fahrenheit 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s Celsius 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lvin (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is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that flows from hot objects to cold object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t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physical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absorbed or released by an object resulting in its temperatur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in uni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ules (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ories (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lowatt Hours (kW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ottom Line: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Heat energy absorbed or released is </a:t>
            </a:r>
            <a:r>
              <a:rPr b="0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measured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by changes in temperature but do not confuse heat energy fo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mperature Scal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43000" y="1004400"/>
            <a:ext cx="8786880" cy="575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 traditional temperature scales, Fahrenheit and Celsius, were originally defined in terms of the physical states of water at sea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ahrenheit Scale, 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32°F, boiling point = 212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elsius Scale,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0°C, boiling point = 100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elsius temperature unit is larger than 1 Fahrenhei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for temperature is a variant of the Celsiu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elvin Scale,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273 K, boiling point = 373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lvin temperature unit is the same size as the Celsiu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169560"/>
            <a:ext cx="8686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mperature of ice water and boiling water.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60400" y="1069920"/>
            <a:ext cx="7431120" cy="551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73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(Energy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90440" y="934920"/>
            <a:ext cx="87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s energy that flows due to a temperatur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nergy flows from higher temperature to lower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s transferred due to “collisions” between atoms/molecules of different kinetic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duced by friction, heat is mechanical energy that is irretrievably removed from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involving He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othermic = A process that releases hea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burning paper is an exothermic process because energy is produced as heat (the temperature rises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dothermic = A process that absorb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melting ice to form liquid water is an endothermic process because heat energy must be absorbed to change the physical state (in this case the temperature does not change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52280" y="856800"/>
            <a:ext cx="883944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thing absorbs or loses heat energy, 1 of 2 things can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temperature will chan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hot coffee will cool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hysical state will chan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ice will m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ormer case above, the heat energy absorbed or lost by an object is proportional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of the object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temperature the object undergo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cific heat capacity (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physical property unique to the sub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heat gained (Q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701640" y="5516640"/>
          <a:ext cx="31258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516640"/>
                    <a:ext cx="3125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6" name=""/>
          <p:cNvGrpSpPr/>
          <p:nvPr/>
        </p:nvGrpSpPr>
        <p:grpSpPr>
          <a:xfrm>
            <a:off x="5735520" y="4678200"/>
            <a:ext cx="2925720" cy="2027520"/>
            <a:chOff x="5735520" y="4678200"/>
            <a:chExt cx="2925720" cy="2027520"/>
          </a:xfrm>
        </p:grpSpPr>
        <p:sp>
          <p:nvSpPr>
            <p:cNvPr id="437" name=""/>
            <p:cNvSpPr/>
            <p:nvPr/>
          </p:nvSpPr>
          <p:spPr>
            <a:xfrm>
              <a:off x="5735520" y="4678200"/>
              <a:ext cx="2925720" cy="2027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39040" y="4842000"/>
              <a:ext cx="1315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15160" y="6091200"/>
              <a:ext cx="70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6880" y="6091200"/>
              <a:ext cx="820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954760" y="6095880"/>
              <a:ext cx="70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28600" y="313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ecific Heat Capacity (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30040" y="938160"/>
            <a:ext cx="868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reflects how absorbed heat energy relates to the corresponding increase in temperature for a given amount of mass, i.e.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nergy per unit mass per unit temperature chang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is commonly measured in uni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/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/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metric &amp; more useful in the 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is a unique intrinsic physical property of matter.  Typically,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have low specific heat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tals have higher specific heat capacity tha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has an unusually large specific heat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754520" y="2049480"/>
          <a:ext cx="228780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4520" y="2049480"/>
                    <a:ext cx="2287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19280" y="396720"/>
            <a:ext cx="7807320" cy="623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47" name=""/>
          <p:cNvSpPr/>
          <p:nvPr/>
        </p:nvSpPr>
        <p:spPr>
          <a:xfrm>
            <a:off x="5524560" y="3568680"/>
            <a:ext cx="1109520" cy="45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32480" y="3160800"/>
            <a:ext cx="1109520" cy="45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able of Specific Heat for Various Substanc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33520" y="1066680"/>
            <a:ext cx="8076240" cy="5486400"/>
            <a:chOff x="533520" y="1066680"/>
            <a:chExt cx="8076240" cy="5486400"/>
          </a:xfrm>
        </p:grpSpPr>
        <p:grpSp>
          <p:nvGrpSpPr>
            <p:cNvPr id="451" name=""/>
            <p:cNvGrpSpPr/>
            <p:nvPr/>
          </p:nvGrpSpPr>
          <p:grpSpPr>
            <a:xfrm>
              <a:off x="542880" y="1068840"/>
              <a:ext cx="8055360" cy="5481360"/>
              <a:chOff x="542880" y="1068840"/>
              <a:chExt cx="8055360" cy="5481360"/>
            </a:xfrm>
          </p:grpSpPr>
          <p:grpSp>
            <p:nvGrpSpPr>
              <p:cNvPr id="452" name=""/>
              <p:cNvGrpSpPr/>
              <p:nvPr/>
            </p:nvGrpSpPr>
            <p:grpSpPr>
              <a:xfrm>
                <a:off x="542880" y="1068840"/>
                <a:ext cx="2257920" cy="410040"/>
                <a:chOff x="542880" y="1068840"/>
                <a:chExt cx="2257920" cy="4100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81040" y="1078200"/>
                  <a:ext cx="2181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st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42880" y="1068840"/>
                  <a:ext cx="2257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2801520" y="1068840"/>
                <a:ext cx="1870920" cy="410040"/>
                <a:chOff x="2801520" y="1068840"/>
                <a:chExt cx="1870920" cy="41004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2839680" y="1078200"/>
                  <a:ext cx="1794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/g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801520" y="1068840"/>
                  <a:ext cx="1870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4673520" y="1068840"/>
                <a:ext cx="2446200" cy="410040"/>
                <a:chOff x="4673520" y="1068840"/>
                <a:chExt cx="2446200" cy="4100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4711680" y="1078200"/>
                  <a:ext cx="23695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/g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673520" y="1068840"/>
                  <a:ext cx="24462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120440" y="1068840"/>
                <a:ext cx="1477800" cy="410040"/>
                <a:chOff x="7120440" y="1068840"/>
                <a:chExt cx="1477800" cy="41004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158600" y="1078200"/>
                  <a:ext cx="14011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/mol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120440" y="1068840"/>
                  <a:ext cx="14778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42880" y="1497960"/>
                <a:ext cx="2257920" cy="318960"/>
                <a:chOff x="542880" y="1497960"/>
                <a:chExt cx="2257920" cy="3189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581040" y="15073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uminu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542880" y="14979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2801520" y="1497960"/>
                <a:ext cx="1870920" cy="318960"/>
                <a:chOff x="2801520" y="1497960"/>
                <a:chExt cx="1870920" cy="3189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2839680" y="15073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9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801520" y="14979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673520" y="1497960"/>
                <a:ext cx="2446200" cy="318960"/>
                <a:chOff x="4673520" y="1497960"/>
                <a:chExt cx="2446200" cy="31896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711680" y="15073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673520" y="14979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7120440" y="1497960"/>
                <a:ext cx="1477800" cy="318960"/>
                <a:chOff x="7120440" y="1497960"/>
                <a:chExt cx="1477800" cy="3189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158600" y="15073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120440" y="14979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542880" y="1836000"/>
                <a:ext cx="2257920" cy="318960"/>
                <a:chOff x="542880" y="1836000"/>
                <a:chExt cx="2257920" cy="3189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581040" y="18453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r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42880" y="18360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801520" y="1836000"/>
                <a:ext cx="1870920" cy="318960"/>
                <a:chOff x="2801520" y="1836000"/>
                <a:chExt cx="1870920" cy="3189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839680" y="18453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47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801520" y="18360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4673520" y="1836000"/>
                <a:ext cx="2446200" cy="318960"/>
                <a:chOff x="4673520" y="1836000"/>
                <a:chExt cx="2446200" cy="3189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4711680" y="18453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673520" y="18360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120440" y="1836000"/>
                <a:ext cx="1477800" cy="318960"/>
                <a:chOff x="7120440" y="1836000"/>
                <a:chExt cx="1477800" cy="3189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7158600" y="18453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120440" y="18360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542880" y="2174040"/>
                <a:ext cx="2257920" cy="318960"/>
                <a:chOff x="542880" y="2174040"/>
                <a:chExt cx="2257920" cy="3189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581040" y="21834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pp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42880" y="21740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801520" y="2174040"/>
                <a:ext cx="1870920" cy="318960"/>
                <a:chOff x="2801520" y="2174040"/>
                <a:chExt cx="1870920" cy="3189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839680" y="21834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801520" y="21740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4673520" y="2174040"/>
                <a:ext cx="2446200" cy="318960"/>
                <a:chOff x="4673520" y="2174040"/>
                <a:chExt cx="2446200" cy="3189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711680" y="21834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673520" y="21740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7120440" y="2174040"/>
                <a:ext cx="1477800" cy="318960"/>
                <a:chOff x="7120440" y="2174040"/>
                <a:chExt cx="1477800" cy="3189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158600" y="21834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120440" y="21740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42880" y="2512080"/>
                <a:ext cx="2257920" cy="318960"/>
                <a:chOff x="542880" y="2512080"/>
                <a:chExt cx="2257920" cy="3189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81040" y="25214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ra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2880" y="25120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2801520" y="2512080"/>
                <a:ext cx="1870920" cy="318960"/>
                <a:chOff x="2801520" y="2512080"/>
                <a:chExt cx="1870920" cy="3189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2839680" y="25214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801520" y="25120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673520" y="2512080"/>
                <a:ext cx="2446200" cy="318960"/>
                <a:chOff x="4673520" y="2512080"/>
                <a:chExt cx="2446200" cy="3189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711680" y="25214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673520" y="25120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120440" y="2512080"/>
                <a:ext cx="1477800" cy="318960"/>
                <a:chOff x="7120440" y="2512080"/>
                <a:chExt cx="1477800" cy="3189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158600" y="25214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120440" y="25120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542880" y="2850120"/>
                <a:ext cx="2257920" cy="318960"/>
                <a:chOff x="542880" y="2850120"/>
                <a:chExt cx="2257920" cy="318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581040" y="28594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l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42880" y="2850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2801520" y="2850120"/>
                <a:ext cx="1870920" cy="318960"/>
                <a:chOff x="2801520" y="2850120"/>
                <a:chExt cx="1870920" cy="3189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839680" y="28594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801520" y="2850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4673520" y="2850120"/>
                <a:ext cx="2446200" cy="318960"/>
                <a:chOff x="4673520" y="2850120"/>
                <a:chExt cx="2446200" cy="3189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4711680" y="28594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673520" y="2850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7120440" y="2850120"/>
                <a:ext cx="1477800" cy="318960"/>
                <a:chOff x="7120440" y="2850120"/>
                <a:chExt cx="1477800" cy="3189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7158600" y="28594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120440" y="2850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42880" y="3188520"/>
                <a:ext cx="2257920" cy="318960"/>
                <a:chOff x="542880" y="3188520"/>
                <a:chExt cx="2257920" cy="3189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581040" y="31978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a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42880" y="31885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801520" y="3188520"/>
                <a:ext cx="1870920" cy="318960"/>
                <a:chOff x="2801520" y="3188520"/>
                <a:chExt cx="1870920" cy="3189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2839680" y="31978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2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801520" y="31885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673520" y="3188520"/>
                <a:ext cx="2446200" cy="318960"/>
                <a:chOff x="4673520" y="3188520"/>
                <a:chExt cx="2446200" cy="3189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4711680" y="31978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673520" y="31885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120440" y="3188520"/>
                <a:ext cx="1477800" cy="318960"/>
                <a:chOff x="7120440" y="3188520"/>
                <a:chExt cx="1477800" cy="3189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158600" y="31978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120440" y="31885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42880" y="3526560"/>
                <a:ext cx="2257920" cy="318960"/>
                <a:chOff x="542880" y="3526560"/>
                <a:chExt cx="2257920" cy="3189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81040" y="35359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l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42880" y="35265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2801520" y="3526560"/>
                <a:ext cx="1870920" cy="318960"/>
                <a:chOff x="2801520" y="3526560"/>
                <a:chExt cx="1870920" cy="3189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2839680" y="35359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801520" y="35265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4673520" y="3526560"/>
                <a:ext cx="2446200" cy="318960"/>
                <a:chOff x="4673520" y="3526560"/>
                <a:chExt cx="2446200" cy="3189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4711680" y="35359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55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673520" y="35265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120440" y="3526560"/>
                <a:ext cx="1477800" cy="318960"/>
                <a:chOff x="7120440" y="3526560"/>
                <a:chExt cx="1477800" cy="318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158600" y="35359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120440" y="35265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542880" y="3864600"/>
                <a:ext cx="2257920" cy="318960"/>
                <a:chOff x="542880" y="3864600"/>
                <a:chExt cx="2257920" cy="318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581040" y="38739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ngste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42880" y="38646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2801520" y="3864600"/>
                <a:ext cx="1870920" cy="318960"/>
                <a:chOff x="2801520" y="3864600"/>
                <a:chExt cx="1870920" cy="3189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2839680" y="38739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3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801520" y="38646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4673520" y="3864600"/>
                <a:ext cx="2446200" cy="318960"/>
                <a:chOff x="4673520" y="3864600"/>
                <a:chExt cx="2446200" cy="3189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711680" y="38739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2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673520" y="38646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120440" y="3864600"/>
                <a:ext cx="1477800" cy="318960"/>
                <a:chOff x="7120440" y="3864600"/>
                <a:chExt cx="1477800" cy="3189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158600" y="38739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120440" y="38646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542880" y="4202640"/>
                <a:ext cx="2257920" cy="318960"/>
                <a:chOff x="542880" y="4202640"/>
                <a:chExt cx="2257920" cy="3189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581040" y="42120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in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42880" y="42026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2801520" y="4202640"/>
                <a:ext cx="1870920" cy="318960"/>
                <a:chOff x="2801520" y="4202640"/>
                <a:chExt cx="1870920" cy="3189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2839680" y="42120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801520" y="42026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4673520" y="4202640"/>
                <a:ext cx="2446200" cy="318960"/>
                <a:chOff x="4673520" y="4202640"/>
                <a:chExt cx="2446200" cy="3189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4711680" y="42120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673520" y="42026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20440" y="4202640"/>
                <a:ext cx="1477800" cy="318960"/>
                <a:chOff x="7120440" y="4202640"/>
                <a:chExt cx="1477800" cy="3189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58600" y="42120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120440" y="42026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42880" y="4541040"/>
                <a:ext cx="2257920" cy="318960"/>
                <a:chOff x="542880" y="4541040"/>
                <a:chExt cx="2257920" cy="3189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81040" y="45504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rcur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42880" y="45410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801520" y="4541040"/>
                <a:ext cx="1870920" cy="318960"/>
                <a:chOff x="2801520" y="4541040"/>
                <a:chExt cx="1870920" cy="3189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2839680" y="45504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801520" y="45410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4673520" y="4541040"/>
                <a:ext cx="2446200" cy="318960"/>
                <a:chOff x="4673520" y="4541040"/>
                <a:chExt cx="2446200" cy="3189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4711680" y="45504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673520" y="45410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120440" y="4541040"/>
                <a:ext cx="1477800" cy="318960"/>
                <a:chOff x="7120440" y="4541040"/>
                <a:chExt cx="1477800" cy="3189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158600" y="45504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120440" y="45410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542880" y="4879080"/>
                <a:ext cx="2257920" cy="318960"/>
                <a:chOff x="542880" y="4879080"/>
                <a:chExt cx="2257920" cy="3189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581040" y="48884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cohol (ethyl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542880" y="48790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2801520" y="4879080"/>
                <a:ext cx="1870920" cy="318960"/>
                <a:chOff x="2801520" y="4879080"/>
                <a:chExt cx="1870920" cy="3189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39680" y="48884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13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801520" y="48790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4673520" y="4879080"/>
                <a:ext cx="2446200" cy="318960"/>
                <a:chOff x="4673520" y="4879080"/>
                <a:chExt cx="2446200" cy="3189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4711680" y="48884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5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673520" y="48790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7120440" y="4879080"/>
                <a:ext cx="1477800" cy="318960"/>
                <a:chOff x="7120440" y="4879080"/>
                <a:chExt cx="1477800" cy="3189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7158600" y="48884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120440" y="48790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542880" y="5217120"/>
                <a:ext cx="2257920" cy="318960"/>
                <a:chOff x="542880" y="5217120"/>
                <a:chExt cx="2257920" cy="3189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581040" y="5226120"/>
                  <a:ext cx="218124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542880" y="5217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2801520" y="5217120"/>
                <a:ext cx="1870920" cy="318960"/>
                <a:chOff x="2801520" y="5217120"/>
                <a:chExt cx="1870920" cy="3189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2839680" y="5226120"/>
                  <a:ext cx="179424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18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801520" y="5217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4673520" y="5217120"/>
                <a:ext cx="2446200" cy="318960"/>
                <a:chOff x="4673520" y="5217120"/>
                <a:chExt cx="2446200" cy="318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4711680" y="5226120"/>
                  <a:ext cx="236952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673520" y="5217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7120440" y="5217120"/>
                <a:ext cx="1477800" cy="318960"/>
                <a:chOff x="7120440" y="5217120"/>
                <a:chExt cx="1477800" cy="3189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7158600" y="5226120"/>
                  <a:ext cx="140112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120440" y="5217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42880" y="5555160"/>
                <a:ext cx="2257920" cy="318960"/>
                <a:chOff x="542880" y="5555160"/>
                <a:chExt cx="2257920" cy="3189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81040" y="55645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ce (-10 C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42880" y="55551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2801520" y="5555160"/>
                <a:ext cx="1870920" cy="318960"/>
                <a:chOff x="2801520" y="5555160"/>
                <a:chExt cx="1870920" cy="318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2839680" y="55645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05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801520" y="55551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673520" y="5555160"/>
                <a:ext cx="2446200" cy="318960"/>
                <a:chOff x="4673520" y="5555160"/>
                <a:chExt cx="2446200" cy="3189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711680" y="55645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49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673520" y="55551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120440" y="5555160"/>
                <a:ext cx="1477800" cy="318960"/>
                <a:chOff x="7120440" y="5555160"/>
                <a:chExt cx="1477800" cy="3189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158600" y="55645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120440" y="55551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542880" y="5893200"/>
                <a:ext cx="2257920" cy="318960"/>
                <a:chOff x="542880" y="5893200"/>
                <a:chExt cx="2257920" cy="3189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581040" y="59025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42880" y="58932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2801520" y="5893200"/>
                <a:ext cx="1870920" cy="318960"/>
                <a:chOff x="2801520" y="5893200"/>
                <a:chExt cx="1870920" cy="3189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2839680" y="59025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7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801520" y="58932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673520" y="5893200"/>
                <a:ext cx="2446200" cy="318960"/>
                <a:chOff x="4673520" y="5893200"/>
                <a:chExt cx="2446200" cy="3189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711680" y="59025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673520" y="58932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7120440" y="5893200"/>
                <a:ext cx="1477800" cy="318960"/>
                <a:chOff x="7120440" y="5893200"/>
                <a:chExt cx="1477800" cy="3189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7158600" y="59025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120440" y="58932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542880" y="6231240"/>
                <a:ext cx="2257920" cy="318960"/>
                <a:chOff x="542880" y="6231240"/>
                <a:chExt cx="2257920" cy="3189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581040" y="62406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la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542880" y="62312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2801520" y="6231240"/>
                <a:ext cx="1870920" cy="318960"/>
                <a:chOff x="2801520" y="6231240"/>
                <a:chExt cx="1870920" cy="3189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839680" y="62406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8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801520" y="62312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4673520" y="6231240"/>
                <a:ext cx="2446200" cy="318960"/>
                <a:chOff x="4673520" y="6231240"/>
                <a:chExt cx="2446200" cy="3189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4711680" y="62406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673520" y="62312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7120440" y="6231240"/>
                <a:ext cx="1477800" cy="318960"/>
                <a:chOff x="7120440" y="6231240"/>
                <a:chExt cx="1477800" cy="3189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7158600" y="62406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7120440" y="62312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4" name=""/>
            <p:cNvSpPr/>
            <p:nvPr/>
          </p:nvSpPr>
          <p:spPr>
            <a:xfrm>
              <a:off x="533520" y="1066680"/>
              <a:ext cx="8076240" cy="5486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5: Early Atomic Theory &amp;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cientific Metho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8280" y="1022400"/>
            <a:ext cx="7978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OBSERV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obser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EXPLAN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educated guess -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consequences of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VALID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experiments to test the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experimental data support or dispute hypothe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simplest rule that organizes the 3 main ingredients - develop a the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72720" y="1035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n important step in understanding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his model of nature, all forms of matter are mixtures of one of 4  basic “element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has one or more of 4 basic “qualitie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ccording to Aristot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y substance could be transformed into any other substance by altering the relative proportion of these elements and qualities (i.e. lead to 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arly Model of Matter:  Aristotl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384-322 BC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2079720" y="2540160"/>
            <a:ext cx="3047760" cy="1066680"/>
            <a:chOff x="2079720" y="2540160"/>
            <a:chExt cx="3047760" cy="1066680"/>
          </a:xfrm>
        </p:grpSpPr>
        <p:sp>
          <p:nvSpPr>
            <p:cNvPr id="651" name=""/>
            <p:cNvSpPr/>
            <p:nvPr/>
          </p:nvSpPr>
          <p:spPr>
            <a:xfrm>
              <a:off x="3644640" y="3073680"/>
              <a:ext cx="1482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) Fi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79720" y="3073680"/>
              <a:ext cx="156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)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44640" y="2540160"/>
              <a:ext cx="148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)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79720" y="2540160"/>
              <a:ext cx="156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) 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79720" y="254016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79720" y="360684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79720" y="25401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27480" y="25401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44640" y="254016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79720" y="307368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27480" y="307368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44640" y="360684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066760" y="4065480"/>
            <a:ext cx="3048120" cy="1066680"/>
            <a:chOff x="2066760" y="4065480"/>
            <a:chExt cx="3048120" cy="1066680"/>
          </a:xfrm>
        </p:grpSpPr>
        <p:sp>
          <p:nvSpPr>
            <p:cNvPr id="664" name=""/>
            <p:cNvSpPr/>
            <p:nvPr/>
          </p:nvSpPr>
          <p:spPr>
            <a:xfrm>
              <a:off x="3632040" y="4599000"/>
              <a:ext cx="148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D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66760" y="4599000"/>
              <a:ext cx="1565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) Mo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32040" y="4065480"/>
              <a:ext cx="148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) H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066760" y="4065480"/>
              <a:ext cx="1565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) C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66760" y="406548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66760" y="513216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66760" y="4065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14880" y="4065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32040" y="406548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066760" y="4599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14880" y="4599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32040" y="513216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7000920" y="1163520"/>
            <a:ext cx="19382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alton’s Atomic Theo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02316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consists of individual particle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an neither be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toms of a given element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ombined chemically in definite whole-number ratios to form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of different elements have different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6149880" y="1119240"/>
            <a:ext cx="2743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Modern Atomic Mod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our modern model of the matter, the atom has 2 primary regions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protons &amp; neutrons (called nucleons, collectiv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most of the atom’s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neutron = 1.675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proton = 1.673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dense region at the center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dius of the nucleus ~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 (1 femto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Electron 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electron = 9.109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the effective volume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dius of the electron cloud ~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 (1 Angst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the chemical properties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chemical processes, interactions occur between the outermost electrons of each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lectron properties of the atom will define the type(s) of interaction that will take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600200" y="1616040"/>
            <a:ext cx="5956200" cy="46800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ructure of the Ato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holds the atom together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lectromagnetic 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.k.a. electric 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electrons to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charge (-) of the electrons are attracted to the positive charge (+) of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trong 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.k.a. strong 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nucleons together with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charge of the protons rep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ucleons, protons and neutrons, possess a STRONG attraction to each other that overcomes the protons’ mutual repul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96660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charge is a fundamental property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’t really know what electric charge is but we do know that there are 2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harge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harge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e charge polarity is attr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attracts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charge polarity is repul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repels 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– repel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electric charge (q) is the same for protons and electr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ge of a proton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electron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smallest amount that occurs in nature, it is called the quantum of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1.6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ombs (or 1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.6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ombs (or 1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4920" y="1176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(or molecules) that have gained or los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have lost electron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have gained extra electron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unds have both cations and anions (so that their net charge is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37920" y="1036800"/>
            <a:ext cx="8272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s are electrically charged atoms and thus carry electric ch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charge of an ion is due to the imbalance of electrons and pr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 has lost one or more of its electrons it carries a positiv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+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lectron that i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 has gained one or more of its electrons it carries a positiv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”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xcess electron that is g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/molecule is an ion, its charge must be specif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dium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ide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xide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 on Electric Ch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site charges at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charges re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441680" y="4875120"/>
            <a:ext cx="2667240" cy="764280"/>
            <a:chOff x="4441680" y="4875120"/>
            <a:chExt cx="2667240" cy="764280"/>
          </a:xfrm>
        </p:grpSpPr>
        <p:sp>
          <p:nvSpPr>
            <p:cNvPr id="693" name=""/>
            <p:cNvSpPr/>
            <p:nvPr/>
          </p:nvSpPr>
          <p:spPr>
            <a:xfrm>
              <a:off x="4441680" y="49831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575400" y="48751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98880" y="5332320"/>
              <a:ext cx="3812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118200" y="5332320"/>
              <a:ext cx="3808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3718080" y="5584680"/>
            <a:ext cx="2666520" cy="655200"/>
            <a:chOff x="3718080" y="5584680"/>
            <a:chExt cx="2666520" cy="655200"/>
          </a:xfrm>
        </p:grpSpPr>
        <p:sp>
          <p:nvSpPr>
            <p:cNvPr id="698" name=""/>
            <p:cNvSpPr/>
            <p:nvPr/>
          </p:nvSpPr>
          <p:spPr>
            <a:xfrm>
              <a:off x="3718080" y="5584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51440" y="559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4174920" y="5933880"/>
              <a:ext cx="3808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94240" y="5933880"/>
              <a:ext cx="380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730680" y="6067440"/>
            <a:ext cx="2666520" cy="776880"/>
            <a:chOff x="3730680" y="6067440"/>
            <a:chExt cx="2666520" cy="776880"/>
          </a:xfrm>
        </p:grpSpPr>
        <p:sp>
          <p:nvSpPr>
            <p:cNvPr id="703" name=""/>
            <p:cNvSpPr/>
            <p:nvPr/>
          </p:nvSpPr>
          <p:spPr>
            <a:xfrm>
              <a:off x="3730680" y="606744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64040" y="608004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4187520" y="6537240"/>
              <a:ext cx="3808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06840" y="6537240"/>
              <a:ext cx="380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tomic Bookkeep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number 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rotons in an atom or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that define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rotons &amp; neutrons in a specific atom or isot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that represents the mass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o determine number of neutrons in an 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# of neutrons = (Mass #) – (Atomic 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# of neutrons = A -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 # vs. Atomic 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s are the equivalent of sibling members of an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atoms of the same element with different mass numbers (i.e. they have different numbers of neutr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isotopes are identified by their mas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 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-12 (        )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-14 (       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total mass of an element’s various naturally occurring isot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 of Atomic Mass is the Dal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a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alton = one twelfth mass of on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tom = 1.661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There 6 protons &amp; 6 neutrons in a 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 atom but the mass of a 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 atom is actually slightly less than the combined mass of all of the nucleons individ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is this lost mass?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t’s released as energy when the nucleons combine (bind) to form the nucleus of the a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2920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2462040" y="2151000"/>
            <a:ext cx="4038480" cy="778680"/>
            <a:chOff x="2462040" y="2151000"/>
            <a:chExt cx="4038480" cy="778680"/>
          </a:xfrm>
        </p:grpSpPr>
        <p:sp>
          <p:nvSpPr>
            <p:cNvPr id="713" name=""/>
            <p:cNvSpPr/>
            <p:nvPr/>
          </p:nvSpPr>
          <p:spPr>
            <a:xfrm>
              <a:off x="3528720" y="222732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(Atomic Symbol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90640" y="215100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Mass #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62040" y="253224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tomic #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354480" y="2881440"/>
            <a:ext cx="3200400" cy="778320"/>
            <a:chOff x="3354480" y="2881440"/>
            <a:chExt cx="3200400" cy="778320"/>
          </a:xfrm>
        </p:grpSpPr>
        <p:sp>
          <p:nvSpPr>
            <p:cNvPr id="717" name=""/>
            <p:cNvSpPr/>
            <p:nvPr/>
          </p:nvSpPr>
          <p:spPr>
            <a:xfrm>
              <a:off x="3583080" y="295740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54480" y="28814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07120" y="326232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5602320" y="2908440"/>
            <a:ext cx="3200400" cy="778320"/>
            <a:chOff x="5602320" y="2908440"/>
            <a:chExt cx="3200400" cy="778320"/>
          </a:xfrm>
        </p:grpSpPr>
        <p:sp>
          <p:nvSpPr>
            <p:cNvPr id="721" name=""/>
            <p:cNvSpPr/>
            <p:nvPr/>
          </p:nvSpPr>
          <p:spPr>
            <a:xfrm>
              <a:off x="5830920" y="298440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02320" y="29084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54960" y="328932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9440" y="736560"/>
            <a:ext cx="78436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Isotop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133200" y="1219320"/>
            <a:ext cx="87948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pter 6: Nomenclature of Inorga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ounds are formed they are held together by the association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ociation is calle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cal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general types of chemical b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(or mole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 co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compounds are classified (and thus named) according to the type of chemical bond(s) that hold together it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many compounds have more than one type of chemical bond present, but we will focus on only “simple compoun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Compound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practical” purposes will separate all simple compounds into 2 general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up of ions (both positive and negative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have no net charge (i.e. combined charge of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 on the attraction between positive and negative charges of the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 metal is present as a cation and a nonmetal is present as an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n-Ionic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(aka: Molecular or Covalent)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up of atoms that share their outer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harge plays no direct role in their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usually no metals are present in these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siest way (usually) to identify an ionic compound is to ask whether or not there is a metal present in the chemical formula (or the na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 metal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-&gt; it is an Ionic Compound (e.g. 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-&gt; it is a Non-Ionic Compound (e.g. C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 an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unds do not use the Greek prefixes and are named according to the identity of the ion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n-Ion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require the use of Greek prefixes to indicate the number of each element present in on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Simple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simple”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und is a compound made of only 2 types of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irst element is a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lement (metal) keeps its full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metal goes by its root with the suffix “-ide” added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NaCl is sodium chlor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are no metal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above ex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 prefixes must be used to identify the number of each element present in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carbo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3680" y="333000"/>
            <a:ext cx="874224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termining Chemical Formula of an Ionic Compoun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chemical formula of an ionic compound from its chemical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ions present, both cation(s) and anion(s), from th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potassium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ion: 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ion: 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ionic charge of the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tassium ion,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lfide ion, 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umber of each ion needed to obtain a neutral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ons are needed for every 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the chemical sysmbols of the ions to get the final chemical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 is the formula for potassium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15328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ic Charges &amp; 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 of an element in the Periodic Table is a useful indicator of the type of ion an element is capable of form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1+ cat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di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2+ cations (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i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3+ cations (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umin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p 3-12 Metals (plus Sn, Pb, &amp; Bi) can form more than one type of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 numerals are used to indicate the charge of the 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s called iron(I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Cl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s called iron(III) chlo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able Exce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&amp; Z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5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3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N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nitr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6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2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O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ox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7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1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hlor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8 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o not form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41112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eek Prefixes for Compound Nam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32920" y="1128240"/>
            <a:ext cx="4459320" cy="35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C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carbo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tr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49400" y="1106640"/>
            <a:ext cx="4341960" cy="35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p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) Dec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ct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49400" y="4021200"/>
            <a:ext cx="86104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es are used when the compound does not have a metal present (or when H is the first element in the formu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es must be used for every element present in the comp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no- is not used for the first element in a compound name (e.g.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8680" y="385920"/>
            <a:ext cx="8285040" cy="7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ic Compounds containing Polyatomic 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28600" y="11541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onic compounds are made up of polyatomic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atomic ions are usually ions formed from non-ion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.g.  The sulfate ion, SO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0000cc"/>
                </a:solidFill>
                <a:latin typeface="Arial"/>
              </a:rPr>
              <a:t>2-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, is essentially a molecular compound containing S and O with 2 additional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encounter polyatomic ions in compound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not freak ou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familiar with the common polyatomic ions on th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nitrate ion (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unately, the naming of ionic compounds containing polyatomic ions is similar to that for 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87360" y="1222200"/>
          <a:ext cx="836784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222200"/>
                    <a:ext cx="836784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533680" y="76320"/>
            <a:ext cx="4076640" cy="822240"/>
          </a:xfrm>
          <a:prstGeom prst="wedgeRoundRectCallout">
            <a:avLst>
              <a:gd name="adj1" fmla="val -31736"/>
              <a:gd name="adj2" fmla="val 33171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5400000">
            <a:off x="4315680" y="-630360"/>
            <a:ext cx="547560" cy="3695400"/>
          </a:xfrm>
          <a:custGeom>
            <a:avLst/>
            <a:gdLst>
              <a:gd name="textAreaLeft" fmla="*/ 349920 w 547560"/>
              <a:gd name="textAreaRight" fmla="*/ 547920 w 547560"/>
              <a:gd name="textAreaTop" fmla="*/ 96120 h 3695400"/>
              <a:gd name="textAreaBottom" fmla="*/ 3599280 h 36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4219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Latin term for “sour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Acids are sour to the tast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are substances that donate or release hydrogen cations,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usually when dissolved in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mical formula for acids usually begins with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chloric acid (H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Cl(a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bit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ote: it is not advised to taste strong base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metal containing hydr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that accept hydrogen cati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n dissolved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assium hydroxide (K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OH(aq) +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85800" y="3481560"/>
            <a:ext cx="7772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Times New Roman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Ac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separate acids into 2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tha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that do no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acids containing oxy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ids containing “-ate” 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oot of the anion (for sulfate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ids with “-ite” 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oot of the anion (for sulfite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Acid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acids not containing oxy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ydr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prefix to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oot of the anion (i.e.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ch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i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yd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 following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ntoine Lavoisier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43-1794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094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by many to be the “Father of Modern Chemist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ontribution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water cannot be transmuted 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the Law of 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 method of producing better gunpow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that oxygen and hydrogen combined to produce water (d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 system of chemical nomencl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ill used in part today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rn chemical tex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" descr=""/>
          <p:cNvPicPr/>
          <p:nvPr/>
        </p:nvPicPr>
        <p:blipFill>
          <a:blip r:embed="rId1"/>
          <a:stretch/>
        </p:blipFill>
        <p:spPr>
          <a:xfrm>
            <a:off x="6221520" y="1117440"/>
            <a:ext cx="2743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91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7: Quantitative Composition of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ctions 7.1 to 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Mo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85560" y="1115640"/>
            <a:ext cx="852804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is a counting unit (analogous to the dozen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unit used to describe large quantities such as number of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= 6.022 x 10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2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known as Avogadro’s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the mole &amp;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ass is the quant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gram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 mole of tha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s of atomic mass are grams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used by chemists as a way of “counting” number of atoms/molecules of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Unicode MS"/>
              </a:rPr>
              <a:t>Got mole problems? 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ll Avogadro at 602-10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swer: molasses (a mole of 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" y="24382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What do you get if you have Avogadro's number of donke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ar 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675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ar mass is the mass in grams of 1 mole of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ar mass refers to both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(ato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Na has a mass of 22.99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l has a mass of 35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has a mass of 70.9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(molec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NaCl has a mass of 58.4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ss of Na (22.99 g) + Mass of Cl (35.45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has a mass of 44.0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ss of C (12.01 g) + 2 x Mass of O (16.00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230040" y="1116000"/>
            <a:ext cx="8606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atoms (or molecules) to moles, divide the # of atoms (or molecules) by Avogadro’s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s are 1.0x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t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moles to atoms (or molecules), multiply  the # of atoms (or molecules) by Avogadro’s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cules are in 2.5 m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933480" y="2338560"/>
          <a:ext cx="6670800" cy="96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338560"/>
                    <a:ext cx="667080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0" name=""/>
          <p:cNvGraphicFramePr/>
          <p:nvPr/>
        </p:nvGraphicFramePr>
        <p:xfrm>
          <a:off x="907920" y="4721400"/>
          <a:ext cx="7199280" cy="9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7920" y="4721400"/>
                    <a:ext cx="719928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-Mass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230040" y="1116000"/>
            <a:ext cx="8606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moles to grams, multiply the # of moles by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grams in 2.5 moles of carb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grams to moles, divide the mass in grams by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s are in 2.5 g of lith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4" name=""/>
          <p:cNvGraphicFramePr/>
          <p:nvPr/>
        </p:nvGraphicFramePr>
        <p:xfrm>
          <a:off x="1704960" y="2355840"/>
          <a:ext cx="613404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2355840"/>
                    <a:ext cx="6134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"/>
          <p:cNvGraphicFramePr/>
          <p:nvPr/>
        </p:nvGraphicFramePr>
        <p:xfrm>
          <a:off x="1671480" y="4748040"/>
          <a:ext cx="62978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1480" y="4748040"/>
                    <a:ext cx="62978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5240" y="1933560"/>
          <a:ext cx="881208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933560"/>
                    <a:ext cx="88120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52280" y="1128240"/>
            <a:ext cx="8683920" cy="48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composition is the percentage of each element in a compound (by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composition can be determined from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rimental mass analysis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percentages may not always total to 100% due to r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984240" y="3289320"/>
          <a:ext cx="603720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3289320"/>
                    <a:ext cx="60372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9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7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7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9" dur="500"/>
                                        <p:tgtEl>
                                          <p:spTgt spid="7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7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3160" y="2106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28240" y="996480"/>
            <a:ext cx="883908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% Composition from the chemical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olar mass of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the molar mass of the element of interest by the number of atoms per molecule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is value by the molar mass of the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The % Composition of sodium in table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lar mass of NaCl is 58.44 g/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re is 1 atom of Na in each NaCl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atomic mass of Na is 22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204840" y="2946240"/>
          <a:ext cx="851040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2946240"/>
                    <a:ext cx="8510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"/>
          <p:cNvGraphicFramePr/>
          <p:nvPr/>
        </p:nvGraphicFramePr>
        <p:xfrm>
          <a:off x="835200" y="5743440"/>
          <a:ext cx="743868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5743440"/>
                    <a:ext cx="74386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321840"/>
            <a:ext cx="8153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the following % Composition calcu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carbon in carbon 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oxygen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chlorine in sodium hypochlo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51920" y="293760"/>
            <a:ext cx="6705720" cy="100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madeo Avogadro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43-1794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2280" y="1352160"/>
            <a:ext cx="8839440" cy="42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ian lawyer turned chem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contributions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difference between atoms &amp; molec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&amp; nitrogen exist as molecules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ciled the work of Dalton &amp; Guy-Luss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vogadro’s Princip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qual volumes of all gases at the same temperature and pressure contain the same number of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Avogadro did not determine Avogadro’s number nor the mo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se concepts cam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gadro is honored because the molar volume of all gases should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of Avogadro’s work was acknowledged after he died, by Stanislao Cannizar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6959520" y="488880"/>
            <a:ext cx="19735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Chemic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 (Intro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833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quations are used to  symbolically describe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hemical equation (or reaction for that matter) the substances that undergo chemical change(s) are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substances formed are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representation of a chemical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ctant(s)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Produc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The productio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g) +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g)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lined number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ach molecule for each reactant &amp; product in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lways who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 chemical equations indicate the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each reactant &amp; product involved 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of each reactant and product  involved in the reaction (i.e. sol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iqu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g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quantity of each reactant and product  involved in the reaction (the coeffici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tity of each reactant and product  involved in the reaction (the coeffici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79000" y="262080"/>
            <a:ext cx="84582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w of Mass Con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amp; John Dalton!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ter is never created nor destroyed during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of the ato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reactants of a chemical reaction must be accounted for in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Basic Process of Balancing Chemical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dentify all reactants &amp; products in the reaction &amp; write out their formulas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this is the unbalanced chemical equ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unt the number of each atom for each compound for each reactant &amp; produc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these values must be the same for both reactants &amp; products when the reaction is balanced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ing with the most “complicated” molecule, systematically adjust the coefficients to balance # of the atoms on each side of the reaction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balance one atom at a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peat until all atoms are balanced for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w you should have a balanced chemical equ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Equation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dium metal is added to water a violent reaction takes place producing aqueous sodium hydroxide and releasing hydrogen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ut the unbalanced chemica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balance the chemica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04920" y="142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Reaction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Hint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82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olyatomic ion(s) appears on both the reactant &amp; product side of the reac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chan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reat the whole ion as a “unit” when balancing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nitrate io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gets swapped between the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in thi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treated as a whole unit when balancing thi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2368440"/>
            <a:ext cx="8839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 +   CaCl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AgCl(s) +    Ca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ottom Line: The Scientific Attitu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ypotheses must be testable (i.e. there must be a way to prove them wrong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“Matter is made up of tiny particles called ato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Scientific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There are tiny particles of matter in the universe that will never be detec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ommon Classifications for Chemical Reac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tion (or Synthesis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s in which reactants combine to ma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mposi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s in whi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react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s down into small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Displac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tions where a part of one reactant is displaced and combined with another rea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Zn(s) + 2HCl(aq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ZnC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 + 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Displac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tions where a part of two reactants is displaced and ex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g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 + NaCl(aq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gCl(s) + Na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Acid-base neut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Formation of insoluble products (Precipitation rea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Metal oxide +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Gas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tion-Reduction Reac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actions involving the transfer or rearrangement of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500"/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1" dur="500"/>
                                        <p:tgtEl>
                                          <p:spTgt spid="8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mbination &amp; Decomposi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34720" y="863280"/>
            <a:ext cx="8654760" cy="57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 which chemicals combine to mak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ion or Synthesis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+ Nonmetal reactions can be classified as Combina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Na(s)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 NaC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s between Metals or Nonmetals with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assified as Combina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+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 NO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se two types of Combination Reactions are also subclasses of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Oxidation-Reduc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 whi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reac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 down into smaller molecule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mposi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ition reactions are generally initiated by the addition of energy (via electric current or he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ition reactions are the opposite of Combination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NaCl(l)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2 Na(l)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3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8" dur="5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8" dur="5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8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8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500"/>
                                        <p:tgtEl>
                                          <p:spTgt spid="8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8" dur="500"/>
                                        <p:tgtEl>
                                          <p:spTgt spid="8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ngle Displacement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displacement reactions involve one part of a reactant being transferred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pattern of the single displacement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Y +  A</a:t>
            </a:r>
            <a:r>
              <a:rPr b="0" lang="en-US" sz="28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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 + AY</a:t>
            </a:r>
            <a:r>
              <a:rPr b="0" lang="en-US" sz="28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al + Aci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lt +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Zn(s) + 2 HCl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Zn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2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Water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Hydrogen + Metal Oxid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or metal hydrox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 Fe(s) + 4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l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4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F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3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Sal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al +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 Al(s) + F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2 Fe(s) + A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4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logen + Halide Sal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Halogen + Halide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2 NaBr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Br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2 NaCl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0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5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5" dur="500"/>
                                        <p:tgtEl>
                                          <p:spTgt spid="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0" dur="500"/>
                                        <p:tgtEl>
                                          <p:spTgt spid="8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5" dur="500"/>
                                        <p:tgtEl>
                                          <p:spTgt spid="8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ouble Displacement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52280" y="861480"/>
            <a:ext cx="8839440" cy="57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Displacement Reactions involve the double exchange of a component (such as ions) between two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form of double displacement reaction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+ A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+ A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X, Y, A, and B are the components of the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1:  Acid Base Neut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OH)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2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2:  Metal Oxide +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 + 2H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3:  Formation of an Insoluble Precipitate (Precip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Ag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Ag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4:  Formation of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aq) + Zn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Zn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292880" y="3340080"/>
            <a:ext cx="185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r 2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69160" y="4267080"/>
            <a:ext cx="185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2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7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2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7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7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2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7" dur="500"/>
                                        <p:tgtEl>
                                          <p:spTgt spid="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7" dur="500"/>
                                        <p:tgtEl>
                                          <p:spTgt spid="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8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8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2" dur="500"/>
                                        <p:tgtEl>
                                          <p:spTgt spid="8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olubility &amp; Precipita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52280" y="898200"/>
            <a:ext cx="876312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2 solutions are combined and result in the formation of an insoluble produ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will not dissolve in the sol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will form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cip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olu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rinsic physical property and a measure of how well a substance (solute) will dissolve in another substance (solv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 is temperatu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solubility increases with increased temperature (i.e. you can dissolve more sugar in hot water than in cold 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solubility increases with decreased temperature (i.e. you can dissolve mor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old water than hot 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any of it will dissolve in a sol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g.  NaCl is solubl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e is insoluble if no appreciable amount of it will dissolve in solv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g.  AgCl is insolubl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pitation (formation of an insoluble solid) is one indication that a chemical change has occur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neral Rules for Solubil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8160" y="99216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oluble, except AgCl, Pb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H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oluble, except B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b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lightly soluble (will precipitate), except NaOH, KOH, are soluble and B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oderately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pounds that contain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ons are slightly soluble (will precipi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9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4" dur="5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8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xidation-Reduc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0" y="1063440"/>
            <a:ext cx="8926560" cy="56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that involve transfer or rearrangement of electron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idation-reduction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s of oxidation-reduction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Nonmetal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Na(s) + Cl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2NaCl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al loses an electron(s) and becomes a cation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xidatio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metal gets oxid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a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Na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 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nmetal gains an electron(s) and becomes an anion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ductio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nonmetal gets reduced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 + 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reaction, electrons are transferred from the metal to the non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s a reactant or product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s) + 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 + H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reaction, it is not obvious that electron transfer has taken place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this case, oxidation states are al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this type of reaction involves the release of large amounts of energy, even combu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6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1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1" dur="500"/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6" dur="500"/>
                                        <p:tgtEl>
                                          <p:spTgt spid="8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1" dur="500"/>
                                        <p:tgtEl>
                                          <p:spTgt spid="8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6" dur="500"/>
                                        <p:tgtEl>
                                          <p:spTgt spid="8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1" dur="500"/>
                                        <p:tgtEl>
                                          <p:spTgt spid="8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ates of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30040" y="1036800"/>
            <a:ext cx="8761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a chemical reaction occurs is indicated by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ct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the concentration of produc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the concentration of reacta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tors that influence reaction r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actants must be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s occur due to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contact between reactants there can be 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entration of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reactant molecules packed into a given space the more likely a collision (&amp; reaction) will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KE of each reactant affects how much energy will be transferred between reactants during a molecula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s must transfer enough KE to break the existing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28120" y="255600"/>
            <a:ext cx="818676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Role of 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52280" y="1049400"/>
            <a:ext cx="8839440" cy="58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transformations always accompany chemical re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quired to break bonds (energy absorbed 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ctivation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leased when bonds ar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The amount of energy required to break a chemical bond is the same as the energy released when that type of bond is formed, this is called the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Bo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hemical reaction to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must be absorbed in order to break chemical bonds in the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leased as new bonds are formed in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End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s absorb more energy than they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93 k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NO(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s release more energy than they abs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NO(g) 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5 k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685800" y="933480"/>
            <a:ext cx="6705720" cy="2743200"/>
            <a:chOff x="685800" y="933480"/>
            <a:chExt cx="6705720" cy="2743200"/>
          </a:xfrm>
        </p:grpSpPr>
        <p:sp>
          <p:nvSpPr>
            <p:cNvPr id="828" name=""/>
            <p:cNvSpPr/>
            <p:nvPr/>
          </p:nvSpPr>
          <p:spPr>
            <a:xfrm>
              <a:off x="2971800" y="13906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971440" y="36766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28800" y="1282680"/>
              <a:ext cx="1371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3048120" y="1348920"/>
              <a:ext cx="3505320" cy="1794240"/>
              <a:chOff x="3048120" y="1348920"/>
              <a:chExt cx="3505320" cy="1794240"/>
            </a:xfrm>
          </p:grpSpPr>
          <p:sp>
            <p:nvSpPr>
              <p:cNvPr id="832" name=""/>
              <p:cNvSpPr/>
              <p:nvPr/>
            </p:nvSpPr>
            <p:spPr>
              <a:xfrm>
                <a:off x="3048120" y="230508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29200" y="3143160"/>
                <a:ext cx="152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5029200" y="230508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35" name=""/>
              <p:cNvCxnSpPr>
                <a:endCxn id="834" idx="0"/>
              </p:cNvCxnSpPr>
              <p:nvPr/>
            </p:nvCxnSpPr>
            <p:spPr>
              <a:xfrm flipV="1">
                <a:off x="4572000" y="2289960"/>
                <a:ext cx="457920" cy="11880"/>
              </a:xfrm>
              <a:prstGeom prst="curvedConnector5">
                <a:avLst>
                  <a:gd name="adj1" fmla="val 10700"/>
                  <a:gd name="adj2" fmla="val 4134375"/>
                  <a:gd name="adj3" fmla="val 10700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36" name=""/>
            <p:cNvSpPr/>
            <p:nvPr/>
          </p:nvSpPr>
          <p:spPr>
            <a:xfrm>
              <a:off x="3048120" y="193824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81840" y="321948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48320" y="2305080"/>
              <a:ext cx="2057400" cy="0"/>
            </a:xfrm>
            <a:prstGeom prst="line">
              <a:avLst/>
            </a:prstGeom>
            <a:ln cap="rnd" w="381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00600" y="1390680"/>
              <a:ext cx="0" cy="9144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24640" y="1390680"/>
              <a:ext cx="16002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943600" y="2305080"/>
              <a:ext cx="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791320" y="2457360"/>
              <a:ext cx="1600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Energy Releas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5800" y="933480"/>
              <a:ext cx="350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xothermic Re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5800" y="3753000"/>
            <a:ext cx="6781320" cy="2743200"/>
            <a:chOff x="685800" y="3753000"/>
            <a:chExt cx="6781320" cy="2743200"/>
          </a:xfrm>
        </p:grpSpPr>
        <p:sp>
          <p:nvSpPr>
            <p:cNvPr id="845" name=""/>
            <p:cNvSpPr/>
            <p:nvPr/>
          </p:nvSpPr>
          <p:spPr>
            <a:xfrm>
              <a:off x="2971440" y="421020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2971440" y="6496200"/>
              <a:ext cx="434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28440" y="4102200"/>
              <a:ext cx="1371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3047760" y="4438080"/>
              <a:ext cx="3428280" cy="1086480"/>
              <a:chOff x="3047760" y="4438080"/>
              <a:chExt cx="3428280" cy="1086480"/>
            </a:xfrm>
          </p:grpSpPr>
          <p:sp>
            <p:nvSpPr>
              <p:cNvPr id="849" name=""/>
              <p:cNvSpPr/>
              <p:nvPr/>
            </p:nvSpPr>
            <p:spPr>
              <a:xfrm>
                <a:off x="3047760" y="5505840"/>
                <a:ext cx="152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952520" y="4972320"/>
                <a:ext cx="152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4952520" y="46670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52" name=""/>
              <p:cNvCxnSpPr>
                <a:stCxn id="849" idx="0"/>
                <a:endCxn id="851" idx="0"/>
              </p:cNvCxnSpPr>
              <p:nvPr/>
            </p:nvCxnSpPr>
            <p:spPr>
              <a:xfrm flipH="1" flipV="1" rot="5400000">
                <a:off x="4323240" y="4895640"/>
                <a:ext cx="877320" cy="381600"/>
              </a:xfrm>
              <a:prstGeom prst="curvedConnector5">
                <a:avLst>
                  <a:gd name="adj1" fmla="val 2873"/>
                  <a:gd name="adj2" fmla="val -1416"/>
                  <a:gd name="adj3" fmla="val 2873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53" name=""/>
            <p:cNvSpPr/>
            <p:nvPr/>
          </p:nvSpPr>
          <p:spPr>
            <a:xfrm>
              <a:off x="3047760" y="544392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81480" y="459144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47960" y="5505840"/>
              <a:ext cx="2057040" cy="0"/>
            </a:xfrm>
            <a:prstGeom prst="line">
              <a:avLst/>
            </a:prstGeom>
            <a:ln cap="rnd" w="381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00240" y="4438800"/>
              <a:ext cx="0" cy="10670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0040" y="4391280"/>
              <a:ext cx="1599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943240" y="4972320"/>
              <a:ext cx="0" cy="5335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67280" y="4972320"/>
              <a:ext cx="1599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Energy Absorb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85800" y="3753000"/>
              <a:ext cx="3504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Endothermic Re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8T19:47:54Z</dcterms:modified>
  <cp:revision>179</cp:revision>
  <dc:subject/>
  <dc:title>Phy 211: General Physics I</dc:title>
</cp:coreProperties>
</file>