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F7000-2737-4185-8007-24F50B208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2266-BCDF-453D-8EE8-CA1768BC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060-154D-417F-93D9-DE5253F5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22F-15A7-4EE3-A21A-425E3022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B79E-204E-4D4F-8506-132ED9AA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824-F362-4806-B0B1-3CE317B7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BF2-F34F-4AF1-BCB2-C77F5AAC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C72E-390D-4817-8157-D270ABB6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8C3-250D-48D3-BB87-E2AFD617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F5CE-F13E-4875-B57A-99FAA39B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B9BC-9AD5-4990-B2C7-C4A0A8CC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547-513B-4D61-A6F7-B5AC1C0F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062-302F-4C66-9AA3-531B7B81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EBFA-07B9-4304-AEA1-C021DAC12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 9: Calculations from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 (Sections 9.1 to 9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530280"/>
            <a:ext cx="8686800" cy="67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emical Equations: What do they tell us?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4240" y="1352160"/>
            <a:ext cx="8836200" cy="42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erly written chemical equation will provide the following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actants &amp; products involved in th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ysical state of all reactants &amp;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ence of any catalysts involved in the chemical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ve quantity of all reactants &amp;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e to molecule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 to mole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mass to mass ratios can be determined (with use of molar mass val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nformation Given by the Chemical Equ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968040"/>
            <a:ext cx="8839440" cy="457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lanced chemical equation provides the relationship between the relative numbers of reacting molecules and product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 The formation of carbon dioxide from carbon monoxide and oxygen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CO +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2 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n this chemical equation, it is indicated that 2 CO molecules react with every 1 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molecule to produce 2 C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Alternative interpretation: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there is a 2:1 (numerical) ratio of CO to O</a:t>
            </a:r>
            <a:r>
              <a:rPr b="0" i="1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for this completed reaction,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2 CO:1 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:2 C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nterpretation of the Chemical Equ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1120" y="1158480"/>
            <a:ext cx="8839440" cy="510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information given in a balanced chemical reaction is rela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 CO + O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2 CO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are alternative interpretations of the chemical equ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 C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 react with 100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 to produce 200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billion CO molecules react with 1 billion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 to produce 20 billion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oles CO molecules react with 1 mole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 to produce 2 moles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moles CO molecules react with 6 moles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 to produce 12 moles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The coefficients in the balanced chemical equation also shows the molecules and mole ratio of the reactants and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moles can be converted to masses, we can determine the mass ratio of the reactants and products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86920"/>
            <a:ext cx="860112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le and Mass Ratios in Chemical Equ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076040"/>
            <a:ext cx="8381880" cy="555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following chemical equ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 CO + 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2 C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mole relations are impli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 moles CO : 1 mole O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: 2 moles CO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e molar masses of the compounds in this re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ole of CO = 28.01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ole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2.00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ole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44.01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The mass ratio of the compounds in this reaction can be determined using the molar mass val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2(28.01) g CO : 1(32.00) g O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: 2(44.01) g CO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mass ratio of the compounds in this reac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6.02 g CO : 32.00 g 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: 88.02 g 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2185560"/>
            <a:ext cx="8839440" cy="392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balanced eq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CO +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2 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oefficients to find the mole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moles CO : 1 mol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: 2 moles 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imensional analysis to obtain the # of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# mol of 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# mol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22968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240" y="885960"/>
            <a:ext cx="9113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Number of Moles of Carbon Monoxide required to react with 3.2 moles Oxygen, and the moles of Carbon Dioxide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873520" y="4408560"/>
          <a:ext cx="578628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3520" y="4408560"/>
                    <a:ext cx="578628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460600" y="5659560"/>
          <a:ext cx="649440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60600" y="5659560"/>
                    <a:ext cx="64944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09-28T16:44:46Z</dcterms:modified>
  <cp:revision>179</cp:revision>
  <dc:subject/>
  <dc:title>Phy 211: General Physics I</dc:title>
</cp:coreProperties>
</file>