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EA789-D21F-43FB-BEF6-37AC5159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A85-B432-48CD-A917-7F179FE5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04C-89F8-4EE7-AA85-12C4C45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F86-F42C-4DAB-AC6A-91BE1BA5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61A-4507-4419-AB7D-D6493E62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A07-B89A-4E75-9FDF-792846BD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579-D961-4B59-8893-3627900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E8D-24BD-4DE5-B478-ED77358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94D-09A2-4C7D-8353-0FC8F589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5B0-B124-49C6-A7AF-2531B72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197-D43E-4069-9B47-A6FC9F0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447-B889-42C8-B833-26F9575A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0B9-00F6-478A-8ABA-4072FC6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D8F7-36F2-4E33-9B11-60A42D67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9: Calculations from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(Sections 9.1 to 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0280"/>
            <a:ext cx="868680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: What do they tell us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4240" y="1352160"/>
            <a:ext cx="883620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ly written chemical equation will provide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actants &amp; products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state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any catalysts involved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quantity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 to molecu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 to mo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ss to mass ratios can be determined (with use of molar mass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formation Given by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968040"/>
            <a:ext cx="8839440" cy="45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anced chemical equation provides the relationship between the relative numbers of reacting molecules and produc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The formation of carbon dioxide from carbon monoxide and oxy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this chemical equation, it is indicated that 2 CO molecules react with every 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 to produce 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lternative interpretation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re is a 2:1 (numerical) ratio of CO to 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for this completed reaction,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CO: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: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ation of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1120" y="1158480"/>
            <a:ext cx="8839440" cy="51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formation given in a balanced chemical reaction is rel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are alternative interpretations of the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react with 100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0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illion CO molecules react with 1 billion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 billion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oles CO molecules react with 1 mol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les CO molecules react with 6 mo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1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The coefficients in the balanced chemical equation also shows the molecules and mole ratio of the reactan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oles can be converted to masses, we can determine the mass ratio of the reactants and produc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86920"/>
            <a:ext cx="86011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and Mass Ratios in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76040"/>
            <a:ext cx="8381880" cy="55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following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ole relations are impl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 moles CO : 1 mole 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: 2 moles C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molar masses of the compounds in this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f CO = 28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2.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4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can be determined using the molar mass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(28.01) g CO : 1(32.00) g 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: 2(44.01) g C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6.02 g CO : 32.00 g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: 88.02 g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2185560"/>
            <a:ext cx="883944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efficients to find the mole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moles CO : 1 mol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: 2 moles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mensional analysis to obtain the #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240" y="885960"/>
            <a:ext cx="911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Moles of Carbon Monoxide required to react with 3.2 moles Oxygen, and the moles of Carbon Dioxid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73520" y="4408560"/>
          <a:ext cx="57862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3520" y="4408560"/>
                    <a:ext cx="57862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60600" y="5659560"/>
          <a:ext cx="64944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0600" y="5659560"/>
                    <a:ext cx="64944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8T16:44:46Z</dcterms:modified>
  <cp:revision>179</cp:revision>
  <dc:subject/>
  <dc:title>Phy 211: General Physics I</dc:title>
</cp:coreProperties>
</file>