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5AFA8-2090-4737-B8BA-BDD77EB73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due to collisions must be great enough to overcome the energy barrier for existing chemical bonds.  The magnitude of this energy is referred to as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E0A-01B2-4B97-92EC-67870BBB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C4AF-0868-4B57-BC2C-1F5D9B15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E13-3E93-4117-A790-A07D1DCD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CAF-EB44-43CE-9998-974334D2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459-DB3F-446E-AC75-23E347CD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45C-8757-4CFF-BC55-E269D389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6C0-78A8-4553-B7EA-4E428295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93B-4AD3-4A9B-AAB1-1DF727CD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CBE-09FE-4328-AA38-67C5AC14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630-4A28-4CE1-B85F-AE47EF59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AB5-7BF2-4230-9A55-16FE0D43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5D9B-76D0-4F70-ACC4-37F7E2E0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D2D4-E6C3-4AB9-B189-A8126FD57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: Chemic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ouble Displacement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861480"/>
            <a:ext cx="8839440" cy="57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Displacement Reactions involve the double exchange of a component (such as ions) between two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c form of double displacement reaction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+ A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+ A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X, Y, A, and B are the components of the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 1:  Acid Base Neut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C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(OH)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C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2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(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 2:  Metal Oxide +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 + 2H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C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 3:  Formation of an Insoluble Precipitate (Precip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Ag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K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Ag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 4:  Formation of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(aq) + Zn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(s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Zn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92880" y="3340080"/>
            <a:ext cx="185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or 2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69160" y="4267080"/>
            <a:ext cx="185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968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olubility &amp; Precipitation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898200"/>
            <a:ext cx="876312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2 solutions are combined and result in the formation of an insoluble produ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duct will not dissolve in the sol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duct will form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cip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olu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rinsic physical property and a measure of how well a substance (solute) will dissolve in another substance (solv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 is temperature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id solubility increases with increased temperature (i.e. you can dissolve more sugar in hot water than in cold w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solubility increases with decreased temperature (i.e. you can dissolve more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old water than hot w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lut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u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any of it will dissolve in a sol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g.  NaCl is soluble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lute is insoluble if no appreciable amount of it will dissolve in solv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g.  AgCl is insoluble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pitation (formation of an insoluble solid) is one indication that a chemical change has occurr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5056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eneral Rules for Solubilit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400" y="1215720"/>
            <a:ext cx="8915400" cy="458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unds that contai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are sol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unds that contai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, K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, or N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s are sol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unds that contai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s are soluble, excep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gCl, Pb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g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unds that contai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s are soluble, excep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Pb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unds that conta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s are slightly soluble (will precipitate), excep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aOH, K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re soluble and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Ba(OH)</a:t>
            </a:r>
            <a:r>
              <a:rPr b="0" lang="en-US" sz="2400" spc="-1" strike="noStrike" baseline="-25000">
                <a:solidFill>
                  <a:srgbClr val="3399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, Ca(OH)</a:t>
            </a:r>
            <a:r>
              <a:rPr b="0" lang="en-US" sz="2400" spc="-1" strike="noStrike" baseline="-25000">
                <a:solidFill>
                  <a:srgbClr val="3399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moderately sol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unds that conta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3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s are slightly soluble (will precipit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Oxidation-Reduction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063440"/>
            <a:ext cx="8926560" cy="56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that involve transfer or rearrangement of electrons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idation-reduction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s of oxidation-reduction re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al + Nonmetal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Na(s) + Cl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g)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2NaCl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tal loses an electron(s) and becomes a cation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xidation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metal gets oxid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a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Na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+ 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nmetal gains an electron(s) and becomes an anion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duction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nonmetal gets reduced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l + 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l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reaction, electrons are transferred from the metal to the nonme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as a reactant or product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s) + O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g)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g) + H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reaction, it is not obvious that electron transfer has taken place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this case, oxidation states are alt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this type of reaction involves the release of large amounts of energy, even combu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ates of Chemical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0040" y="1036800"/>
            <a:ext cx="8761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quickly a chemical reaction occurs is indicated by 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cti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quickly the concentration of produc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quickly the concentration of reactan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ctors that influence reaction r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eactants must be i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s occur due to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contact between reactants there can be 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centration of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reactant molecules packed into a given space the more likely a collision (&amp; reaction) will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emp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KE of each reactant affects how much energy will be transferred between reactants during a molecular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es must transfer enough KE to break the existing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8120" y="255600"/>
            <a:ext cx="818676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Role of Energy in Chemical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049400"/>
            <a:ext cx="8839440" cy="583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transformations always accompany chemical re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required to break bonds (energy absorbed or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ctivation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released when bonds ar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Note: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The amount of energy required to break a chemical bond equals the energy released when that type of bond is formed, this is called the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Bo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hemical reaction to occ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must be absorbed in order to break chemical bonds in the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released as new bonds are formed in th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Endother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tions absorb more energy than they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393 k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NO(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other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tions release more energy than they abso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NO(g) +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5 k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in Chemical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85800" y="933480"/>
            <a:ext cx="6705720" cy="2743200"/>
            <a:chOff x="685800" y="933480"/>
            <a:chExt cx="6705720" cy="2743200"/>
          </a:xfrm>
        </p:grpSpPr>
        <p:sp>
          <p:nvSpPr>
            <p:cNvPr id="85" name=""/>
            <p:cNvSpPr/>
            <p:nvPr/>
          </p:nvSpPr>
          <p:spPr>
            <a:xfrm>
              <a:off x="2971800" y="139068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971440" y="36766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1282680"/>
              <a:ext cx="1371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tenti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048120" y="1348920"/>
              <a:ext cx="3505320" cy="1794240"/>
              <a:chOff x="3048120" y="1348920"/>
              <a:chExt cx="3505320" cy="1794240"/>
            </a:xfrm>
          </p:grpSpPr>
          <p:sp>
            <p:nvSpPr>
              <p:cNvPr id="89" name=""/>
              <p:cNvSpPr/>
              <p:nvPr/>
            </p:nvSpPr>
            <p:spPr>
              <a:xfrm>
                <a:off x="3048120" y="230508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29200" y="3143160"/>
                <a:ext cx="152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029200" y="230508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" name=""/>
              <p:cNvCxnSpPr>
                <a:endCxn id="91" idx="0"/>
              </p:cNvCxnSpPr>
              <p:nvPr/>
            </p:nvCxnSpPr>
            <p:spPr>
              <a:xfrm flipV="1">
                <a:off x="4572000" y="2289960"/>
                <a:ext cx="457920" cy="11880"/>
              </a:xfrm>
              <a:prstGeom prst="curvedConnector5">
                <a:avLst>
                  <a:gd name="adj1" fmla="val 10700"/>
                  <a:gd name="adj2" fmla="val 4134375"/>
                  <a:gd name="adj3" fmla="val 10700"/>
                </a:avLst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93" name=""/>
            <p:cNvSpPr/>
            <p:nvPr/>
          </p:nvSpPr>
          <p:spPr>
            <a:xfrm>
              <a:off x="3048120" y="1938240"/>
              <a:ext cx="137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81840" y="3219480"/>
              <a:ext cx="137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8320" y="2305080"/>
              <a:ext cx="2057400" cy="0"/>
            </a:xfrm>
            <a:prstGeom prst="line">
              <a:avLst/>
            </a:prstGeom>
            <a:ln cap="rnd" w="381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1390680"/>
              <a:ext cx="0" cy="9144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24640" y="1390680"/>
              <a:ext cx="16002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Activation Energy (E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43600" y="2305080"/>
              <a:ext cx="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1320" y="2457360"/>
              <a:ext cx="1600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Energy Released 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" y="933480"/>
              <a:ext cx="3505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xothermic Re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85800" y="3753000"/>
            <a:ext cx="6781320" cy="2743200"/>
            <a:chOff x="685800" y="3753000"/>
            <a:chExt cx="6781320" cy="2743200"/>
          </a:xfrm>
        </p:grpSpPr>
        <p:sp>
          <p:nvSpPr>
            <p:cNvPr id="102" name=""/>
            <p:cNvSpPr/>
            <p:nvPr/>
          </p:nvSpPr>
          <p:spPr>
            <a:xfrm>
              <a:off x="2971440" y="421020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71440" y="6496200"/>
              <a:ext cx="434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8440" y="4102200"/>
              <a:ext cx="1371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tenti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047760" y="4438080"/>
              <a:ext cx="3428280" cy="1086480"/>
              <a:chOff x="3047760" y="4438080"/>
              <a:chExt cx="3428280" cy="1086480"/>
            </a:xfrm>
          </p:grpSpPr>
          <p:sp>
            <p:nvSpPr>
              <p:cNvPr id="106" name=""/>
              <p:cNvSpPr/>
              <p:nvPr/>
            </p:nvSpPr>
            <p:spPr>
              <a:xfrm>
                <a:off x="3047760" y="5505840"/>
                <a:ext cx="152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952520" y="4972320"/>
                <a:ext cx="152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4952520" y="46670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" name=""/>
              <p:cNvCxnSpPr>
                <a:stCxn id="106" idx="0"/>
                <a:endCxn id="108" idx="0"/>
              </p:cNvCxnSpPr>
              <p:nvPr/>
            </p:nvCxnSpPr>
            <p:spPr>
              <a:xfrm flipH="1" flipV="1" rot="5400000">
                <a:off x="4323240" y="4895640"/>
                <a:ext cx="877320" cy="381600"/>
              </a:xfrm>
              <a:prstGeom prst="curvedConnector5">
                <a:avLst>
                  <a:gd name="adj1" fmla="val 2873"/>
                  <a:gd name="adj2" fmla="val -1416"/>
                  <a:gd name="adj3" fmla="val 2873"/>
                </a:avLst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0" name=""/>
            <p:cNvSpPr/>
            <p:nvPr/>
          </p:nvSpPr>
          <p:spPr>
            <a:xfrm>
              <a:off x="3047760" y="5443920"/>
              <a:ext cx="137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1480" y="4591440"/>
              <a:ext cx="137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47960" y="5505840"/>
              <a:ext cx="2057040" cy="0"/>
            </a:xfrm>
            <a:prstGeom prst="line">
              <a:avLst/>
            </a:prstGeom>
            <a:ln cap="rnd" w="381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240" y="4438800"/>
              <a:ext cx="0" cy="10670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00040" y="4391280"/>
              <a:ext cx="15998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Activation Energy (E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240" y="4972320"/>
              <a:ext cx="0" cy="5335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67280" y="4972320"/>
              <a:ext cx="1599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Energy Absorbed 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800" y="3753000"/>
              <a:ext cx="3504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Endothermic Re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in Reaction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8600" y="1060560"/>
            <a:ext cx="8534520" cy="5140080"/>
            <a:chOff x="228600" y="1060560"/>
            <a:chExt cx="8534520" cy="5140080"/>
          </a:xfrm>
        </p:grpSpPr>
        <p:sp>
          <p:nvSpPr>
            <p:cNvPr id="120" name=""/>
            <p:cNvSpPr/>
            <p:nvPr/>
          </p:nvSpPr>
          <p:spPr>
            <a:xfrm>
              <a:off x="2303640" y="1819440"/>
              <a:ext cx="0" cy="438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286000" y="6200640"/>
              <a:ext cx="615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97000" y="1898640"/>
              <a:ext cx="1604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2651040" y="3220920"/>
              <a:ext cx="5959440" cy="1957680"/>
              <a:chOff x="2651040" y="3220920"/>
              <a:chExt cx="5959440" cy="195768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2651040" y="3571560"/>
                <a:ext cx="258300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70440" y="5178600"/>
                <a:ext cx="284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5770440" y="3571560"/>
                <a:ext cx="0" cy="160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7" name=""/>
              <p:cNvCxnSpPr>
                <a:endCxn id="126" idx="0"/>
              </p:cNvCxnSpPr>
              <p:nvPr/>
            </p:nvCxnSpPr>
            <p:spPr>
              <a:xfrm flipV="1">
                <a:off x="5234040" y="3552480"/>
                <a:ext cx="536760" cy="21600"/>
              </a:xfrm>
              <a:prstGeom prst="curvedConnector5">
                <a:avLst>
                  <a:gd name="adj1" fmla="val 10738"/>
                  <a:gd name="adj2" fmla="val 830508"/>
                  <a:gd name="adj3" fmla="val 10738"/>
                </a:avLst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28" name=""/>
            <p:cNvSpPr/>
            <p:nvPr/>
          </p:nvSpPr>
          <p:spPr>
            <a:xfrm>
              <a:off x="2819520" y="3166920"/>
              <a:ext cx="203508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Na(s) + 2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(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27840" y="5245200"/>
              <a:ext cx="266220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NaOH(aq) + 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22960" y="3571920"/>
              <a:ext cx="240804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43600" y="3228840"/>
              <a:ext cx="0" cy="3430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14960" y="2543040"/>
              <a:ext cx="18716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33"/>
                  </a:solidFill>
                  <a:latin typeface="Arial"/>
                </a:rPr>
                <a:t>Low Activation Energy (E</a:t>
              </a:r>
              <a:r>
                <a:rPr b="0" lang="en-US" sz="1600" spc="-1" strike="noStrike" baseline="-25000">
                  <a:solidFill>
                    <a:srgbClr val="990033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990033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0360" y="3571920"/>
              <a:ext cx="0" cy="1606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89680" y="4079880"/>
              <a:ext cx="18734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Large amount of Energy Released 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" y="1060560"/>
              <a:ext cx="6334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Example: Sodium Water Rea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3244680"/>
              <a:ext cx="99072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16480" y="4340160"/>
              <a:ext cx="40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268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talyst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30040" y="1036800"/>
            <a:ext cx="8761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yst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stances that speed up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reactions to occur that might not otherwise take place (due to low temperature for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activation energy for a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of catalysts in a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undergo a chemical change as a reactant but they are always recycled as a product (so there is no net change in the catalyst molec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ysts are indicated in a chemical reaction by placing the chemical formula over/under the reaction a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ctants  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he breakdown of 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3080" y="500220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ataly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35200" y="5975280"/>
          <a:ext cx="5237280" cy="6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5975280"/>
                    <a:ext cx="52372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talysts &amp; Energy in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1208160"/>
            <a:ext cx="8420040" cy="4798800"/>
            <a:chOff x="228600" y="1208160"/>
            <a:chExt cx="8420040" cy="4798800"/>
          </a:xfrm>
        </p:grpSpPr>
        <p:sp>
          <p:nvSpPr>
            <p:cNvPr id="145" name=""/>
            <p:cNvSpPr/>
            <p:nvPr/>
          </p:nvSpPr>
          <p:spPr>
            <a:xfrm>
              <a:off x="2265840" y="1916640"/>
              <a:ext cx="0" cy="409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248200" y="6006960"/>
              <a:ext cx="60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79360" y="1990440"/>
              <a:ext cx="157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tenti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606760" y="3552480"/>
              <a:ext cx="2535840" cy="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69640" y="5052600"/>
              <a:ext cx="278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669640" y="3552480"/>
              <a:ext cx="0" cy="149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"/>
            <p:cNvCxnSpPr>
              <a:endCxn id="150" idx="0"/>
            </p:cNvCxnSpPr>
            <p:nvPr/>
          </p:nvCxnSpPr>
          <p:spPr>
            <a:xfrm flipV="1">
              <a:off x="5142960" y="3534120"/>
              <a:ext cx="526680" cy="19800"/>
            </a:xfrm>
            <a:prstGeom prst="curvedConnector5">
              <a:avLst>
                <a:gd name="adj1" fmla="val 10738"/>
                <a:gd name="adj2" fmla="val 829629"/>
                <a:gd name="adj3" fmla="val 10738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2772360" y="3174480"/>
              <a:ext cx="199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7720" y="4686120"/>
              <a:ext cx="1639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5080" y="3537720"/>
              <a:ext cx="2364120" cy="0"/>
            </a:xfrm>
            <a:prstGeom prst="line">
              <a:avLst/>
            </a:prstGeom>
            <a:ln cap="rnd" w="38160">
              <a:solidFill>
                <a:srgbClr val="0099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39920" y="3232440"/>
              <a:ext cx="0" cy="3200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5440" y="2823120"/>
              <a:ext cx="2188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Activation Energy </a:t>
              </a:r>
              <a:r>
                <a:rPr b="1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with</a:t>
              </a: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 cat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1208160"/>
              <a:ext cx="6219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Catalysts lower Activation Ener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"/>
            <p:cNvCxnSpPr>
              <a:stCxn id="148" idx="0"/>
              <a:endCxn id="150" idx="1"/>
            </p:cNvCxnSpPr>
            <p:nvPr/>
          </p:nvCxnSpPr>
          <p:spPr>
            <a:xfrm flipH="1" rot="16200000">
              <a:off x="5405400" y="3271320"/>
              <a:ext cx="1800" cy="526680"/>
            </a:xfrm>
            <a:prstGeom prst="curvedConnector5">
              <a:avLst>
                <a:gd name="adj1" fmla="val -104000000"/>
                <a:gd name="adj2" fmla="val 50000"/>
                <a:gd name="adj3" fmla="val -104000000"/>
              </a:avLst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sp>
          <p:nvSpPr>
            <p:cNvPr id="159" name=""/>
            <p:cNvSpPr/>
            <p:nvPr/>
          </p:nvSpPr>
          <p:spPr>
            <a:xfrm>
              <a:off x="5397120" y="3220560"/>
              <a:ext cx="1056240" cy="0"/>
            </a:xfrm>
            <a:prstGeom prst="line">
              <a:avLst/>
            </a:prstGeom>
            <a:ln cap="rnd" w="38160">
              <a:solidFill>
                <a:srgbClr val="00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09720" y="2002320"/>
              <a:ext cx="105660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68400" y="1751760"/>
              <a:ext cx="2280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ctivation Energy </a:t>
              </a:r>
              <a:r>
                <a:rPr b="1" lang="en-US" sz="1600" spc="-1" strike="noStrike" u="sng">
                  <a:solidFill>
                    <a:srgbClr val="ff0000"/>
                  </a:solidFill>
                  <a:uFillTx/>
                  <a:latin typeface="Arial"/>
                </a:rPr>
                <a:t>withou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cat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8560" y="2011320"/>
              <a:ext cx="29520" cy="153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emical Equations (Intro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833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equations are used to  symbolically describe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hemical equation (or reaction for that matter) the substances that undergo chemical change(s) are calle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ing substances formed are calle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representation of a chemical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ctant(s)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Produc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The production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g) +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g)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derlined number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effici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each molecule for each reactant &amp; product in the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always who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emical Equation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 chemical equations indicate the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of each reactant &amp; product involved in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of each reactant and product  involved in the reaction (i.e. sol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iqu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g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quantity of each reactant and product  involved in the reaction (the coefficie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ntity of each reactant and product  involved in the reaction (the coefficie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9000" y="262080"/>
            <a:ext cx="84582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alancing Chemical Equ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8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w of Mass Cons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&amp; John Dalton!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ter is never created nor destroyed during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 of the ato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reactants of a chemical reaction must be accounted for in th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Basic Process of Balancing Chemical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dentify all reactants &amp; products in the reaction &amp; write out their formulas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(this is the unbalanced chemical equ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unt the number of each atom for each compound for each reactant &amp; product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(these values must be the same for both reactants &amp; products when the reaction is balanced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arting with the most “complicated” molecule, systematically adjust the coefficients to balance # of the atoms on each side of the reaction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(balance one atom at a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peat until all atoms are balanced for th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w you should have a balanced chemical equ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alancing Chemical Equation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example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odium metal is added to water a violent reaction takes place producing aqueous sodium hydroxide and releasing hydrogen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out the unbalanced chemical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balance the chemical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429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alancing Chemical Reaction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Hint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82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polyatomic ion(s) appears on both the reactant &amp; product side of the reac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chan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reat the whole ion as a “unit” when balancing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nitrate ion 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gets swapped between the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s in this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treated as a whole unit when balancing this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368440"/>
            <a:ext cx="8839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q) +   CaCl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q)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AgCl(s) +    Ca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ommon Classifications for Chemical Reaction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ation (or Synthesis)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s in which reactants combine to ma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mpositio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s in whi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 reacta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s down into smalle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Displaceme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tions where a part of one reactant is displaced and combined with another rea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Zn(s) + 2HCl(aq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ZnCl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aq) + 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Displaceme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tions where a part of two reactants is displaced and ex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g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aq) + NaCl(aq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AgCl(s) + Na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a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Acid-base neutr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Formation of insoluble products (Precipitation rea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Metal oxide +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Gas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idation-Reduction React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actions involving the transfer or rearrangement of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mbination &amp; Decomposition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4720" y="863280"/>
            <a:ext cx="8654760" cy="57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in which chemicals combine to mak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pro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ation or Synthesis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 + Nonmetal reactions can be classified as Combination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Na(s) + C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2 NaC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s between Metals or Nonmetals with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assified as Combination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g) +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2 NO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se two types of Combination Reactions are also subclasses of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Oxidation-Reduction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in whic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reac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s down into smaller molecules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mposition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mposition reactions are generally initiated by the addition of energy (via electric current or he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mposition reactions are the opposite of Combination Re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NaCl(l)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2 Na(l) + C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ngle Displacement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displacement reactions involve one part of a reactant being transferred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ic pattern of the single displacement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Y +  A</a:t>
            </a:r>
            <a:r>
              <a:rPr b="0" lang="en-US" sz="28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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 + AY</a:t>
            </a:r>
            <a:r>
              <a:rPr b="0" lang="en-US" sz="28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 1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Metal + Acid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lt + Hyd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Zn(s) + 2 HCl(aq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ZnCl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 2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al + Water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Hydrogen + Metal Oxid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or metal hydrox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3 Fe(s) + 4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(l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4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g) + Fe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 3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al + Sal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Metal + 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 Al(s) + Fe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2 Fe(s) + Al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 4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logen + Halide Sal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Halogen + Halide 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g) + 2 NaBr(s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Br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g) + 2 NaCl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2-29T01:03:38Z</dcterms:modified>
  <cp:revision>182</cp:revision>
  <dc:subject/>
  <dc:title>Phy 211: General Physics I</dc:title>
</cp:coreProperties>
</file>