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468FE-53E8-4355-B81A-DF8FE274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due to collisions must be great enough to overcome the energy barrier for existing chemical bonds.  The magnitude of this energy is referred to as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290-9257-4B79-8009-DD3A6E88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BB7-75B4-403E-BED0-2E20EF51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C92-74CA-4680-B493-0780FF54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288-4921-43B6-85DE-F4E45277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159-617D-4656-BCF1-53B2AB30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AED-F31A-4B6D-9DE2-D86C196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380-BC2A-4EEC-B531-BC89377E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7F1D-CFF9-40A8-91CF-6F6EA92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4FBE-ABD0-4F11-A5E2-6CC2C0DE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C76-0E6E-4227-BF30-1DB7EF99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80D-91F5-408B-B1A3-F5AEB203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CFF-8FF6-4CA5-89D5-290299F3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74F1-1212-483D-A4DC-75582D13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8: Chemic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ouble Displacement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861480"/>
            <a:ext cx="8839440" cy="57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Displacement Reactions involve the double exchange of a component (such as ions) between two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ic form of double displacement reaction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+ A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+ A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X, Y, A, and B are the components of the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1:  Acid Base Neutr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OH)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2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2:  Metal Oxide +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 + 2H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a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3:  Formation of an Insoluble Precipitate (Precip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Ag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K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Ag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 4:  Formation of a 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aq) + Zn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Zn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92880" y="3340080"/>
            <a:ext cx="18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r 2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69160" y="4267080"/>
            <a:ext cx="185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96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olubility &amp; Precipita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898200"/>
            <a:ext cx="876312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2 solutions are combined and result in the formation of an insoluble produ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will not dissolve in the sol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will form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cip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olu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rinsic physical property and a measure of how well a substance (solute) will dissolve in another substance (sol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 is temperature 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id solubility increases with increased temperature (i.e. you can dissolve more sugar in hot water than in cold 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 solubility increases with decreased temperature (i.e. you can dissolve more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cold water than hot 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e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any of it will dissolve in a sol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g.  NaCl is solubl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lute is insoluble if no appreciable amount of it will dissolve in solv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g.  AgCl is insoluble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pitation (formation of an insoluble solid) is one indication that a chemical change has occurr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056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eneral Rules for Solubil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400" y="1215720"/>
            <a:ext cx="8915400" cy="458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are 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K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, or N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oluble, exce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gCl, Pb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g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oluble, exce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Pb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lightly soluble (will precipitate), excep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aOH, K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re soluble and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Ba(OH)</a:t>
            </a:r>
            <a:r>
              <a:rPr b="0" lang="en-US" sz="2400" spc="-1" strike="noStrike" baseline="-25000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, Ca(OH)</a:t>
            </a:r>
            <a:r>
              <a:rPr b="0" lang="en-US" sz="2400" spc="-1" strike="noStrike" baseline="-25000">
                <a:solidFill>
                  <a:srgbClr val="3399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derately 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unds that conta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are slightly soluble (will precipi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Oxidation-Reduc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063440"/>
            <a:ext cx="8926560" cy="56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that involve transfer or rearrangement of electron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xidation-reduction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s of oxidation-reduction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Nonmetal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Na(s) + Cl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2NaCl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al loses an electron(s) and becomes a cation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xidatio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metal gets oxid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a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a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+ 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onmetal gains an electron(s) and becomes an anion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duction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nonmetal gets reduced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l + e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reaction, electrons are transferred from the metal to the non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s a reactant or product: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s) + 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(g) + H</a:t>
            </a:r>
            <a:r>
              <a:rPr b="0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reaction, it is not obvious that electron transfer has taken place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this case, oxidation states are alt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this type of reaction involves the release of large amounts of energy, even combu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ates of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0040" y="1036800"/>
            <a:ext cx="8761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a chemical reaction occurs is indicated by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cti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the concentration of produc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quickly the concentration of reactan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tors that influence reaction r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actants must be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s occur due to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contact between reactants there can be 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centration of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reactant molecules packed into a given space the more likely a collision (&amp; reaction) will occ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emper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KE of each reactant affects how much energy will be transferred between reactants during a molecula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8640" indent="-34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es must transfer enough KE to break the existing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8120" y="255600"/>
            <a:ext cx="818676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Role of 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049400"/>
            <a:ext cx="8839440" cy="583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transformations always accompany chemical re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quired to break bonds (energy absorbed or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ctivation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leased when bonds ar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 The amount of energy required to break a chemical bond equals the energy released when that type of bond is formed, this is called the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Bo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hemical reaction to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must be absorbed in order to break chemical bonds in the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released as new bonds are formed in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End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s absorb more energy than they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93 k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NO(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other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ctions release more energy than they abs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NO(g) +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85 k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933480"/>
            <a:ext cx="6705720" cy="2743200"/>
            <a:chOff x="685800" y="933480"/>
            <a:chExt cx="6705720" cy="2743200"/>
          </a:xfrm>
        </p:grpSpPr>
        <p:sp>
          <p:nvSpPr>
            <p:cNvPr id="85" name=""/>
            <p:cNvSpPr/>
            <p:nvPr/>
          </p:nvSpPr>
          <p:spPr>
            <a:xfrm>
              <a:off x="2971800" y="13906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971440" y="36766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1282680"/>
              <a:ext cx="1371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3048120" y="1348920"/>
              <a:ext cx="3505320" cy="1794240"/>
              <a:chOff x="3048120" y="1348920"/>
              <a:chExt cx="3505320" cy="1794240"/>
            </a:xfrm>
          </p:grpSpPr>
          <p:sp>
            <p:nvSpPr>
              <p:cNvPr id="89" name=""/>
              <p:cNvSpPr/>
              <p:nvPr/>
            </p:nvSpPr>
            <p:spPr>
              <a:xfrm>
                <a:off x="3048120" y="2305080"/>
                <a:ext cx="1523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9200" y="3143160"/>
                <a:ext cx="1524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029200" y="2305080"/>
                <a:ext cx="0" cy="83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2" name=""/>
              <p:cNvCxnSpPr>
                <a:endCxn id="91" idx="0"/>
              </p:cNvCxnSpPr>
              <p:nvPr/>
            </p:nvCxnSpPr>
            <p:spPr>
              <a:xfrm flipV="1">
                <a:off x="4572000" y="2289960"/>
                <a:ext cx="457920" cy="11880"/>
              </a:xfrm>
              <a:prstGeom prst="curvedConnector5">
                <a:avLst>
                  <a:gd name="adj1" fmla="val 10700"/>
                  <a:gd name="adj2" fmla="val 4134375"/>
                  <a:gd name="adj3" fmla="val 10700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3" name=""/>
            <p:cNvSpPr/>
            <p:nvPr/>
          </p:nvSpPr>
          <p:spPr>
            <a:xfrm>
              <a:off x="3048120" y="193824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840" y="3219480"/>
              <a:ext cx="1371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8320" y="2305080"/>
              <a:ext cx="2057400" cy="0"/>
            </a:xfrm>
            <a:prstGeom prst="line">
              <a:avLst/>
            </a:prstGeom>
            <a:ln cap="rnd" w="381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1390680"/>
              <a:ext cx="0" cy="9144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24640" y="1390680"/>
              <a:ext cx="16002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230508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2457360"/>
              <a:ext cx="1600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Energy Releas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" y="933480"/>
              <a:ext cx="3505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Exothermic Re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85800" y="3753000"/>
            <a:ext cx="6781320" cy="2743200"/>
            <a:chOff x="685800" y="3753000"/>
            <a:chExt cx="6781320" cy="2743200"/>
          </a:xfrm>
        </p:grpSpPr>
        <p:sp>
          <p:nvSpPr>
            <p:cNvPr id="102" name=""/>
            <p:cNvSpPr/>
            <p:nvPr/>
          </p:nvSpPr>
          <p:spPr>
            <a:xfrm>
              <a:off x="2971440" y="421020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971440" y="6496200"/>
              <a:ext cx="434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440" y="4102200"/>
              <a:ext cx="1371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047760" y="4438080"/>
              <a:ext cx="3428280" cy="1086480"/>
              <a:chOff x="3047760" y="4438080"/>
              <a:chExt cx="3428280" cy="1086480"/>
            </a:xfrm>
          </p:grpSpPr>
          <p:sp>
            <p:nvSpPr>
              <p:cNvPr id="106" name=""/>
              <p:cNvSpPr/>
              <p:nvPr/>
            </p:nvSpPr>
            <p:spPr>
              <a:xfrm>
                <a:off x="3047760" y="550584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952520" y="4972320"/>
                <a:ext cx="1523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4952520" y="46670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9" name=""/>
              <p:cNvCxnSpPr>
                <a:stCxn id="106" idx="0"/>
                <a:endCxn id="108" idx="0"/>
              </p:cNvCxnSpPr>
              <p:nvPr/>
            </p:nvCxnSpPr>
            <p:spPr>
              <a:xfrm flipH="1" flipV="1" rot="5400000">
                <a:off x="4323240" y="4895640"/>
                <a:ext cx="877320" cy="381600"/>
              </a:xfrm>
              <a:prstGeom prst="curvedConnector5">
                <a:avLst>
                  <a:gd name="adj1" fmla="val 2873"/>
                  <a:gd name="adj2" fmla="val -1416"/>
                  <a:gd name="adj3" fmla="val 2873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10" name=""/>
            <p:cNvSpPr/>
            <p:nvPr/>
          </p:nvSpPr>
          <p:spPr>
            <a:xfrm>
              <a:off x="3047760" y="544392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1480" y="4591440"/>
              <a:ext cx="137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7960" y="5505840"/>
              <a:ext cx="2057040" cy="0"/>
            </a:xfrm>
            <a:prstGeom prst="line">
              <a:avLst/>
            </a:prstGeom>
            <a:ln cap="rnd" w="3816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240" y="4438800"/>
              <a:ext cx="0" cy="106704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00040" y="4391280"/>
              <a:ext cx="15998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Activation Energy (E</a:t>
              </a:r>
              <a:r>
                <a:rPr b="0" lang="en-US" sz="1600" spc="-1" strike="noStrike" baseline="-25000">
                  <a:solidFill>
                    <a:srgbClr val="009900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240" y="4972320"/>
              <a:ext cx="0" cy="53352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4972320"/>
              <a:ext cx="1599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Energy Absorb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3753000"/>
              <a:ext cx="3504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Endothermic Re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React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" y="1060560"/>
            <a:ext cx="8534520" cy="5140080"/>
            <a:chOff x="228600" y="1060560"/>
            <a:chExt cx="8534520" cy="5140080"/>
          </a:xfrm>
        </p:grpSpPr>
        <p:sp>
          <p:nvSpPr>
            <p:cNvPr id="120" name=""/>
            <p:cNvSpPr/>
            <p:nvPr/>
          </p:nvSpPr>
          <p:spPr>
            <a:xfrm>
              <a:off x="2303640" y="1819440"/>
              <a:ext cx="0" cy="438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86000" y="6200640"/>
              <a:ext cx="615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97000" y="1898640"/>
              <a:ext cx="1604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651040" y="3220920"/>
              <a:ext cx="5959440" cy="1957680"/>
              <a:chOff x="2651040" y="3220920"/>
              <a:chExt cx="5959440" cy="195768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2651040" y="3571560"/>
                <a:ext cx="258300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70440" y="5178600"/>
                <a:ext cx="2840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770440" y="3571560"/>
                <a:ext cx="0" cy="160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7" name=""/>
              <p:cNvCxnSpPr>
                <a:endCxn id="126" idx="0"/>
              </p:cNvCxnSpPr>
              <p:nvPr/>
            </p:nvCxnSpPr>
            <p:spPr>
              <a:xfrm flipV="1">
                <a:off x="5234040" y="3552480"/>
                <a:ext cx="536760" cy="21600"/>
              </a:xfrm>
              <a:prstGeom prst="curvedConnector5">
                <a:avLst>
                  <a:gd name="adj1" fmla="val 10738"/>
                  <a:gd name="adj2" fmla="val 830508"/>
                  <a:gd name="adj3" fmla="val 10738"/>
                </a:avLst>
              </a:prstGeom>
              <a:ln w="381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28" name=""/>
            <p:cNvSpPr/>
            <p:nvPr/>
          </p:nvSpPr>
          <p:spPr>
            <a:xfrm>
              <a:off x="2819520" y="3166920"/>
              <a:ext cx="203508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a(s) + 2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(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27840" y="5245200"/>
              <a:ext cx="266220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NaOH(aq) + 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2960" y="3571920"/>
              <a:ext cx="240804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43600" y="3228840"/>
              <a:ext cx="0" cy="3430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4960" y="2543040"/>
              <a:ext cx="18716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33"/>
                  </a:solidFill>
                  <a:latin typeface="Arial"/>
                </a:rPr>
                <a:t>Low Activation Energy (E</a:t>
              </a:r>
              <a:r>
                <a:rPr b="0" lang="en-US" sz="1600" spc="-1" strike="noStrike" baseline="-25000">
                  <a:solidFill>
                    <a:srgbClr val="990033"/>
                  </a:solidFill>
                  <a:latin typeface="Arial"/>
                </a:rPr>
                <a:t>A</a:t>
              </a:r>
              <a:r>
                <a:rPr b="0" lang="en-US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40360" y="3571920"/>
              <a:ext cx="0" cy="1606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89680" y="4079880"/>
              <a:ext cx="18734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Large amount of Energy Released (Q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1060560"/>
              <a:ext cx="6334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Example: Sodium Water Rea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6400" y="3244680"/>
              <a:ext cx="99072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16480" y="4340160"/>
              <a:ext cx="40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2680"/>
            <a:ext cx="777240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talys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30040" y="1036800"/>
            <a:ext cx="8761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t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tances that speed up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reactions to occur that might not otherwise take place (due to low temperature for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activation energy for a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of catalysts in a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ay undergo a chemical change as a reactant but they are always recycled as a product (so there is no net change in the catalyst molec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ysts are indicated in a chemical reaction by placing the chemical formula over/under the reaction a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ctants  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breakdown of 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3080" y="500220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at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35200" y="5975280"/>
          <a:ext cx="5237280" cy="6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5200" y="5975280"/>
                    <a:ext cx="52372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atalysts &amp; Energy i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" y="1208160"/>
            <a:ext cx="8420040" cy="4798800"/>
            <a:chOff x="228600" y="1208160"/>
            <a:chExt cx="8420040" cy="4798800"/>
          </a:xfrm>
        </p:grpSpPr>
        <p:sp>
          <p:nvSpPr>
            <p:cNvPr id="145" name=""/>
            <p:cNvSpPr/>
            <p:nvPr/>
          </p:nvSpPr>
          <p:spPr>
            <a:xfrm>
              <a:off x="2265840" y="1916640"/>
              <a:ext cx="0" cy="409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248200" y="6006960"/>
              <a:ext cx="604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79360" y="1990440"/>
              <a:ext cx="157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tential Ener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2606760" y="3552480"/>
              <a:ext cx="2535840" cy="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69640" y="5052600"/>
              <a:ext cx="278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669640" y="3552480"/>
              <a:ext cx="0" cy="149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endCxn id="150" idx="0"/>
            </p:cNvCxnSpPr>
            <p:nvPr/>
          </p:nvCxnSpPr>
          <p:spPr>
            <a:xfrm flipV="1">
              <a:off x="5142960" y="3534120"/>
              <a:ext cx="526680" cy="19800"/>
            </a:xfrm>
            <a:prstGeom prst="curvedConnector5">
              <a:avLst>
                <a:gd name="adj1" fmla="val 10738"/>
                <a:gd name="adj2" fmla="val 829629"/>
                <a:gd name="adj3" fmla="val 10738"/>
              </a:avLst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2772360" y="3174480"/>
              <a:ext cx="199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7720" y="4686120"/>
              <a:ext cx="163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5080" y="3537720"/>
              <a:ext cx="2364120" cy="0"/>
            </a:xfrm>
            <a:prstGeom prst="line">
              <a:avLst/>
            </a:prstGeom>
            <a:ln cap="rnd" w="38160">
              <a:solidFill>
                <a:srgbClr val="0099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39920" y="3232440"/>
              <a:ext cx="0" cy="32004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5440" y="2823120"/>
              <a:ext cx="2188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with</a:t>
              </a:r>
              <a:r>
                <a:rPr b="1" lang="en-US" sz="1600" spc="-1" strike="noStrike">
                  <a:solidFill>
                    <a:srgbClr val="0000cc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" y="1208160"/>
              <a:ext cx="6219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Catalysts lower Activation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"/>
            <p:cNvCxnSpPr>
              <a:stCxn id="148" idx="0"/>
              <a:endCxn id="150" idx="1"/>
            </p:cNvCxnSpPr>
            <p:nvPr/>
          </p:nvCxnSpPr>
          <p:spPr>
            <a:xfrm flipH="1" rot="16200000">
              <a:off x="5405400" y="3271320"/>
              <a:ext cx="1800" cy="526680"/>
            </a:xfrm>
            <a:prstGeom prst="curvedConnector5">
              <a:avLst>
                <a:gd name="adj1" fmla="val -104000000"/>
                <a:gd name="adj2" fmla="val 50000"/>
                <a:gd name="adj3" fmla="val -104000000"/>
              </a:avLst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  <p:sp>
          <p:nvSpPr>
            <p:cNvPr id="159" name=""/>
            <p:cNvSpPr/>
            <p:nvPr/>
          </p:nvSpPr>
          <p:spPr>
            <a:xfrm>
              <a:off x="5397120" y="3220560"/>
              <a:ext cx="1056240" cy="0"/>
            </a:xfrm>
            <a:prstGeom prst="line">
              <a:avLst/>
            </a:prstGeom>
            <a:ln cap="rnd" w="38160">
              <a:solidFill>
                <a:srgbClr val="0000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09720" y="2002320"/>
              <a:ext cx="105660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68400" y="1751760"/>
              <a:ext cx="2280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ctivation Energy </a:t>
              </a:r>
              <a:r>
                <a:rPr b="1" lang="en-US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without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 cataly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8560" y="2011320"/>
              <a:ext cx="29520" cy="153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 (Intro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833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quations are used to  symbolically describe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hemical equation (or reaction for that matter) the substances that undergo chemical change(s) are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substances formed are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representation of a chemical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actant(s)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Produc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The product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g) +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g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lined numbers are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ach molecule for each reactant &amp; product in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ways who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Equat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d chemical equations indicate the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of each reactant &amp; product involved in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of each reactant and product  involved in the reaction (i.e. sol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qu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ga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quantity of each reactant and product  involved in the reaction (the coeffici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tity of each reactant and product  involved in the reaction (the coefficient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9000" y="262080"/>
            <a:ext cx="84582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w of Mass Con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amp; John Dalton!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ter is never created nor destroyed during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 of the ato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reactants of a chemical reaction must be accounted for in the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Basic Process of Balancing Chemical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dentify all reactants &amp; products in the reaction &amp; write out their formulas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this is the unbalanced chemical equ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unt the number of each atom for each compound for each reactant &amp; product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(these values must be the same for both reactants &amp; products when the reaction is balanced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tarting with the most “complicated” molecule, systematically adjust the coefficients to balance # of the atoms on each side of the reaction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balance one atom at a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peat until all atoms are balanced for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w you should have a balanced chemical equ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Equation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example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dium metal is added to water a violent reaction takes place producing aqueous sodium hydroxide and releasing hydrogen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ut the unbalanced chemica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balance the chemical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429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Balancing Chemical Reaction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Hint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82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olyatomic ion(s) appears on both the reactant &amp; product side of the reac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ch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reat the whole ion as a “unit” when balancing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nitrate io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gets swapped between the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ons in th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eated as a whole unit when balancing th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368440"/>
            <a:ext cx="8839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 +   CaCl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AgCl(s) +    Ca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ommon Classifications for Chemical Reaction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ation (or Synthesis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 in which reactants combine to 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mpositio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s in whi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e reacta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s down into small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Displac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tions where a part of one reactant is displaced and combined with another rea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Zn(s) + 2HCl(aq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ZnC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 + 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Displac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tions where a part of two reactants is displaced and ex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g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 + NaCl(aq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AgCl(s) + Na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a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Acid-base neut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Formation of insoluble products (Precipitation reac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Metal oxide +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Gas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tion-Reduction Reactio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actions involving the transfer or rearrangement of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mbination &amp; Decomposition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4720" y="863280"/>
            <a:ext cx="8654760" cy="57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 which chemicals combine to mak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 or Synthesis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+ Nonmetal reactions can be classified as Combina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Na(s)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 NaCl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s between Metals or Nonmetals with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Combina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+ 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2 NO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se two types of Combination Reactions are also subclasses of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Oxidation-Reduction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 whic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reac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s down into smaller molecules are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i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ition reactions are generally initiated by the addition of energy (via electric current or he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mposition reactions are the opposite of Combination Re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 NaCl(l) 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2 Na(l) + Cl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ingle Displacement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displacement reactions involve one part of a reactant being transferred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c pattern of the single displacement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Y +  A</a:t>
            </a:r>
            <a:r>
              <a:rPr b="0" lang="en-US" sz="28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 + AY</a:t>
            </a:r>
            <a:r>
              <a:rPr b="0" lang="en-US" sz="28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al + Acid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alt + Hyd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Zn(s) + 2 HCl(aq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Zn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2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Water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Hydrogen + Metal Oxid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or metal hydrox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 Fe(s) + 4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(l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4 H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F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3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tal + Sal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al +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 Al(s) + Fe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2 Fe(s) + A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xample 4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alogen + Halide Salt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Halogen + Halide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2 NaBr(s)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Br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(g) + 2 NaCl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9T01:03:38Z</dcterms:modified>
  <cp:revision>182</cp:revision>
  <dc:subject/>
  <dc:title>Phy 211: General Physics I</dc:title>
</cp:coreProperties>
</file>