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BC628-BCAC-4DE1-A0CB-667ED7536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376-4CE5-4F7B-B5EC-889A38A8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1F5-E942-4E72-9259-F9E25E1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9EF-C465-41D3-9B86-0E5F1D94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483-7DE8-4D44-AE69-DB21419E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6A3-E3B0-4583-B1DC-C7EF8D60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618-4637-435B-8681-F452C196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705-1E7A-4215-954E-0CA8EF4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AE2-A78E-4E04-ACDD-4FB0584C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18E-D497-4385-90FD-D3D05FC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A80-4D26-4A0A-83B9-229E98F7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F2F-7A55-4615-8D6F-94B6E93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0E0-2869-4268-9B81-79DE175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349C-4180-4673-B1E5-E94A0995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9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7: Quantitative Composition of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tions 7.1 to 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93760"/>
            <a:ext cx="6705720" cy="100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madeo Avogadro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35216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ian lawyer turned chem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contributions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difference between atoms &amp; molec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&amp; nitrogen exist as molecu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ed the work of Dalton &amp; Guy-Lus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vogadro’s Princi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al volumes of all gases at the same temperature and pressure contain the same number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Avogadro did not determine Avogadro’s number nor the mo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se concepts cam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gadro is honored because the molar volume of all gases should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Avogadro’s work was acknowledged after he died, by Stanislao Cannizar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59520" y="488880"/>
            <a:ext cx="19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5560" y="1115640"/>
            <a:ext cx="852804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is a counting unit (analogous to the dozen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unit used to describe large quantities such as number of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= 6.022 x 10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known as Avogadro’s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the mole &amp;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ass is the quant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gram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 mole of tha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s of atomic mass are grams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used by chemists as a way of “counting” number of atoms/molecules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Unicode MS"/>
              </a:rPr>
              <a:t>Got mole problems? 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ll Avogadro at 602-10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swer: molasses (a mole of 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438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What do you get if you have Avogadro's number of donke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ar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675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is the mass in grams of 1 mole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refers to both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(at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 has a mass of 22.99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 has a mass of 35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70.9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(molec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Cl has a mass of 58.4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Na (22.99 g) + Mass of Cl (35.45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44.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C (12.01 g) + 2 x Mass of O (16.0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atoms (or molecules) to moles, divide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1.0x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atoms (or molecules), multiply 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cules are in 2.5 m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33480" y="2338560"/>
          <a:ext cx="667080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338560"/>
                    <a:ext cx="6670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907920" y="4721400"/>
          <a:ext cx="719928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4721400"/>
                    <a:ext cx="71992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-Mass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grams, multiply the # of mole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grams in 2.5 moles of carb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grams to moles, divide the mass in gram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in 2.5 g of lith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04960" y="2355840"/>
          <a:ext cx="613404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2355840"/>
                    <a:ext cx="6134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671480" y="4748040"/>
          <a:ext cx="62978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1480" y="4748040"/>
                    <a:ext cx="62978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128240"/>
            <a:ext cx="8683920" cy="48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is the percentage of each element in a compound (by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can be determined from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rimental mass analysis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percentages may not always total to 100% due to 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84240" y="3289320"/>
          <a:ext cx="603720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289320"/>
                    <a:ext cx="60372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106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996480"/>
            <a:ext cx="883908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% Composition from the chemical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olar mass of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the molar mass of the element of interest by the number of atoms per molecule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is value by the molar mass of the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The % Composition of sodium in tabl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lar mass of NaCl is 58.44 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re is 1 atom of Na in each NaCl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atomic mass of Na is 22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04840" y="2946240"/>
          <a:ext cx="85104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946240"/>
                    <a:ext cx="8510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835200" y="5743440"/>
          <a:ext cx="74386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5743440"/>
                    <a:ext cx="74386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321840"/>
            <a:ext cx="8153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the following % Composition calc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arbon in carbon 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oxygen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hlorine in sodium hypochlo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1T22:30:25Z</dcterms:modified>
  <cp:revision>149</cp:revision>
  <dc:subject/>
  <dc:title>Phy 211: General Physics I</dc:title>
</cp:coreProperties>
</file>