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EFA6E-51BE-4E13-BB7D-6E80AB383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1608-C59D-4A20-94B0-F3ADB687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082B-22D0-40B5-8E94-FAD4F135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7617-E2E8-4444-9D5A-741EF4A4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081-FB18-4980-9A3A-053AB2C1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6DB-C5EE-4B04-A2C5-5C20DBA7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9191-DACB-4743-924B-2E9577DB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661F-12BD-425F-9170-22B968F2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554-46C8-4DC4-8903-D33A31C2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40F7-3BDD-4B69-907D-D7D6C367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63FE-8949-4BAA-AA9D-1234AEE3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0E34-5DD0-4069-94C7-F78824AB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9545-3C9B-4802-AA9C-DA12BFC6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A024-7D03-42D2-9B8E-A741B46BE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891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 7: Quantitative Composition of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ctions 7.1 to 7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293760"/>
            <a:ext cx="6705720" cy="100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madeo Avogadro</a:t>
            </a:r>
            <a:br>
              <a:rPr sz="3200"/>
            </a:b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1743-1794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1352160"/>
            <a:ext cx="8839440" cy="42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alian lawyer turned chem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contributions inclu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ed difference between atoms &amp; molec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&amp; nitrogen exist as molecules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nciled the work of Dalton &amp; Guy-Luss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ing Avogadro’s Principl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qual volumes of all gases at the same temperature and pressure contain the same number of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 Avogadro did not determine Avogadro’s number nor the mo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se concepts came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gadro is honored because the molar volume of all gases should b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of Avogadro’s work was acknowledged after he died, by Stanislao Cannizar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959520" y="488880"/>
            <a:ext cx="19735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6972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Mo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5560" y="1115640"/>
            <a:ext cx="8528040" cy="51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e is a counting unit (analogous to the dozen un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arge unit used to describe large quantities such as number of at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= 6.022 x 10</a:t>
            </a:r>
            <a:r>
              <a:rPr b="0" lang="en-US" sz="2400" spc="-1" strike="noStrike" baseline="30000">
                <a:solidFill>
                  <a:srgbClr val="0000cc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02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known as Avogadro’s 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 between the mole &amp;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omic mass is the quant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 gram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1 mole of tha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s of atomic mass are grams/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is used by chemists as a way of “counting” number of atoms/molecules of a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 Unicode MS"/>
              </a:rPr>
              <a:t>Got mole problems? 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ll Avogadro at 602-10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495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nswer: molasses (a mole of as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24382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What do you get if you have Avogadro's number of donkey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lar Mas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675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88440" indent="-38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ar mass is the mass in grams of 1 mole of a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ar mass refers to both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(ato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of Na has a mass of 22.99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of Cl has a mass of 35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of Cl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has a mass of 70.9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s (molecu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of NaCl has a mass of 58.44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ass of Na (22.99 g) + Mass of Cl (35.45 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 mole of CO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has a mass of 44.01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Mass of C (12.01 g) + 2 x Mass of O (16.00 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le Calcul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30040" y="1116000"/>
            <a:ext cx="86061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vert from atoms (or molecules) to moles, divide the # of atoms (or molecules) by Avogadro’s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 How many moles are 1.0x1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ato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vert from moles to atoms (or molecules), multiply  the # of atoms (or molecules) by Avogadro’s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 How many molecules are in 2.5 mo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33480" y="2338560"/>
          <a:ext cx="6670800" cy="96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2338560"/>
                    <a:ext cx="6670800" cy="96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907920" y="4721400"/>
          <a:ext cx="7199280" cy="99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7920" y="4721400"/>
                    <a:ext cx="719928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le-Mass Calcul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30040" y="1116000"/>
            <a:ext cx="86061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vert from moles to grams, multiply the # of moles by atomic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 How many grams in 2.5 moles of carb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nvert from grams to moles, divide the mass in grams by atomic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  How many moles are in 2.5 g of lithiu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04960" y="2355840"/>
          <a:ext cx="6134040" cy="9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2355840"/>
                    <a:ext cx="61340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671480" y="4748040"/>
          <a:ext cx="629784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1480" y="4748040"/>
                    <a:ext cx="62978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ercent Composi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128240"/>
            <a:ext cx="8683920" cy="48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composition is the percentage of each element in a compound (by m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composition can be determined from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8116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ula of the 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8116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erimental mass analysis of the 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 percentages may not always total to 100% due to ro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84240" y="3289320"/>
          <a:ext cx="6037200" cy="10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3289320"/>
                    <a:ext cx="603720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21060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ercent Composition Calcul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996480"/>
            <a:ext cx="8839080" cy="46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termine % Composition from the chemical form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the molar mass of 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the molar mass of the element of interest by the number of atoms per molecule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is value by the molar mass of the 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The % Composition of sodium in table 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molar mass of NaCl is 58.44 g/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re is 1 atom of Na in each NaCl 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atomic mass of Na is 22.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04840" y="2946240"/>
          <a:ext cx="851040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40" y="2946240"/>
                    <a:ext cx="85104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835200" y="5743440"/>
          <a:ext cx="743868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5200" y="5743440"/>
                    <a:ext cx="743868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321840"/>
            <a:ext cx="81536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ercent Composition Calculat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the following % Composition calcul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0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% composition of carbon in carbon mon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0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% composition of oxygen i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0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% composition of chlorine in sodium hypochlo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8-02-21T22:30:25Z</dcterms:modified>
  <cp:revision>149</cp:revision>
  <dc:subject/>
  <dc:title>Phy 211: General Physics I</dc:title>
</cp:coreProperties>
</file>