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991-CEF2-4F55-A70B-FEA11BAD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142-BEDC-4C4D-98FC-2654FA67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425-EEC4-4D08-AA61-CC19185F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DD3-B007-4FC7-8D95-26D4CA26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8F2-520B-4969-B582-83D1E974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FC5-4DA7-4F82-BDD5-59573411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92C-EADE-4D06-AA4E-8466C1A2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A9D-DF92-4962-BC61-398BEA8E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726-8234-4BD2-AD6C-68896B14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BF9-5392-425D-921C-EF4DDA0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746-9D32-4D06-B3DF-385AD572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8A5-DC93-4A97-9702-FC7AC20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BCAC-3B25-4E37-9A54-6FB8D9913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pter 6: Nomenclature of Inorga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219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Latin term for “sour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Acids are sour to the tast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are substances that donate or release hydrogen cations,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usually when dissolved in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mical formula for acids usually begins with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chloric acid (H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Cl(a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bit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ote: it is not advised to taste strong base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metal containing hydr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that accept hydrogen cati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en dissolved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assium hydroxide (K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OH(aq) +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481560"/>
            <a:ext cx="7772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Times New Roman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Ac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separate acids into 2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tha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that do no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acids containing oxy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ids containing “-ate” an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oot of the anion (for sulfate,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ids with “-ite” an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oot of the anion (for sulfite,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Acid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acids not containing oxy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ydro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prefix to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oot of the anion (i.e.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ch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i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yd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 following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ntoine Lavoisier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743-1794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094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by many to be the “Father of Modern Chemist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ontribution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water cannot be transmuted 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the Law of Conservation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 method of producing better gunpow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that oxygen and hydrogen combined to produce water (d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a system of chemical nomencl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ill used in part today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rn chemical text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21520" y="1117440"/>
            <a:ext cx="2743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ounds are formed they are held together by the association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ociation is calle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cal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general types of chemical b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(or mole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 co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compounds are classified (and thus named) according to the type of chemical bond(s) that hold together it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many compounds have more than one type of chemical bond present, but we will focus on only “simple compoun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Compound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practical” purposes will separate all simple compounds into 2 general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up of ions (both positive and negative 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have no net charge (i.e. combined charge of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 on the attraction between positive and negative charges of the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 metal is present as a cation and a nonmetal is present as an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n-Ionic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(aka: Molecular or Covalent)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up of atoms that share their outer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harge plays no direct role in their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usually no metals are present in these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siest way (usually) to identify an ionic compound is to ask whether or not there is a metal present in the chemical formula (or the na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 metal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-&gt; it is an Ionic Compound (e.g. Ca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-&gt; it is a Non-Ionic Compound (e.g. C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 an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unds do not use the Greek prefixes and are named according to the identity of the ion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n-Ion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require the use of Greek prefixes to indicate the number of each element present in one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Simple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simple”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und is a compound made of only 2 types of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irst element is a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lement (metal) keeps its full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metal goes by its root with the suffix “-ide” added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NaCl is sodium chlor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are no metal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above ex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k prefixes must be used to identify the number of each element present in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carbo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680" y="333000"/>
            <a:ext cx="874224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etermining Chemical Formula of an Ionic Compoun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6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chemical formula of an ionic compound from its chemical n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ions present, both cation(s) and anion(s), from th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potassium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ion: 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ion: 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ionic charge of the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tassium ion,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lfide ion, 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umber of each ion needed to obtain a neutral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ons are needed for every 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the chemical sysmbols of the ions to get the final chemical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 is the formula for potassium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15328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ic Charges &amp; 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ition of an element in the Periodic Table is a useful indicator of the type of ion an element is capable of form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1+ cat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di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2+ cations (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i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3+ cations (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umin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p 3-12 Metals (plus Sn, Pb, &amp; Bi) can form more than one type of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 numerals are used to indicate the charge of the 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3+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s called iron(I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Cl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s called iron(III) chlo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able Exce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C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&amp; Z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5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3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N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nitr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6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2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O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ox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7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1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C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hlor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8 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o not form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1112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eek Prefixes for Compound Nam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2920" y="1128240"/>
            <a:ext cx="4459320" cy="35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C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carbon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tr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9400" y="1106640"/>
            <a:ext cx="4341960" cy="35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x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p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) Dec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ct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9400" y="4021200"/>
            <a:ext cx="861048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fixes are used when the compound does not have a metal present (or when H is the first element in the formu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fixes must be used for every element present in the comp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no- is not used for the first element in a compound name (e.g.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8680" y="385920"/>
            <a:ext cx="8285040" cy="7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ic Compounds containing Polyatomic 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541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onic compounds are made up of polyatomic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atomic ions are usually ions formed from non-ion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.g.  The sulfate ion, SO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0000cc"/>
                </a:solidFill>
                <a:latin typeface="Arial"/>
              </a:rPr>
              <a:t>2-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, is essentially a molecular compound containing S and O with 2 additional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encounter polyatomic ions in compound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not freak ou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familiar with the common polyatomic ions on th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e nitrate ion (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unately, the naming of ionic compounds containing polyatomic ions is similar to that for 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7T19:13:58Z</dcterms:modified>
  <cp:revision>148</cp:revision>
  <dc:subject/>
  <dc:title>Phy 211: General Physics I</dc:title>
</cp:coreProperties>
</file>