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1C1-40A1-473C-8037-0F4E053C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5D6-F0AE-4857-87D3-63B1628D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B05-A42B-4128-B15F-E3FCA61E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EC0E-951A-4425-A780-5E4C6952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523-9873-44E1-9DE5-D33707C4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3D0-D130-4697-96C1-299FAAF7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E29-712C-4677-95D4-9D153EA8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2D8-9029-482A-BF1C-90F5D345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8DC-B6E6-4DA1-A1C7-261A168C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481-E612-42C7-B17D-33290BBA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81E-D0C1-4E04-9D40-9C083604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6F6-84E6-43F3-9E69-2A3A257C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94FE-484C-4386-BCAC-0AB8F7BB2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pter 6: Nomenclature of Inorga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2192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3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Latin term for “sour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Acids are sour to the tast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s are substances that donate or release hydrogen cations,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usually when dissolved in w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emical formula for acids usually begins with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drochloric acid (H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Cl(aq)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+ Cl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te bit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ote: it is not advised to taste strong base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metal containing hydr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ces that accept hydrogen cati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hen dissolved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tassium hydroxide (K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OH(aq) +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K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 (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481560"/>
            <a:ext cx="7772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Times New Roman"/>
              </a:rPr>
              <a:t>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980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ing Aci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 separate acids into 2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s that contain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s that do not contain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ing acids containing oxy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cids containing “-ate” an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324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oot of the anion (for sulfate,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e sulf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324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suffix then end with “aci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ulfu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421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cids with “-ite” an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324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oot of the anion (for sulfite,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e sulf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3240" indent="-36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suffix then end with “aci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ulfu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ing Acid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ing acids not containing oxy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hydro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prefix to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oot of the anion (i.e.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ch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-393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suffix then end with “aci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 is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hyd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 following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6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ntoine Lavoisier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743-1794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6094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by many to be the “Father of Modern Chemistr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contributions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at water cannot be transmuted 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the Law of Conservation of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 method of producing better gunpow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ed that oxygen and hydrogen combined to produce water (d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a system of chemical nomenclatu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ill used in part today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te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rn chemical text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221520" y="1117440"/>
            <a:ext cx="27432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Compoun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ompounds are formed they are held together by the association of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ociation is called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mical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general types of chemical bo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(or molec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ar co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compounds are classified (and thus named) according to the type of chemical bond(s) that hold together its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 many compounds have more than one type of chemical bond present, but we will focus on only “simple compoun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ypes of Compound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“practical” purposes will separate all simple compounds into 2 general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up of ions (both positive and negative cha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have no net charge (i.e. combined charge of 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 on the attraction between positive and negative charges of the 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 metal is present as a cation and a nonmetal is present as an a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on-Ionic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(aka: Molecular or Covalent)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e up of atoms that share their outer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charge plays no direct role in their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usually no metals are present in these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ing Compoun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siest way (usually) to identify an ionic compound is to ask whether or not there is a metal present in the chemical formula (or the nam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s a metal 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-&gt; it is an Ionic Compound (e.g. Ca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-&gt; it is a Non-Ionic Compound (e.g. CC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or an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on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ounds do not use the Greek prefixes and are named according to the identity of the ion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on-Ion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s require the use of Greek prefixes to indicate the number of each element present in one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ing Simple Compound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simple”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ound is a compound made of only 2 types of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first element is a 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lement (metal) keeps its full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n-metal goes by its root with the suffix “-ide” added to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NaCl is sodium chlor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are no metal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above ex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k prefixes must be used to identify the number of each element present in the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s carbo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3680" y="333000"/>
            <a:ext cx="874224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Determining Chemical Formula of an Ionic Compound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64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the chemical formula of an ionic compound from its chemical na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ions present, both cation(s) and anion(s), from th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potassium sulf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tion:  potass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ion:  sulf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ionic charge of the 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{from abov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otassium ion,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lfide ion, 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number of each ion needed to obtain a neutral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{from above}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 K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ons are needed for every S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the chemical sysmbols of the ions to get the final chemical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{from above} </a:t>
            </a:r>
            <a:r>
              <a:rPr b="0" i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 is the formula for potassium sulf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0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153280" cy="67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onic Charges &amp; the Periodic Tab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7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ition of an element in the Periodic Table is a useful indicator of the type of ion an element is capable of form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als form 1+ cat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dium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als form 2+ cations (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cium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als form 3+ cations (A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uminum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oup 3-12 Metals (plus Sn, Pb, &amp; Bi) can form more than one type of 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n numerals are used to indicate the charge of the 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3+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is called iron(I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eCl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is called iron(III) chlor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able Exce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Cd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&amp; Zn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5 nonmet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 3- an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.g. N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3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nitride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6 nonmet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 2- an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.g. O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oxide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7 nonmet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 1- anio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e.g. Cl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chloride 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roup 18 e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o not form 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11120"/>
            <a:ext cx="914400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Greek Prefixes for Compound Nam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2920" y="1128240"/>
            <a:ext cx="4459320" cy="350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r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Cl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is carbon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tr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9400" y="1106640"/>
            <a:ext cx="4341960" cy="35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x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pt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ct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n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) Dec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i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rbon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ct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yd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9400" y="4021200"/>
            <a:ext cx="861048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fixes are used when the compound does not have a metal present (or when H is the first element in the formu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fixes must be used for every element present in the compou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no- is not used for the first element in a compound name (e.g. carbon 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8680" y="385920"/>
            <a:ext cx="8285040" cy="7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onic Compounds containing Polyatomic 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5416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ionic compounds are made up of polyatomic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atomic ions are usually ions formed from non-ionic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e.g.  The sulfate ion, SO</a:t>
            </a:r>
            <a:r>
              <a:rPr b="0" i="1" lang="en-US" sz="2400" spc="-1" strike="noStrike" baseline="-25000">
                <a:solidFill>
                  <a:srgbClr val="0000cc"/>
                </a:solidFill>
                <a:latin typeface="Arial"/>
              </a:rPr>
              <a:t>4</a:t>
            </a:r>
            <a:r>
              <a:rPr b="0" i="1" lang="en-US" sz="2400" spc="-1" strike="noStrike" baseline="30000">
                <a:solidFill>
                  <a:srgbClr val="0000cc"/>
                </a:solidFill>
                <a:latin typeface="Arial"/>
              </a:rPr>
              <a:t>2-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, is essentially a molecular compound containing S and O with 2 additional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encounter polyatomic ions in compound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not freak ou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familiar with the common polyatomic ions on the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he nitrate ion (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unately, the naming of ionic compounds containing polyatomic ions is similar to that for ionic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09-27T19:13:58Z</dcterms:modified>
  <cp:revision>148</cp:revision>
  <dc:subject/>
  <dc:title>Phy 211: General Physics I</dc:title>
</cp:coreProperties>
</file>