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C25-FACD-4ED7-AF0D-0A26899C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9C83-1072-4AEC-A15A-7BA5891A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B4E-9808-49DB-910D-72A310EF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EA3-39FA-4A69-A0A4-36EDA8407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847-304F-4EE7-BFA9-0DF378BB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7F6-C5FC-4EE6-A74D-D799344A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0C08-D453-4722-8CEA-4AC61CFC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0AD-857B-42C2-8576-A067B802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424-9322-4371-BD95-99D75B84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0E85-C335-4F1B-9F14-1E7C6866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53D-2CCC-4F79-989F-F845A6DE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B09-1AF8-45DA-AEB9-465B22F4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F691-B3C4-4962-83B6-9674B38E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h 100: Fundamentals for Chemist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5: Early Atomic Theory &amp;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Atomic Bookkeep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number (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rotons in an atom or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that define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number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protons &amp; neutrons in a specific atom or isot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that represents the mass of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o determine number of neutrons in an at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# of neutrons = (Mass #) – (Atomic #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# of neutrons = A -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ass # vs. Atomic Mas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s are the equivalent of sibling members of an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atoms of the same element with different mass numbers (i.e. they have different numbers of neutr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isotopes are identified by their mas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tope no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-12 (        )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bon-14 (       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total mass of an element’s various naturally occurring isot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t of Atomic Mass is the Dalt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a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Dalton = one twelfth mass of one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tom = 1.661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2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There 6 protons &amp; 6 neutrons in a 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 atom but the mass of a </a:t>
            </a:r>
            <a:r>
              <a:rPr b="0" lang="en-US" sz="1800" spc="-1" strike="noStrike" baseline="30000">
                <a:solidFill>
                  <a:srgbClr val="0000cc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 atom is actually slightly less than the combined mass of all of the nucleons individu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 is this lost mass?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It’s released as energy when the nucleons combine (bind) to form the nucleus of the a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685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462040" y="2151000"/>
            <a:ext cx="4038480" cy="778680"/>
            <a:chOff x="2462040" y="2151000"/>
            <a:chExt cx="4038480" cy="778680"/>
          </a:xfrm>
        </p:grpSpPr>
        <p:sp>
          <p:nvSpPr>
            <p:cNvPr id="111" name=""/>
            <p:cNvSpPr/>
            <p:nvPr/>
          </p:nvSpPr>
          <p:spPr>
            <a:xfrm>
              <a:off x="3528720" y="222732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(Atomic Symbol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90640" y="215100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Mass #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2040" y="253224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Atomic #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354480" y="2881440"/>
            <a:ext cx="3200400" cy="778320"/>
            <a:chOff x="3354480" y="2881440"/>
            <a:chExt cx="3200400" cy="778320"/>
          </a:xfrm>
        </p:grpSpPr>
        <p:sp>
          <p:nvSpPr>
            <p:cNvPr id="115" name=""/>
            <p:cNvSpPr/>
            <p:nvPr/>
          </p:nvSpPr>
          <p:spPr>
            <a:xfrm>
              <a:off x="3583080" y="295740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354480" y="28814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07120" y="326232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02320" y="2908440"/>
            <a:ext cx="3200400" cy="778320"/>
            <a:chOff x="5602320" y="2908440"/>
            <a:chExt cx="3200400" cy="778320"/>
          </a:xfrm>
        </p:grpSpPr>
        <p:sp>
          <p:nvSpPr>
            <p:cNvPr id="119" name=""/>
            <p:cNvSpPr/>
            <p:nvPr/>
          </p:nvSpPr>
          <p:spPr>
            <a:xfrm>
              <a:off x="5830920" y="2984400"/>
              <a:ext cx="297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02320" y="2908440"/>
              <a:ext cx="1219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54960" y="328932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xamples of Isotop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" y="1219320"/>
            <a:ext cx="87948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720" y="1035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n important step in understanding the natur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his model of nature, all forms of matter are mixtures of one of 4  basic “element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tter has one or more of 4 basic “qualities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ccording to Aristotle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y substance could be transformed into any other substance by altering the relative proportion of these elements and qualities (i.e. lead to 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arly Model of Matter:  Aristotl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(384-322 BC)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079720" y="2540160"/>
            <a:ext cx="3047760" cy="1066680"/>
            <a:chOff x="2079720" y="2540160"/>
            <a:chExt cx="3047760" cy="1066680"/>
          </a:xfrm>
        </p:grpSpPr>
        <p:sp>
          <p:nvSpPr>
            <p:cNvPr id="49" name=""/>
            <p:cNvSpPr/>
            <p:nvPr/>
          </p:nvSpPr>
          <p:spPr>
            <a:xfrm>
              <a:off x="3644640" y="3073680"/>
              <a:ext cx="1482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) Fi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79720" y="3073680"/>
              <a:ext cx="1564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) 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44640" y="2540160"/>
              <a:ext cx="148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) 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79720" y="2540160"/>
              <a:ext cx="1564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) Ear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79720" y="254016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79720" y="3606840"/>
              <a:ext cx="156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79720" y="25401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27480" y="254016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44640" y="254016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79720" y="307368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27480" y="307368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44640" y="3606840"/>
              <a:ext cx="148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066760" y="4065480"/>
            <a:ext cx="3048120" cy="1066680"/>
            <a:chOff x="2066760" y="4065480"/>
            <a:chExt cx="3048120" cy="1066680"/>
          </a:xfrm>
        </p:grpSpPr>
        <p:sp>
          <p:nvSpPr>
            <p:cNvPr id="62" name=""/>
            <p:cNvSpPr/>
            <p:nvPr/>
          </p:nvSpPr>
          <p:spPr>
            <a:xfrm>
              <a:off x="3632040" y="4599000"/>
              <a:ext cx="148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4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D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6760" y="4599000"/>
              <a:ext cx="1565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2) Moi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32040" y="4065480"/>
              <a:ext cx="148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3) H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6760" y="4065480"/>
              <a:ext cx="1565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1) C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66760" y="406548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66760" y="5132160"/>
              <a:ext cx="156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66760" y="4065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14880" y="4065480"/>
              <a:ext cx="0" cy="533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32040" y="406548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66760" y="4599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14880" y="4599000"/>
              <a:ext cx="0" cy="533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32040" y="5132160"/>
              <a:ext cx="1482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00920" y="1163520"/>
            <a:ext cx="19382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alton’s Atomic Theor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02316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lement consists of individual particles 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an neither be created nor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toms of a given element are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ombined chemically in definite whole-number ratios to form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of different elements have different m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49880" y="1119240"/>
            <a:ext cx="27432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Modern Atomic Model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our modern model of the matter, the atom has 2 primary regions of inter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protons &amp; neutrons (called nucleons, collectiv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most of the atom’s 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neutron = 1.675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proton = 1.673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dense region at the center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dius of the nucleus ~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 (1 femto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Electron Clo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 of 1 electron = 9.109 x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 the effective volume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dius of the electron cloud ~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 (1 Angstr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the chemical properties of the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chemical processes, interactions occur between the outermost electrons of each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lectron properties of the atom will define the type(s) of interaction that will take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00200" y="1616040"/>
            <a:ext cx="5956200" cy="4680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tructure of the Ato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holds the atom together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Electromagnetic 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.k.a. electric 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electrons to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charge (-) of the electrons are attracted to the positive charge (+) of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trong 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.k.a. strong fo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nucleons together with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charge of the protons rep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ucleons, protons and neutrons, possess a STRONG attraction to each other that overcomes the protons’ mutual repul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Electric Charg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96660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charge is a fundamental property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’t really know what electric charge is but we do know that there are 2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harge (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harge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e charge polarity is attr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attracts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charge polarity is repul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 repels 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– repel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electric charge (q) is the same for protons and electr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rge of a proton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r electron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smallest amount that occurs in nature, it is called the quantum of ch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+1.6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ombs (or 1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1.602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lombs (or 1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176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(or molecules) that have gained or lost one or more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have lost electron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that have gained extra electrons ar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unds have both cations and anions (so that their net charge is z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ons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7920" y="1036800"/>
            <a:ext cx="8272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s are electrically charged atoms and thus carry electric ch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lectric charge of an ion is due to the imbalance of electrons and pr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 has lost one or more of its electrons it carries a positiv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+”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lectron that is 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 has gained one or more of its electrons it carries a positive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”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excess electron that is g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atom/molecule is an ion, its charge must be specifi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dium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ide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xide 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 on Electric Char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site charges at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charges rep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41680" y="4875120"/>
            <a:ext cx="2667240" cy="764280"/>
            <a:chOff x="4441680" y="4875120"/>
            <a:chExt cx="2667240" cy="764280"/>
          </a:xfrm>
        </p:grpSpPr>
        <p:sp>
          <p:nvSpPr>
            <p:cNvPr id="91" name=""/>
            <p:cNvSpPr/>
            <p:nvPr/>
          </p:nvSpPr>
          <p:spPr>
            <a:xfrm>
              <a:off x="4441680" y="498312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75400" y="48751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98880" y="5332320"/>
              <a:ext cx="3812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118200" y="5332320"/>
              <a:ext cx="38088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718080" y="5584680"/>
            <a:ext cx="2666520" cy="655200"/>
            <a:chOff x="3718080" y="5584680"/>
            <a:chExt cx="2666520" cy="655200"/>
          </a:xfrm>
        </p:grpSpPr>
        <p:sp>
          <p:nvSpPr>
            <p:cNvPr id="96" name=""/>
            <p:cNvSpPr/>
            <p:nvPr/>
          </p:nvSpPr>
          <p:spPr>
            <a:xfrm>
              <a:off x="3718080" y="5584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51440" y="5597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4174920" y="5933880"/>
              <a:ext cx="3808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94240" y="5933880"/>
              <a:ext cx="380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30680" y="6067440"/>
            <a:ext cx="2666520" cy="776880"/>
            <a:chOff x="3730680" y="6067440"/>
            <a:chExt cx="2666520" cy="776880"/>
          </a:xfrm>
        </p:grpSpPr>
        <p:sp>
          <p:nvSpPr>
            <p:cNvPr id="101" name=""/>
            <p:cNvSpPr/>
            <p:nvPr/>
          </p:nvSpPr>
          <p:spPr>
            <a:xfrm>
              <a:off x="3730680" y="606744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64040" y="6080040"/>
              <a:ext cx="533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4187520" y="6537240"/>
              <a:ext cx="3808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06840" y="6537240"/>
              <a:ext cx="3805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pccuser</cp:lastModifiedBy>
  <dcterms:modified xsi:type="dcterms:W3CDTF">2007-09-27T16:51:57Z</dcterms:modified>
  <cp:revision>148</cp:revision>
  <dc:subject/>
  <dc:title>Phy 211: General Physics I</dc:title>
</cp:coreProperties>
</file>