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A01F-6B7D-433B-A5EB-D43BCEE3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1C02-4C6D-413C-B41C-1FCA96CE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C405-9034-4121-92A1-CE40DDC5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C730-65FB-4E19-B9D5-A7FB191D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614-641F-4396-9FC8-BE84A799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0444-ABB5-4325-8783-BD458293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D39D-BFB1-4DC2-B219-8DF5C37B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05CD-1802-4C00-B588-2AF1C178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08EE-F179-4F08-AAC9-3658E72B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A302-D63E-4CF1-A370-723A9657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759-C4CA-43F7-ACF2-BCA0D227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E666-0227-410A-8ED6-1E992C68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D3DB-D513-4744-9EA5-27463921F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5: Early Atomic Theory &amp;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tomic Bookkeeping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number (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protons in an atom or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that define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nt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number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protons &amp; neutrons in a specific atom or isot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that represents the mass of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o determine number of neutrons in an at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# of neutrons = (Mass #) – (Atomic #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# of neutrons = A -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ss # vs. Atomic Mas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topes are the equivalent of sibling members of an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 atoms of the same element with different mass numbers (i.e. they have different numbers of neutr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 isotopes are identified by their mass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tope n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rbon-12 (        )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rbon-14 (       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omic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total mass of an element’s various naturally occurring isot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t of Atomic Mass is the Dalt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am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Dalton = one twelfth mass of one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atom = 1.661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There 6 protons &amp; 6 neutrons in a </a:t>
            </a:r>
            <a:r>
              <a:rPr b="0" lang="en-US" sz="1800" spc="-1" strike="noStrike" baseline="30000">
                <a:solidFill>
                  <a:srgbClr val="0000cc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 atom but the mass of a </a:t>
            </a:r>
            <a:r>
              <a:rPr b="0" lang="en-US" sz="1800" spc="-1" strike="noStrike" baseline="30000">
                <a:solidFill>
                  <a:srgbClr val="0000cc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 atom is actually slightly less than the combined mass of all of the nucleons individu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ere is this lost mass?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It’s released as energy when the nucleons combine (bind) to form the nucleus of the at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685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462040" y="2151000"/>
            <a:ext cx="4038480" cy="778680"/>
            <a:chOff x="2462040" y="2151000"/>
            <a:chExt cx="4038480" cy="778680"/>
          </a:xfrm>
        </p:grpSpPr>
        <p:sp>
          <p:nvSpPr>
            <p:cNvPr id="111" name=""/>
            <p:cNvSpPr/>
            <p:nvPr/>
          </p:nvSpPr>
          <p:spPr>
            <a:xfrm>
              <a:off x="3528720" y="2227320"/>
              <a:ext cx="297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(Atomic Symbol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90640" y="2151000"/>
              <a:ext cx="1219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Mass #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62040" y="2532240"/>
              <a:ext cx="1371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Atomic #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354480" y="2881440"/>
            <a:ext cx="3200400" cy="778320"/>
            <a:chOff x="3354480" y="2881440"/>
            <a:chExt cx="3200400" cy="778320"/>
          </a:xfrm>
        </p:grpSpPr>
        <p:sp>
          <p:nvSpPr>
            <p:cNvPr id="115" name=""/>
            <p:cNvSpPr/>
            <p:nvPr/>
          </p:nvSpPr>
          <p:spPr>
            <a:xfrm>
              <a:off x="3583080" y="2957400"/>
              <a:ext cx="297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54480" y="2881440"/>
              <a:ext cx="1219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07120" y="3262320"/>
              <a:ext cx="1371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602320" y="2908440"/>
            <a:ext cx="3200400" cy="778320"/>
            <a:chOff x="5602320" y="2908440"/>
            <a:chExt cx="3200400" cy="778320"/>
          </a:xfrm>
        </p:grpSpPr>
        <p:sp>
          <p:nvSpPr>
            <p:cNvPr id="119" name=""/>
            <p:cNvSpPr/>
            <p:nvPr/>
          </p:nvSpPr>
          <p:spPr>
            <a:xfrm>
              <a:off x="5830920" y="2984400"/>
              <a:ext cx="297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02320" y="2908440"/>
              <a:ext cx="1219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54960" y="3289320"/>
              <a:ext cx="1371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mples of Isotop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" y="1219320"/>
            <a:ext cx="87948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2720" y="10350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n important step in understanding the natur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his model of nature, all forms of matter are mixtures of one of 4  basic “elements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atter has one or more of 4 basic “qualities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ccording to Aristot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ny substance could be transformed into any other substance by altering the relative proportion of these elements and qualities (i.e. lead to go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74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arly Model of Matter:  Aristotle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384-322 BC)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079720" y="2540160"/>
            <a:ext cx="3047760" cy="1066680"/>
            <a:chOff x="2079720" y="2540160"/>
            <a:chExt cx="3047760" cy="1066680"/>
          </a:xfrm>
        </p:grpSpPr>
        <p:sp>
          <p:nvSpPr>
            <p:cNvPr id="49" name=""/>
            <p:cNvSpPr/>
            <p:nvPr/>
          </p:nvSpPr>
          <p:spPr>
            <a:xfrm>
              <a:off x="3644640" y="3073680"/>
              <a:ext cx="1482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4) Fi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79720" y="3073680"/>
              <a:ext cx="1564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2)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44640" y="2540160"/>
              <a:ext cx="148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3) 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79720" y="2540160"/>
              <a:ext cx="1564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1) Ear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79720" y="2540160"/>
              <a:ext cx="156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79720" y="3606840"/>
              <a:ext cx="156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79720" y="254016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27480" y="254016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44640" y="2540160"/>
              <a:ext cx="1482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79720" y="307368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27480" y="307368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44640" y="3606840"/>
              <a:ext cx="1482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066760" y="4065480"/>
            <a:ext cx="3048120" cy="1066680"/>
            <a:chOff x="2066760" y="4065480"/>
            <a:chExt cx="3048120" cy="1066680"/>
          </a:xfrm>
        </p:grpSpPr>
        <p:sp>
          <p:nvSpPr>
            <p:cNvPr id="62" name=""/>
            <p:cNvSpPr/>
            <p:nvPr/>
          </p:nvSpPr>
          <p:spPr>
            <a:xfrm>
              <a:off x="3632040" y="4599000"/>
              <a:ext cx="1482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4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D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6760" y="4599000"/>
              <a:ext cx="1565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2) Mo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32040" y="4065480"/>
              <a:ext cx="1482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3) Ho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66760" y="4065480"/>
              <a:ext cx="1565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1) Col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66760" y="4065480"/>
              <a:ext cx="1565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66760" y="5132160"/>
              <a:ext cx="1565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66760" y="406548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14880" y="406548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32040" y="4065480"/>
              <a:ext cx="1482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66760" y="459900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14880" y="459900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32040" y="5132160"/>
              <a:ext cx="1482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000920" y="1163520"/>
            <a:ext cx="19382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alton’s Atomic Theo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602316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lement consists of individual particles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can neither be created nor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toms of a given element are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combined chemically in definite whole-number ratios to form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of different elements have different m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49880" y="1119240"/>
            <a:ext cx="27432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Modern Atomic Model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our modern model of the matter, the atom has 2 primary regions of inter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protons &amp; neutrons (called nucleons, collective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s most of the atom’s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 of 1 neutron = 1.675 x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 of 1 proton = 1.673 x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, dense region at the center of the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dius of the nucleus ~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 (1 femtome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Electron Clo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 of 1 electron = 9.109 x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s the effective volume of the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dius of the electron cloud ~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 (1 Angstr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s the chemical properties of the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ing chemical processes, interactions occur between the outermost electrons of each 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lectron properties of the atom will define the type(s) of interaction that will take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00200" y="1616040"/>
            <a:ext cx="5956200" cy="4680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tructure of the Ato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hat holds the atom together?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lectromagnetic inte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.k.a. electric fo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lds the electrons to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gative charge (-) of the electrons are attracted to the positive charge (+) of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trong inte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.k.a. strong fo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lds the nucleons together with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itive charge of the protons repel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nucleons, protons and neutrons, possess a STRONG attraction to each other that overcomes the protons’ mutual repul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ic Charg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96660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charge is a fundamental property of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on’t really know what electric charge is but we do know that there are 2 ki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charge (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harge (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site charge polarity is attra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attracts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charge polarity is repuls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repels 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– repels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electric charge (q) is the same for protons and electr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rge of a proton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ro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r electron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lect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the smallest amount that occurs in nature, it is called the quantum of char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ro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+1.60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lombs (or 1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lectr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1.60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lombs (or 1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4920" y="1176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(or molecules) that have gained or los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that have lost electrons are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that have gained extra electrons are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compounds have both cations and anions (so that their net charge is z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ons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7920" y="1036800"/>
            <a:ext cx="8272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s are electrically charged atoms and thus carry electric char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ctric charge of an ion is due to the imbalance of electrons and pro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atom has lost one or more of its electrons it carries a positive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+”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electron that is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atom has gained one or more of its electrons it carries a positive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”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excess electron that is g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atom/molecule is an ion, its charge must be specifi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dium 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loride 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xide 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s on Electric Char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site charges at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charges rep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441680" y="4875120"/>
            <a:ext cx="2667240" cy="764280"/>
            <a:chOff x="4441680" y="4875120"/>
            <a:chExt cx="2667240" cy="764280"/>
          </a:xfrm>
        </p:grpSpPr>
        <p:sp>
          <p:nvSpPr>
            <p:cNvPr id="91" name=""/>
            <p:cNvSpPr/>
            <p:nvPr/>
          </p:nvSpPr>
          <p:spPr>
            <a:xfrm>
              <a:off x="4441680" y="49831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75400" y="4875120"/>
              <a:ext cx="533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98880" y="5332320"/>
              <a:ext cx="3812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118200" y="5332320"/>
              <a:ext cx="38088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718080" y="5584680"/>
            <a:ext cx="2666520" cy="655200"/>
            <a:chOff x="3718080" y="5584680"/>
            <a:chExt cx="2666520" cy="655200"/>
          </a:xfrm>
        </p:grpSpPr>
        <p:sp>
          <p:nvSpPr>
            <p:cNvPr id="96" name=""/>
            <p:cNvSpPr/>
            <p:nvPr/>
          </p:nvSpPr>
          <p:spPr>
            <a:xfrm>
              <a:off x="3718080" y="55846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51440" y="559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174920" y="5933880"/>
              <a:ext cx="38088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94240" y="5933880"/>
              <a:ext cx="3805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730680" y="6067440"/>
            <a:ext cx="2666520" cy="776880"/>
            <a:chOff x="3730680" y="6067440"/>
            <a:chExt cx="2666520" cy="776880"/>
          </a:xfrm>
        </p:grpSpPr>
        <p:sp>
          <p:nvSpPr>
            <p:cNvPr id="101" name=""/>
            <p:cNvSpPr/>
            <p:nvPr/>
          </p:nvSpPr>
          <p:spPr>
            <a:xfrm>
              <a:off x="3730680" y="6067440"/>
              <a:ext cx="533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64040" y="6080040"/>
              <a:ext cx="533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187520" y="6537240"/>
              <a:ext cx="38088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06840" y="6537240"/>
              <a:ext cx="3805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09-27T16:51:57Z</dcterms:modified>
  <cp:revision>148</cp:revision>
  <dc:subject/>
  <dc:title>Phy 211: General Physics I</dc:title>
</cp:coreProperties>
</file>