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8714-86E4-4552-A4C9-1AB18AA84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1BB-02CD-444E-B142-16D00D58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DA5-3714-4DC3-919C-77B42C69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2F2-CBBC-4C11-9145-30153B74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9CE-A375-4728-9FC8-7E512B5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60B-CD5D-4819-8DD6-DCC01F2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BEB-BE59-4042-8113-1490312F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321-4701-4E6F-8DB2-0CA0065B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37B-8CB5-472A-A97B-0382957C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E07-43AE-4BAA-9A5E-262CA7D2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EF9-43FE-45CF-8231-CFEAF26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BFD-E45D-4B03-A3BF-123C46F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DE0-9760-44EF-A904-736A4F2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83A-FCD7-435D-956D-02E2302F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: Properti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9280" y="396720"/>
            <a:ext cx="7807320" cy="623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524560" y="356868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32480" y="316080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able of Specific Heat for Various Substanc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1066680"/>
            <a:ext cx="8076240" cy="5486400"/>
            <a:chOff x="533520" y="1066680"/>
            <a:chExt cx="8076240" cy="5486400"/>
          </a:xfrm>
        </p:grpSpPr>
        <p:grpSp>
          <p:nvGrpSpPr>
            <p:cNvPr id="85" name=""/>
            <p:cNvGrpSpPr/>
            <p:nvPr/>
          </p:nvGrpSpPr>
          <p:grpSpPr>
            <a:xfrm>
              <a:off x="542880" y="1068840"/>
              <a:ext cx="8055360" cy="5481360"/>
              <a:chOff x="542880" y="1068840"/>
              <a:chExt cx="8055360" cy="54813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42880" y="1068840"/>
                <a:ext cx="2257920" cy="410040"/>
                <a:chOff x="542880" y="1068840"/>
                <a:chExt cx="2257920" cy="4100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1040" y="10782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42880" y="10688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801520" y="1068840"/>
                <a:ext cx="1870920" cy="410040"/>
                <a:chOff x="2801520" y="1068840"/>
                <a:chExt cx="1870920" cy="4100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839680" y="10782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01520" y="10688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73520" y="1068840"/>
                <a:ext cx="2446200" cy="410040"/>
                <a:chOff x="4673520" y="1068840"/>
                <a:chExt cx="2446200" cy="4100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11680" y="10782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73520" y="10688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120440" y="1068840"/>
                <a:ext cx="1477800" cy="410040"/>
                <a:chOff x="7120440" y="1068840"/>
                <a:chExt cx="1477800" cy="410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158600" y="10782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mol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20440" y="10688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42880" y="1497960"/>
                <a:ext cx="2257920" cy="318960"/>
                <a:chOff x="542880" y="1497960"/>
                <a:chExt cx="2257920" cy="318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81040" y="15073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42880" y="14979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801520" y="1497960"/>
                <a:ext cx="1870920" cy="318960"/>
                <a:chOff x="2801520" y="1497960"/>
                <a:chExt cx="1870920" cy="318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839680" y="15073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01520" y="14979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673520" y="1497960"/>
                <a:ext cx="2446200" cy="318960"/>
                <a:chOff x="4673520" y="1497960"/>
                <a:chExt cx="2446200" cy="318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11680" y="15073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673520" y="14979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120440" y="1497960"/>
                <a:ext cx="1477800" cy="318960"/>
                <a:chOff x="7120440" y="1497960"/>
                <a:chExt cx="1477800" cy="318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158600" y="15073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120440" y="14979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42880" y="1836000"/>
                <a:ext cx="2257920" cy="318960"/>
                <a:chOff x="542880" y="1836000"/>
                <a:chExt cx="2257920" cy="318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81040" y="18453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42880" y="18360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801520" y="1836000"/>
                <a:ext cx="1870920" cy="318960"/>
                <a:chOff x="2801520" y="1836000"/>
                <a:chExt cx="1870920" cy="318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839680" y="18453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7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01520" y="18360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73520" y="1836000"/>
                <a:ext cx="2446200" cy="318960"/>
                <a:chOff x="4673520" y="1836000"/>
                <a:chExt cx="2446200" cy="318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11680" y="18453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73520" y="18360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120440" y="1836000"/>
                <a:ext cx="1477800" cy="318960"/>
                <a:chOff x="7120440" y="1836000"/>
                <a:chExt cx="1477800" cy="318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158600" y="18453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120440" y="18360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2880" y="2174040"/>
                <a:ext cx="2257920" cy="318960"/>
                <a:chOff x="542880" y="2174040"/>
                <a:chExt cx="2257920" cy="318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81040" y="2183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42880" y="2174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801520" y="2174040"/>
                <a:ext cx="1870920" cy="318960"/>
                <a:chOff x="2801520" y="2174040"/>
                <a:chExt cx="1870920" cy="318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839680" y="2183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01520" y="2174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3520" y="2174040"/>
                <a:ext cx="2446200" cy="318960"/>
                <a:chOff x="4673520" y="2174040"/>
                <a:chExt cx="2446200" cy="318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711680" y="2183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3520" y="2174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120440" y="2174040"/>
                <a:ext cx="1477800" cy="318960"/>
                <a:chOff x="7120440" y="2174040"/>
                <a:chExt cx="1477800" cy="318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158600" y="2183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20440" y="2174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42880" y="2512080"/>
                <a:ext cx="2257920" cy="318960"/>
                <a:chOff x="542880" y="2512080"/>
                <a:chExt cx="2257920" cy="318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81040" y="2521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2880" y="2512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01520" y="2512080"/>
                <a:ext cx="1870920" cy="318960"/>
                <a:chOff x="2801520" y="2512080"/>
                <a:chExt cx="1870920" cy="318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839680" y="2521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01520" y="2512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2512080"/>
                <a:ext cx="2446200" cy="318960"/>
                <a:chOff x="4673520" y="2512080"/>
                <a:chExt cx="2446200" cy="318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711680" y="2521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673520" y="2512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120440" y="2512080"/>
                <a:ext cx="1477800" cy="318960"/>
                <a:chOff x="7120440" y="2512080"/>
                <a:chExt cx="1477800" cy="3189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158600" y="2521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20440" y="2512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2880" y="2850120"/>
                <a:ext cx="2257920" cy="318960"/>
                <a:chOff x="542880" y="2850120"/>
                <a:chExt cx="2257920" cy="318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1040" y="2859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2880" y="2850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801520" y="2850120"/>
                <a:ext cx="1870920" cy="318960"/>
                <a:chOff x="2801520" y="2850120"/>
                <a:chExt cx="1870920" cy="318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9680" y="2859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01520" y="2850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673520" y="2850120"/>
                <a:ext cx="2446200" cy="318960"/>
                <a:chOff x="4673520" y="2850120"/>
                <a:chExt cx="2446200" cy="318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711680" y="2859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73520" y="2850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120440" y="2850120"/>
                <a:ext cx="1477800" cy="318960"/>
                <a:chOff x="7120440" y="2850120"/>
                <a:chExt cx="1477800" cy="318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158600" y="2859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20440" y="2850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42880" y="3188520"/>
                <a:ext cx="2257920" cy="318960"/>
                <a:chOff x="542880" y="3188520"/>
                <a:chExt cx="2257920" cy="318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81040" y="31978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80" y="31885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801520" y="3188520"/>
                <a:ext cx="1870920" cy="318960"/>
                <a:chOff x="2801520" y="3188520"/>
                <a:chExt cx="1870920" cy="318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839680" y="31978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01520" y="31885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673520" y="3188520"/>
                <a:ext cx="2446200" cy="318960"/>
                <a:chOff x="4673520" y="3188520"/>
                <a:chExt cx="2446200" cy="318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711680" y="31978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73520" y="31885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120440" y="3188520"/>
                <a:ext cx="1477800" cy="318960"/>
                <a:chOff x="7120440" y="3188520"/>
                <a:chExt cx="1477800" cy="318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58600" y="31978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0440" y="31885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42880" y="3526560"/>
                <a:ext cx="2257920" cy="318960"/>
                <a:chOff x="542880" y="3526560"/>
                <a:chExt cx="2257920" cy="3189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81040" y="35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2880" y="35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01520" y="3526560"/>
                <a:ext cx="1870920" cy="318960"/>
                <a:chOff x="2801520" y="3526560"/>
                <a:chExt cx="1870920" cy="318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839680" y="35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01520" y="35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73520" y="3526560"/>
                <a:ext cx="2446200" cy="318960"/>
                <a:chOff x="4673520" y="3526560"/>
                <a:chExt cx="2446200" cy="3189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711680" y="35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73520" y="35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120440" y="3526560"/>
                <a:ext cx="1477800" cy="318960"/>
                <a:chOff x="7120440" y="3526560"/>
                <a:chExt cx="1477800" cy="318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158600" y="35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20440" y="35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2880" y="3864600"/>
                <a:ext cx="2257920" cy="318960"/>
                <a:chOff x="542880" y="3864600"/>
                <a:chExt cx="2257920" cy="318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81040" y="38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2880" y="38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801520" y="3864600"/>
                <a:ext cx="1870920" cy="318960"/>
                <a:chOff x="2801520" y="3864600"/>
                <a:chExt cx="1870920" cy="318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39680" y="38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01520" y="38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73520" y="3864600"/>
                <a:ext cx="2446200" cy="318960"/>
                <a:chOff x="4673520" y="3864600"/>
                <a:chExt cx="2446200" cy="318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711680" y="38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73520" y="38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120440" y="3864600"/>
                <a:ext cx="1477800" cy="318960"/>
                <a:chOff x="7120440" y="3864600"/>
                <a:chExt cx="1477800" cy="318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158600" y="38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20440" y="38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42880" y="4202640"/>
                <a:ext cx="2257920" cy="318960"/>
                <a:chOff x="542880" y="4202640"/>
                <a:chExt cx="2257920" cy="318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1040" y="42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42880" y="42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01520" y="4202640"/>
                <a:ext cx="1870920" cy="318960"/>
                <a:chOff x="2801520" y="4202640"/>
                <a:chExt cx="1870920" cy="318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39680" y="42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01520" y="42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673520" y="4202640"/>
                <a:ext cx="2446200" cy="318960"/>
                <a:chOff x="4673520" y="4202640"/>
                <a:chExt cx="2446200" cy="318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711680" y="42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73520" y="42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120440" y="4202640"/>
                <a:ext cx="1477800" cy="318960"/>
                <a:chOff x="7120440" y="4202640"/>
                <a:chExt cx="1477800" cy="318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158600" y="42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20440" y="42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42880" y="4541040"/>
                <a:ext cx="2257920" cy="318960"/>
                <a:chOff x="542880" y="4541040"/>
                <a:chExt cx="2257920" cy="318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81040" y="4550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2880" y="4541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01520" y="4541040"/>
                <a:ext cx="1870920" cy="318960"/>
                <a:chOff x="2801520" y="4541040"/>
                <a:chExt cx="1870920" cy="318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39680" y="4550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01520" y="4541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73520" y="4541040"/>
                <a:ext cx="2446200" cy="318960"/>
                <a:chOff x="4673520" y="4541040"/>
                <a:chExt cx="2446200" cy="318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711680" y="4550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673520" y="4541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120440" y="4541040"/>
                <a:ext cx="1477800" cy="318960"/>
                <a:chOff x="7120440" y="4541040"/>
                <a:chExt cx="1477800" cy="318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158600" y="4550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120440" y="4541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42880" y="4879080"/>
                <a:ext cx="2257920" cy="318960"/>
                <a:chOff x="542880" y="4879080"/>
                <a:chExt cx="2257920" cy="318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1040" y="4888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cohol (ethyl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2880" y="4879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801520" y="4879080"/>
                <a:ext cx="1870920" cy="318960"/>
                <a:chOff x="2801520" y="4879080"/>
                <a:chExt cx="1870920" cy="318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839680" y="4888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3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01520" y="4879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673520" y="4879080"/>
                <a:ext cx="2446200" cy="318960"/>
                <a:chOff x="4673520" y="4879080"/>
                <a:chExt cx="2446200" cy="318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711680" y="4888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5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73520" y="4879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120440" y="4879080"/>
                <a:ext cx="1477800" cy="318960"/>
                <a:chOff x="7120440" y="4879080"/>
                <a:chExt cx="1477800" cy="318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158600" y="4888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20440" y="4879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42880" y="5217120"/>
                <a:ext cx="2257920" cy="318960"/>
                <a:chOff x="542880" y="5217120"/>
                <a:chExt cx="2257920" cy="318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1040" y="5226120"/>
                  <a:ext cx="2181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2880" y="52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801520" y="5217120"/>
                <a:ext cx="1870920" cy="318960"/>
                <a:chOff x="2801520" y="5217120"/>
                <a:chExt cx="1870920" cy="318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839680" y="5226120"/>
                  <a:ext cx="1794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01520" y="52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673520" y="5217120"/>
                <a:ext cx="2446200" cy="318960"/>
                <a:chOff x="4673520" y="5217120"/>
                <a:chExt cx="2446200" cy="318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711680" y="5226120"/>
                  <a:ext cx="23695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673520" y="52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120440" y="5217120"/>
                <a:ext cx="1477800" cy="318960"/>
                <a:chOff x="7120440" y="5217120"/>
                <a:chExt cx="1477800" cy="318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158600" y="5226120"/>
                  <a:ext cx="14011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20440" y="52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42880" y="5555160"/>
                <a:ext cx="2257920" cy="318960"/>
                <a:chOff x="542880" y="5555160"/>
                <a:chExt cx="2257920" cy="318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1040" y="55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42880" y="55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801520" y="5555160"/>
                <a:ext cx="1870920" cy="318960"/>
                <a:chOff x="2801520" y="5555160"/>
                <a:chExt cx="1870920" cy="318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839680" y="55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05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01520" y="55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673520" y="5555160"/>
                <a:ext cx="2446200" cy="318960"/>
                <a:chOff x="4673520" y="5555160"/>
                <a:chExt cx="2446200" cy="318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711680" y="55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73520" y="55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20440" y="5555160"/>
                <a:ext cx="1477800" cy="318960"/>
                <a:chOff x="7120440" y="5555160"/>
                <a:chExt cx="1477800" cy="318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58600" y="55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20440" y="55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42880" y="5893200"/>
                <a:ext cx="2257920" cy="318960"/>
                <a:chOff x="542880" y="5893200"/>
                <a:chExt cx="2257920" cy="3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1040" y="59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2880" y="58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801520" y="5893200"/>
                <a:ext cx="1870920" cy="318960"/>
                <a:chOff x="2801520" y="5893200"/>
                <a:chExt cx="1870920" cy="318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839680" y="59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01520" y="58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673520" y="5893200"/>
                <a:ext cx="2446200" cy="318960"/>
                <a:chOff x="4673520" y="5893200"/>
                <a:chExt cx="2446200" cy="318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711680" y="59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73520" y="58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120440" y="5893200"/>
                <a:ext cx="1477800" cy="318960"/>
                <a:chOff x="7120440" y="5893200"/>
                <a:chExt cx="1477800" cy="318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158600" y="59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20440" y="58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42880" y="6231240"/>
                <a:ext cx="2257920" cy="318960"/>
                <a:chOff x="542880" y="6231240"/>
                <a:chExt cx="2257920" cy="318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81040" y="62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2880" y="62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801520" y="6231240"/>
                <a:ext cx="1870920" cy="318960"/>
                <a:chOff x="2801520" y="6231240"/>
                <a:chExt cx="1870920" cy="318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39680" y="62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01520" y="62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673520" y="6231240"/>
                <a:ext cx="2446200" cy="318960"/>
                <a:chOff x="4673520" y="6231240"/>
                <a:chExt cx="2446200" cy="318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711680" y="62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73520" y="62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20440" y="6231240"/>
                <a:ext cx="1477800" cy="318960"/>
                <a:chOff x="7120440" y="6231240"/>
                <a:chExt cx="1477800" cy="318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58600" y="62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20440" y="62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>
              <a:off x="533520" y="10666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energy transformation associated with all chem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s absorbed, there is a gain in potential energy (PE).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Typically, the reaction chamber decreases in temperature as heat energy is absor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mount of PE gain is equal to the heat energy absorb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s released, there is a loss of potential energy (PE).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ypically, the reaction chamber increases in temperature as heat energy is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mount of PE lost is equal to the heat energy releas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324160" y="380880"/>
            <a:ext cx="449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ig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tial energy tha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46440" y="1744920"/>
            <a:ext cx="3445200" cy="2395080"/>
            <a:chOff x="5446440" y="1744920"/>
            <a:chExt cx="3445200" cy="2395080"/>
          </a:xfrm>
        </p:grpSpPr>
        <p:sp>
          <p:nvSpPr>
            <p:cNvPr id="283" name=""/>
            <p:cNvSpPr/>
            <p:nvPr/>
          </p:nvSpPr>
          <p:spPr>
            <a:xfrm flipH="1" flipV="1">
              <a:off x="5446440" y="4138200"/>
              <a:ext cx="276876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7680" y="1744920"/>
              <a:ext cx="34239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 is given 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38800" y="2211480"/>
              <a:ext cx="4680" cy="1922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41240" y="1743480"/>
            <a:ext cx="3525840" cy="1012320"/>
            <a:chOff x="741240" y="1743480"/>
            <a:chExt cx="3525840" cy="1012320"/>
          </a:xfrm>
        </p:grpSpPr>
        <p:sp>
          <p:nvSpPr>
            <p:cNvPr id="287" name=""/>
            <p:cNvSpPr/>
            <p:nvPr/>
          </p:nvSpPr>
          <p:spPr>
            <a:xfrm flipH="1" flipV="1">
              <a:off x="741240" y="2754360"/>
              <a:ext cx="276840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2760" y="1743480"/>
              <a:ext cx="34243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 is absor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19280" y="2209680"/>
              <a:ext cx="0" cy="528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57320" y="2362320"/>
            <a:ext cx="8829360" cy="2682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986120" y="1676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43120" y="5105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lysis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5105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ing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 in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41240" y="1743480"/>
            <a:ext cx="3525840" cy="1012320"/>
            <a:chOff x="741240" y="1743480"/>
            <a:chExt cx="3525840" cy="1012320"/>
          </a:xfrm>
        </p:grpSpPr>
        <p:sp>
          <p:nvSpPr>
            <p:cNvPr id="295" name=""/>
            <p:cNvSpPr/>
            <p:nvPr/>
          </p:nvSpPr>
          <p:spPr>
            <a:xfrm flipH="1" flipV="1">
              <a:off x="741240" y="2754360"/>
              <a:ext cx="276840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2760" y="1743480"/>
              <a:ext cx="34243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gher potential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9280" y="2209680"/>
              <a:ext cx="0" cy="528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46440" y="1744920"/>
            <a:ext cx="3445200" cy="2395080"/>
            <a:chOff x="5446440" y="1744920"/>
            <a:chExt cx="3445200" cy="2395080"/>
          </a:xfrm>
        </p:grpSpPr>
        <p:sp>
          <p:nvSpPr>
            <p:cNvPr id="299" name=""/>
            <p:cNvSpPr/>
            <p:nvPr/>
          </p:nvSpPr>
          <p:spPr>
            <a:xfrm flipH="1" flipV="1">
              <a:off x="5446440" y="4138200"/>
              <a:ext cx="276876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7680" y="1744920"/>
              <a:ext cx="34239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er potential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138800" y="2211480"/>
              <a:ext cx="4680" cy="1922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Propert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360" y="912960"/>
            <a:ext cx="8717040" cy="49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aracteristics are directly observable or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Ex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objects (i.e. size, shape, mas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In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substances (i.e. density, conductivity, colo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emical Propert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re the characteristics of a substance that determine the tendency of the matter to transform in composition as a result of the interaction with other substances, the influence of energy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1500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se are characteristics that describe the behavior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Chan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40960"/>
            <a:ext cx="8839440" cy="569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es that do not result in a change the fundamental composition of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ypical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hysical State Changes: boiling, melting, conden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, Size or Tex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 a change in the fundamental composition of th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s on Chemic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duction of a new substanc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ferred to as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representation: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Both physical and chemical changes will likely produce  an alteration of appearance, the key is to discern the type of change that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hemical Change &amp; Law of Mass Conserv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never created nor destroyed, can only transform from one substan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hemical change (reaction) occurs, the total mass of the products must equal the total mass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a chemical process, 90.0 g of water is produced from 10.0 g of oxygen with a quantity of hydrogen gas.  How much hydrogen gas (in grams) is reacted in this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rite out the basic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table around this reaction, separating each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90680" y="2820960"/>
          <a:ext cx="64990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2820960"/>
                    <a:ext cx="6499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9000" y="990360"/>
            <a:ext cx="868824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osely described as the capacity of something to do work (or alter the physical or chemical state of an object or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, chemical, thermal, electrical, radiant, 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energy is the Joule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ly used units are Calories (cal) and Kilowatt-hours (k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es of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oten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or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net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associated with motion an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that flows from high to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 of Energy Con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is never created nor destroy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it does change from one type to anoth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3760" y="293760"/>
            <a:ext cx="824076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Heat Energy &amp; Temperat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t or cold something is (an extrinsic physical property), it represents a particular therm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inetic) energy of the sub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the total energy but the average ener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Fahrenheit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Celsius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vin 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that flows from hot objects to cold object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physical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bsorbed or released by an object resulting in its temperatur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les (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ories (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owatt Hours (kW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ottom Line: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Heat energy absorbed or released is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easured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by changes in temperature but do not confuse heat energy fo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7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Energ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40" y="934920"/>
            <a:ext cx="87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energy that flows due to a temperat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flows from higher temperature to lower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volving H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burning paper is an exothermic process because energy is produced as heat (the temperature ris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melting ice to form liquid water is an endothermic process because heat energy must be absorbed to change the physical state (in this case the temperature does not change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85680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absorbs or loses heat energy, 1 of 2 thing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emperatur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ot coffee will cool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hysical stat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ice will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er case above, the heat energy absorbed or lost by an object is proportion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the object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temperature the object undergo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fic heat capacity (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physical property unique to the sub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heat gained (Q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01640" y="5516640"/>
          <a:ext cx="3125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516640"/>
                    <a:ext cx="3125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5735520" y="4678200"/>
            <a:ext cx="2925720" cy="2027520"/>
            <a:chOff x="5735520" y="4678200"/>
            <a:chExt cx="2925720" cy="2027520"/>
          </a:xfrm>
        </p:grpSpPr>
        <p:sp>
          <p:nvSpPr>
            <p:cNvPr id="71" name=""/>
            <p:cNvSpPr/>
            <p:nvPr/>
          </p:nvSpPr>
          <p:spPr>
            <a:xfrm>
              <a:off x="5735520" y="4678200"/>
              <a:ext cx="2925720" cy="202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39040" y="4842000"/>
              <a:ext cx="131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5160" y="609120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16880" y="6091200"/>
              <a:ext cx="82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54760" y="609588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cific Heat Capacity (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0040" y="938160"/>
            <a:ext cx="868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reflects how absorbed heat energy relates to the corresponding increase in temperature for a given amount of mass, i.e.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nergy per unit mass per unit temperature chang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commonly measured in uni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a unique intrinsic physical property of matter.  Typically,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tals have higher specific heat capacity tha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754520" y="2049480"/>
          <a:ext cx="22878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049480"/>
                    <a:ext cx="2287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05T20:55:43Z</dcterms:modified>
  <cp:revision>155</cp:revision>
  <dc:subject/>
  <dc:title>Phy 211: General Physics I</dc:title>
</cp:coreProperties>
</file>