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F264C-F3C2-49E6-9E27-F3AFECBD7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517A-D3A7-4F80-A077-993D5ECEE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537D-D26C-4844-B359-2C68CE60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7BF3-8163-4345-9FEC-87C0D692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46B5-B6B8-4354-8CA9-7982B6AD8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0560-06A1-4C2C-8C05-90888AA0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FD52-F924-471B-8BDE-A0885670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B723-F318-4E93-83E1-6A0ADDF4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A5DF-040F-4B44-9127-DEE3A6C8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AD2A-E5CB-4A85-8A4A-469FB4B7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52AE-0AE6-4D76-ACD1-E1ECA2B6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C98F-F30C-4BA2-9E87-9AEA68D6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0DEA-B14F-4385-8988-E7EEA9CD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F60C-DE7C-43B2-89CE-B3095811B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 100: Fundamentals for Chemistr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4: Properties of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19280" y="396720"/>
            <a:ext cx="7807320" cy="6231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5524560" y="3568680"/>
            <a:ext cx="1109520" cy="454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4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32480" y="3160800"/>
            <a:ext cx="1109520" cy="454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able of Specific Heat for Various Substances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33520" y="1066680"/>
            <a:ext cx="8076240" cy="5486400"/>
            <a:chOff x="533520" y="1066680"/>
            <a:chExt cx="8076240" cy="5486400"/>
          </a:xfrm>
        </p:grpSpPr>
        <p:grpSp>
          <p:nvGrpSpPr>
            <p:cNvPr id="85" name=""/>
            <p:cNvGrpSpPr/>
            <p:nvPr/>
          </p:nvGrpSpPr>
          <p:grpSpPr>
            <a:xfrm>
              <a:off x="542880" y="1068840"/>
              <a:ext cx="8055360" cy="5481360"/>
              <a:chOff x="542880" y="1068840"/>
              <a:chExt cx="8055360" cy="5481360"/>
            </a:xfrm>
          </p:grpSpPr>
          <p:grpSp>
            <p:nvGrpSpPr>
              <p:cNvPr id="86" name=""/>
              <p:cNvGrpSpPr/>
              <p:nvPr/>
            </p:nvGrpSpPr>
            <p:grpSpPr>
              <a:xfrm>
                <a:off x="542880" y="1068840"/>
                <a:ext cx="2257920" cy="410040"/>
                <a:chOff x="542880" y="1068840"/>
                <a:chExt cx="2257920" cy="41004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581040" y="1078200"/>
                  <a:ext cx="2181240" cy="39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ubstanc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42880" y="1068840"/>
                  <a:ext cx="2257920" cy="41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2801520" y="1068840"/>
                <a:ext cx="1870920" cy="410040"/>
                <a:chOff x="2801520" y="1068840"/>
                <a:chExt cx="1870920" cy="41004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839680" y="1078200"/>
                  <a:ext cx="1794240" cy="39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/g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.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K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801520" y="1068840"/>
                  <a:ext cx="1870920" cy="41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673520" y="1068840"/>
                <a:ext cx="2446200" cy="410040"/>
                <a:chOff x="4673520" y="1068840"/>
                <a:chExt cx="2446200" cy="41004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711680" y="1078200"/>
                  <a:ext cx="2369520" cy="39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l/g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.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K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673520" y="1068840"/>
                  <a:ext cx="2446200" cy="41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7120440" y="1068840"/>
                <a:ext cx="1477800" cy="410040"/>
                <a:chOff x="7120440" y="1068840"/>
                <a:chExt cx="1477800" cy="41004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7158600" y="1078200"/>
                  <a:ext cx="1401120" cy="39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/mol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.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K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7120440" y="1068840"/>
                  <a:ext cx="1477800" cy="41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542880" y="1497960"/>
                <a:ext cx="2257920" cy="318960"/>
                <a:chOff x="542880" y="1497960"/>
                <a:chExt cx="2257920" cy="31896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581040" y="150732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uminum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42880" y="149796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801520" y="1497960"/>
                <a:ext cx="1870920" cy="318960"/>
                <a:chOff x="2801520" y="1497960"/>
                <a:chExt cx="1870920" cy="3189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839680" y="150732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90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801520" y="149796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4673520" y="1497960"/>
                <a:ext cx="2446200" cy="318960"/>
                <a:chOff x="4673520" y="1497960"/>
                <a:chExt cx="2446200" cy="3189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4711680" y="150732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21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673520" y="149796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7120440" y="1497960"/>
                <a:ext cx="1477800" cy="318960"/>
                <a:chOff x="7120440" y="1497960"/>
                <a:chExt cx="1477800" cy="3189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7158600" y="150732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.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120440" y="149796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542880" y="1836000"/>
                <a:ext cx="2257920" cy="318960"/>
                <a:chOff x="542880" y="1836000"/>
                <a:chExt cx="2257920" cy="3189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581040" y="184536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ro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542880" y="183600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801520" y="1836000"/>
                <a:ext cx="1870920" cy="318960"/>
                <a:chOff x="2801520" y="1836000"/>
                <a:chExt cx="1870920" cy="3189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839680" y="184536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47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801520" y="183600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4673520" y="1836000"/>
                <a:ext cx="2446200" cy="318960"/>
                <a:chOff x="4673520" y="1836000"/>
                <a:chExt cx="2446200" cy="3189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4711680" y="184536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1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673520" y="183600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7120440" y="1836000"/>
                <a:ext cx="1477800" cy="318960"/>
                <a:chOff x="7120440" y="1836000"/>
                <a:chExt cx="1477800" cy="3189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7158600" y="184536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.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7120440" y="183600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42880" y="2174040"/>
                <a:ext cx="2257920" cy="318960"/>
                <a:chOff x="542880" y="2174040"/>
                <a:chExt cx="2257920" cy="3189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81040" y="218340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pper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42880" y="217404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2801520" y="2174040"/>
                <a:ext cx="1870920" cy="318960"/>
                <a:chOff x="2801520" y="2174040"/>
                <a:chExt cx="1870920" cy="3189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2839680" y="218340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38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801520" y="217404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4673520" y="2174040"/>
                <a:ext cx="2446200" cy="318960"/>
                <a:chOff x="4673520" y="2174040"/>
                <a:chExt cx="2446200" cy="31896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4711680" y="218340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092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673520" y="217404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7120440" y="2174040"/>
                <a:ext cx="1477800" cy="318960"/>
                <a:chOff x="7120440" y="2174040"/>
                <a:chExt cx="1477800" cy="31896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7158600" y="218340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.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120440" y="217404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542880" y="2512080"/>
                <a:ext cx="2257920" cy="318960"/>
                <a:chOff x="542880" y="2512080"/>
                <a:chExt cx="2257920" cy="31896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581040" y="252144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ras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42880" y="251208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2801520" y="2512080"/>
                <a:ext cx="1870920" cy="318960"/>
                <a:chOff x="2801520" y="2512080"/>
                <a:chExt cx="1870920" cy="31896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839680" y="252144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38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801520" y="251208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4673520" y="2512080"/>
                <a:ext cx="2446200" cy="318960"/>
                <a:chOff x="4673520" y="2512080"/>
                <a:chExt cx="2446200" cy="3189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711680" y="252144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09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673520" y="251208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7120440" y="2512080"/>
                <a:ext cx="1477800" cy="318960"/>
                <a:chOff x="7120440" y="2512080"/>
                <a:chExt cx="1477800" cy="31896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7158600" y="252144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..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120440" y="251208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542880" y="2850120"/>
                <a:ext cx="2257920" cy="318960"/>
                <a:chOff x="542880" y="2850120"/>
                <a:chExt cx="2257920" cy="3189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581040" y="285948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ol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42880" y="285012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2801520" y="2850120"/>
                <a:ext cx="1870920" cy="318960"/>
                <a:chOff x="2801520" y="2850120"/>
                <a:chExt cx="1870920" cy="3189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2839680" y="285948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3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801520" y="285012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4673520" y="2850120"/>
                <a:ext cx="2446200" cy="318960"/>
                <a:chOff x="4673520" y="2850120"/>
                <a:chExt cx="2446200" cy="3189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4711680" y="285948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031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673520" y="285012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7120440" y="2850120"/>
                <a:ext cx="1477800" cy="318960"/>
                <a:chOff x="7120440" y="2850120"/>
                <a:chExt cx="1477800" cy="31896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7158600" y="285948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.6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120440" y="285012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542880" y="3188520"/>
                <a:ext cx="2257920" cy="318960"/>
                <a:chOff x="542880" y="3188520"/>
                <a:chExt cx="2257920" cy="31896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581040" y="319788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a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42880" y="318852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801520" y="3188520"/>
                <a:ext cx="1870920" cy="318960"/>
                <a:chOff x="2801520" y="3188520"/>
                <a:chExt cx="1870920" cy="31896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2839680" y="319788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2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801520" y="318852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4673520" y="3188520"/>
                <a:ext cx="2446200" cy="318960"/>
                <a:chOff x="4673520" y="3188520"/>
                <a:chExt cx="2446200" cy="31896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4711680" y="319788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030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673520" y="318852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7120440" y="3188520"/>
                <a:ext cx="1477800" cy="318960"/>
                <a:chOff x="7120440" y="3188520"/>
                <a:chExt cx="1477800" cy="3189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158600" y="319788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.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7120440" y="318852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542880" y="3526560"/>
                <a:ext cx="2257920" cy="318960"/>
                <a:chOff x="542880" y="3526560"/>
                <a:chExt cx="2257920" cy="3189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81040" y="353592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ilver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42880" y="352656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2801520" y="3526560"/>
                <a:ext cx="1870920" cy="318960"/>
                <a:chOff x="2801520" y="3526560"/>
                <a:chExt cx="1870920" cy="3189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2839680" y="353592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23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801520" y="352656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4673520" y="3526560"/>
                <a:ext cx="2446200" cy="318960"/>
                <a:chOff x="4673520" y="3526560"/>
                <a:chExt cx="2446200" cy="3189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4711680" y="353592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055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673520" y="352656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7120440" y="3526560"/>
                <a:ext cx="1477800" cy="318960"/>
                <a:chOff x="7120440" y="3526560"/>
                <a:chExt cx="1477800" cy="3189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7158600" y="353592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.9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120440" y="352656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542880" y="3864600"/>
                <a:ext cx="2257920" cy="318960"/>
                <a:chOff x="542880" y="3864600"/>
                <a:chExt cx="2257920" cy="3189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81040" y="387396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ungste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42880" y="386460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801520" y="3864600"/>
                <a:ext cx="1870920" cy="318960"/>
                <a:chOff x="2801520" y="3864600"/>
                <a:chExt cx="1870920" cy="31896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839680" y="387396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3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801520" y="386460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4673520" y="3864600"/>
                <a:ext cx="2446200" cy="318960"/>
                <a:chOff x="4673520" y="3864600"/>
                <a:chExt cx="2446200" cy="31896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4711680" y="387396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032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673520" y="386460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7120440" y="3864600"/>
                <a:ext cx="1477800" cy="318960"/>
                <a:chOff x="7120440" y="3864600"/>
                <a:chExt cx="1477800" cy="31896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7158600" y="387396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.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120440" y="386460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542880" y="4202640"/>
                <a:ext cx="2257920" cy="318960"/>
                <a:chOff x="542880" y="4202640"/>
                <a:chExt cx="2257920" cy="3189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1040" y="421200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Zin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42880" y="420264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2801520" y="4202640"/>
                <a:ext cx="1870920" cy="318960"/>
                <a:chOff x="2801520" y="4202640"/>
                <a:chExt cx="1870920" cy="3189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839680" y="421200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387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801520" y="420264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4673520" y="4202640"/>
                <a:ext cx="2446200" cy="318960"/>
                <a:chOff x="4673520" y="4202640"/>
                <a:chExt cx="2446200" cy="3189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4711680" y="421200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092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673520" y="420264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7120440" y="4202640"/>
                <a:ext cx="1477800" cy="318960"/>
                <a:chOff x="7120440" y="4202640"/>
                <a:chExt cx="1477800" cy="31896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7158600" y="421200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.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120440" y="420264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542880" y="4541040"/>
                <a:ext cx="2257920" cy="318960"/>
                <a:chOff x="542880" y="4541040"/>
                <a:chExt cx="2257920" cy="31896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581040" y="455040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rcury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42880" y="454104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2801520" y="4541040"/>
                <a:ext cx="1870920" cy="318960"/>
                <a:chOff x="2801520" y="4541040"/>
                <a:chExt cx="1870920" cy="31896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2839680" y="455040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801520" y="454104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4673520" y="4541040"/>
                <a:ext cx="2446200" cy="318960"/>
                <a:chOff x="4673520" y="4541040"/>
                <a:chExt cx="2446200" cy="31896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4711680" y="455040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03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673520" y="454104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7120440" y="4541040"/>
                <a:ext cx="1477800" cy="318960"/>
                <a:chOff x="7120440" y="4541040"/>
                <a:chExt cx="1477800" cy="318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7158600" y="455040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.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120440" y="454104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542880" y="4879080"/>
                <a:ext cx="2257920" cy="318960"/>
                <a:chOff x="542880" y="4879080"/>
                <a:chExt cx="2257920" cy="31896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581040" y="488844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cohol (ethyl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42880" y="487908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2801520" y="4879080"/>
                <a:ext cx="1870920" cy="318960"/>
                <a:chOff x="2801520" y="4879080"/>
                <a:chExt cx="1870920" cy="31896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2839680" y="488844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138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801520" y="487908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4673520" y="4879080"/>
                <a:ext cx="2446200" cy="318960"/>
                <a:chOff x="4673520" y="4879080"/>
                <a:chExt cx="2446200" cy="3189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4711680" y="488844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51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673520" y="487908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7120440" y="4879080"/>
                <a:ext cx="1477800" cy="318960"/>
                <a:chOff x="7120440" y="4879080"/>
                <a:chExt cx="1477800" cy="31896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7158600" y="488844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120440" y="487908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542880" y="5217120"/>
                <a:ext cx="2257920" cy="318960"/>
                <a:chOff x="542880" y="5217120"/>
                <a:chExt cx="2257920" cy="3189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81040" y="5226120"/>
                  <a:ext cx="2181240" cy="300240"/>
                </a:xfrm>
                <a:prstGeom prst="rect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ater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42880" y="521712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2801520" y="5217120"/>
                <a:ext cx="1870920" cy="318960"/>
                <a:chOff x="2801520" y="5217120"/>
                <a:chExt cx="1870920" cy="31896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2839680" y="5226120"/>
                  <a:ext cx="1794240" cy="300240"/>
                </a:xfrm>
                <a:prstGeom prst="rect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.18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801520" y="521712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4673520" y="5217120"/>
                <a:ext cx="2446200" cy="318960"/>
                <a:chOff x="4673520" y="5217120"/>
                <a:chExt cx="2446200" cy="31896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4711680" y="5226120"/>
                  <a:ext cx="2369520" cy="300240"/>
                </a:xfrm>
                <a:prstGeom prst="rect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00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673520" y="521712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7120440" y="5217120"/>
                <a:ext cx="1477800" cy="318960"/>
                <a:chOff x="7120440" y="5217120"/>
                <a:chExt cx="1477800" cy="31896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7158600" y="5226120"/>
                  <a:ext cx="1401120" cy="300240"/>
                </a:xfrm>
                <a:prstGeom prst="rect">
                  <a:avLst/>
                </a:prstGeom>
                <a:solidFill>
                  <a:srgbClr val="bbe0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5.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120440" y="521712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542880" y="5555160"/>
                <a:ext cx="2257920" cy="318960"/>
                <a:chOff x="542880" y="5555160"/>
                <a:chExt cx="2257920" cy="3189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581040" y="556452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ce (-10 C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42880" y="555516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2801520" y="5555160"/>
                <a:ext cx="1870920" cy="318960"/>
                <a:chOff x="2801520" y="5555160"/>
                <a:chExt cx="1870920" cy="3189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2839680" y="556452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059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801520" y="555516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4673520" y="5555160"/>
                <a:ext cx="2446200" cy="318960"/>
                <a:chOff x="4673520" y="5555160"/>
                <a:chExt cx="2446200" cy="3189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4711680" y="556452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49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673520" y="555516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7120440" y="5555160"/>
                <a:ext cx="1477800" cy="318960"/>
                <a:chOff x="7120440" y="5555160"/>
                <a:chExt cx="1477800" cy="3189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7158600" y="556452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6.9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120440" y="555516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542880" y="5893200"/>
                <a:ext cx="2257920" cy="318960"/>
                <a:chOff x="542880" y="5893200"/>
                <a:chExt cx="2257920" cy="3189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581040" y="590256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anit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42880" y="589320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2801520" y="5893200"/>
                <a:ext cx="1870920" cy="318960"/>
                <a:chOff x="2801520" y="5893200"/>
                <a:chExt cx="1870920" cy="31896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2839680" y="590256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.79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801520" y="589320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4673520" y="5893200"/>
                <a:ext cx="2446200" cy="318960"/>
                <a:chOff x="4673520" y="5893200"/>
                <a:chExt cx="2446200" cy="31896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4711680" y="590256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9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673520" y="589320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7120440" y="5893200"/>
                <a:ext cx="1477800" cy="318960"/>
                <a:chOff x="7120440" y="5893200"/>
                <a:chExt cx="1477800" cy="31896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7158600" y="590256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..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120440" y="589320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542880" y="6231240"/>
                <a:ext cx="2257920" cy="318960"/>
                <a:chOff x="542880" y="6231240"/>
                <a:chExt cx="2257920" cy="31896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581040" y="6240600"/>
                  <a:ext cx="2181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las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42880" y="6231240"/>
                  <a:ext cx="2257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801520" y="6231240"/>
                <a:ext cx="1870920" cy="318960"/>
                <a:chOff x="2801520" y="6231240"/>
                <a:chExt cx="1870920" cy="31896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839680" y="6240600"/>
                  <a:ext cx="179424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.8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801520" y="6231240"/>
                  <a:ext cx="1870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4673520" y="6231240"/>
                <a:ext cx="2446200" cy="318960"/>
                <a:chOff x="4673520" y="6231240"/>
                <a:chExt cx="2446200" cy="31896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4711680" y="6240600"/>
                  <a:ext cx="23695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20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4673520" y="6231240"/>
                  <a:ext cx="24462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7120440" y="6231240"/>
                <a:ext cx="1477800" cy="318960"/>
                <a:chOff x="7120440" y="6231240"/>
                <a:chExt cx="1477800" cy="31896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7158600" y="6240600"/>
                  <a:ext cx="1401120" cy="29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..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7120440" y="6231240"/>
                  <a:ext cx="14778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8" name=""/>
            <p:cNvSpPr/>
            <p:nvPr/>
          </p:nvSpPr>
          <p:spPr>
            <a:xfrm>
              <a:off x="533520" y="1066680"/>
              <a:ext cx="8076240" cy="5486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nergy in Chemical Reac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energy transformation associated with all chemical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energy is absorbed, there is a gain in potential energy (PE).  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Typically, the reaction chamber decreases in temperature as heat energy is absorb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amount of PE gain is equal to the heat energy absorb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energy is released, there is a loss of potential energy (PE).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ypically, the reaction chamber increases in temperature as heat energy is rele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amount of PE lost is equal to the heat energy releas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324160" y="380880"/>
            <a:ext cx="44956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high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tential energy than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446440" y="1744920"/>
            <a:ext cx="3445200" cy="2395080"/>
            <a:chOff x="5446440" y="1744920"/>
            <a:chExt cx="3445200" cy="2395080"/>
          </a:xfrm>
        </p:grpSpPr>
        <p:sp>
          <p:nvSpPr>
            <p:cNvPr id="283" name=""/>
            <p:cNvSpPr/>
            <p:nvPr/>
          </p:nvSpPr>
          <p:spPr>
            <a:xfrm flipH="1" flipV="1">
              <a:off x="5446440" y="4138200"/>
              <a:ext cx="2768760" cy="18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67680" y="1744920"/>
              <a:ext cx="34239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nergy is given 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7138800" y="2211480"/>
              <a:ext cx="4680" cy="19224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741240" y="1743480"/>
            <a:ext cx="3525840" cy="1012320"/>
            <a:chOff x="741240" y="1743480"/>
            <a:chExt cx="3525840" cy="1012320"/>
          </a:xfrm>
        </p:grpSpPr>
        <p:sp>
          <p:nvSpPr>
            <p:cNvPr id="287" name=""/>
            <p:cNvSpPr/>
            <p:nvPr/>
          </p:nvSpPr>
          <p:spPr>
            <a:xfrm flipH="1" flipV="1">
              <a:off x="741240" y="2754360"/>
              <a:ext cx="2768400" cy="144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42760" y="1743480"/>
              <a:ext cx="342432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nergy is absorb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519280" y="2209680"/>
              <a:ext cx="0" cy="52884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57320" y="2362320"/>
            <a:ext cx="8829360" cy="26827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986120" y="1676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43120" y="51055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lysis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62480" y="510552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ning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gen  in A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41240" y="1743480"/>
            <a:ext cx="3525840" cy="1012320"/>
            <a:chOff x="741240" y="1743480"/>
            <a:chExt cx="3525840" cy="1012320"/>
          </a:xfrm>
        </p:grpSpPr>
        <p:sp>
          <p:nvSpPr>
            <p:cNvPr id="295" name=""/>
            <p:cNvSpPr/>
            <p:nvPr/>
          </p:nvSpPr>
          <p:spPr>
            <a:xfrm flipH="1" flipV="1">
              <a:off x="741240" y="2754360"/>
              <a:ext cx="2768400" cy="144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2760" y="1743480"/>
              <a:ext cx="342432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igher potential ener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519280" y="2209680"/>
              <a:ext cx="0" cy="52884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446440" y="1744920"/>
            <a:ext cx="3445200" cy="2395080"/>
            <a:chOff x="5446440" y="1744920"/>
            <a:chExt cx="3445200" cy="2395080"/>
          </a:xfrm>
        </p:grpSpPr>
        <p:sp>
          <p:nvSpPr>
            <p:cNvPr id="299" name=""/>
            <p:cNvSpPr/>
            <p:nvPr/>
          </p:nvSpPr>
          <p:spPr>
            <a:xfrm flipH="1" flipV="1">
              <a:off x="5446440" y="4138200"/>
              <a:ext cx="2768760" cy="18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67680" y="1744920"/>
              <a:ext cx="34239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wer potential ener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7138800" y="2211480"/>
              <a:ext cx="4680" cy="19224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hysical &amp; Chemical Properti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360" y="912960"/>
            <a:ext cx="8717040" cy="496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20480" indent="-420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 Proper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the characteristics of matter that can be changed without changing its 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0960" indent="-420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haracteristics are directly observable or meas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0960" indent="-420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 of Physical Proper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1600" indent="-3502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Extrinsic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Properties are unique to objects (i.e. size, shape, mas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1600" indent="-3502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Intrinsic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Properties are unique to substances (i.e. density, conductivity, color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15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hemical Properties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are the characteristics of a substance that determine the tendency of the matter to transform in composition as a result of the interaction with other substances, the influence of energy or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0960" indent="-420480">
              <a:spcBef>
                <a:spcPts val="1500"/>
              </a:spcBef>
              <a:buClr>
                <a:srgbClr val="0000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ese are characteristics that describe the behavior of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hysical &amp; Chemical Chang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840960"/>
            <a:ext cx="8839440" cy="569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 Chan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changes that do not result in a change the fundamental composition of the sub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Typical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Physical State Changes: boiling, melting, condensing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hape, Size or Textur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Chan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volve a change in the fundamental composition of the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Notes on Chemical Chan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Production of a new substance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Referred to as chemical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e basic representation: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actants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 Both physical and chemical changes will likely produce  an alteration of appearance, the key is to discern the type of change that has occur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Chemical Change &amp; Law of Mass Conservation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036440"/>
            <a:ext cx="8839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is never created nor destroyed, can only transform from one substance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chemical change (reaction) occurs, the total mass of the products must equal the total mass of reac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 a chemical process, 90.0 g of water is produced from 10.0 g of oxygen with a quantity of hydrogen gas.  How much hydrogen gas (in grams) is reacted in this proc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write out the basic chemical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a table around this reaction, separating each sub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390680" y="2820960"/>
          <a:ext cx="649908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2820960"/>
                    <a:ext cx="64990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nerg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9000" y="990360"/>
            <a:ext cx="8688240" cy="569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loosely described as the capacity of something to do work (or alter the physical or chemical state of an object or syst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orms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, chemical, thermal, electrical, radiant, nu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 unit of energy is the Joule (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commonly used units are Calories (cal) and Kilowatt-hours (k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ypes of ener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Potenti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store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Kinetic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ergy associated with motion and vib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Hea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energy that flows from high to low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le of Energy Conserv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energy is never created nor destroy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ut it does change from one type to another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3760" y="293760"/>
            <a:ext cx="8240760" cy="69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Distinguishing Heat Energy &amp; Temperatur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82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 is 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ot or cold something is (an extrinsic physical property), it represents a particular thermal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ed to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ver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kinetic) energy of the substan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not the total energy but the average energ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d in units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grees Fahrenheit (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grees Celsius (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lvin (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t is 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that flows from hot objects to cold objects.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at is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 physical proper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absorbed or released by an object resulting in its temperatur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d in units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ules (J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ories (C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ilowatt Hours (kW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Bottom Line: 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Heat energy absorbed or released is </a:t>
            </a:r>
            <a:r>
              <a:rPr b="0" i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measured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 by changes in temperature but do not confuse heat energy for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73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Heat (Energy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0440" y="934920"/>
            <a:ext cx="874872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is energy that flows due to a temperature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energy flows from higher temperature to lower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is transferred due to “collisions” between atoms/molecules of different kinetic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3240" indent="-45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produced by friction, heat is mechanical energy that is irretrievably removed from a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3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 involving He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othermic = A process that releases heat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burning paper is an exothermic process because energy is produced as heat (the temperature rises!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Endothermic = A process that absorbs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melting ice to form liquid water is an endothermic process because heat energy must be absorbed to change the physical state (in this case the temperature does not change!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Heat (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856800"/>
            <a:ext cx="8839440" cy="42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something absorbs or loses heat energy, 1 of 2 things can occu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temperature will chang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.g. hot coffee will cool d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physical state will chang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.g. ice will me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former case above, the heat energy absorbed or lost by an object is proportional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ss of the object (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nge in temperature the object undergoes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ecific heat capacity (s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 physical property unique to the subst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alculate heat gained (Q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01640" y="5516640"/>
          <a:ext cx="312588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5516640"/>
                    <a:ext cx="312588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0" name=""/>
          <p:cNvGrpSpPr/>
          <p:nvPr/>
        </p:nvGrpSpPr>
        <p:grpSpPr>
          <a:xfrm>
            <a:off x="5735520" y="4678200"/>
            <a:ext cx="2925720" cy="2027520"/>
            <a:chOff x="5735520" y="4678200"/>
            <a:chExt cx="2925720" cy="2027520"/>
          </a:xfrm>
        </p:grpSpPr>
        <p:sp>
          <p:nvSpPr>
            <p:cNvPr id="71" name=""/>
            <p:cNvSpPr/>
            <p:nvPr/>
          </p:nvSpPr>
          <p:spPr>
            <a:xfrm>
              <a:off x="5735520" y="4678200"/>
              <a:ext cx="2925720" cy="202752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39040" y="4842000"/>
              <a:ext cx="13158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15160" y="6091200"/>
              <a:ext cx="703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16880" y="6091200"/>
              <a:ext cx="8208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54760" y="6095880"/>
              <a:ext cx="703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313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pecific Heat Capacity (s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0040" y="938160"/>
            <a:ext cx="868392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heat capacity reflects how absorbed heat energy relates to the corresponding increase in temperature for a given amount of mass, i.e. 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energy per unit mass per unit temperature change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Heat Capacity is commonly measured in units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/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(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/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(metric &amp; more useful in the la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Heat Capacity is a unique intrinsic physical property of matter.  Typically, 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s have low specific heat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metals have higher specific heat capacity tha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has an unusually large specific heat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754520" y="2049480"/>
          <a:ext cx="2287800" cy="110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4520" y="2049480"/>
                    <a:ext cx="228780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8-02-05T20:55:43Z</dcterms:modified>
  <cp:revision>155</cp:revision>
  <dc:subject/>
  <dc:title>Phy 211: General Physics I</dc:title>
</cp:coreProperties>
</file>