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BAE-8D62-485F-B6B3-1CBC51A8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2070-F12E-4726-ABB4-00BB7200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D28-B9E4-46AB-9F3A-78EEEA07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D79-8448-4660-94A6-961039CA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793-03D4-487E-ACBF-A34D8F7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E64-AA60-4DBA-98EA-27DE4AC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BE9-2A0A-46CF-B869-CF957829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05B-5C2E-42B9-8DDD-302C57A3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561-DE56-4A4A-9830-1A099A56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CF0-A85A-4A74-8ED6-1BEF136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BA8B-FCFE-4170-B92E-522319C7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17F-8B5A-4691-9487-F34D9E4E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2F8B-01AD-4D0D-AA93-ECBB07EA3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3: Elements &amp;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emical Symbols &amp; Formula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7600" y="947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chemical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chemical symb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: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: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uminum: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lecule has a unique chemical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mical formula of a molecule ind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mical symbol for each of the element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# of atoms of each element present in the 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of chemical formul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emental oxygen: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O atoms per molec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:  H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H atoms &amp; 1 O a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3290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uminum sulfate: Al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S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2 Al, 3 S &amp; 12 O a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3520" y="1123920"/>
            <a:ext cx="8553600" cy="42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known elements are arranged in a chart called the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eriodic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in the Periodic Table is identified by both its chemical symbol and its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ments are organized left-to-right and top-to-bottom according to their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ments are arranged by similarity of chem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lumns are called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each group typically have similar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ws are called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eri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reflect the periodicity of chemical properties as atomic number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eriodic Table of Element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66760" y="1108080"/>
          <a:ext cx="86090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108080"/>
                    <a:ext cx="86090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ments and the Periodic Tabl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7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ments can be categorized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ftmost element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70% of all of the elements ar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n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most elements of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mimetals (metallo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ments that reside along the “stair step” between the metals and nonmetals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erties of semimetals are not quite metallic or non-metallic, but rather somewhere i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mitri Mendeleev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834-190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05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born chem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one of the greatest science teachers of his 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organized the known elements of his time into the first “periodic t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were organized by chemical properties (&amp; by weight) -&gt;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iodic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prisingly, his periodic table predicted the existence of 3 new elem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which were subsequently discove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3267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10-11T19:54:03Z</dcterms:modified>
  <cp:revision>149</cp:revision>
  <dc:subject/>
  <dc:title>Phy 211: General Physics I</dc:title>
</cp:coreProperties>
</file>