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04E-835F-4AB9-90B0-41D464EC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F1F-D106-4E2E-BF05-29706182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9D5-11C5-4E9D-9028-3A93A22A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366-097C-442B-867D-283438BF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587-B0D1-4A7B-A4A6-F100920E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43C-3E19-448D-B5A6-20211E8B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603-2C79-4BF7-A600-C22C011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D31-FF7F-420A-882D-CA0147BA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FF0-5969-4C27-9E94-9E7103BA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C32-71DC-4B02-B81B-55BF5704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9AA-207A-46BC-95E3-444E653A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D5D-CA88-499B-9840-AAA4FF2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26E9-AB64-4B87-8389-C156B9F4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 Elements &amp;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Symbols &amp; Formula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7600" y="947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has a unique chemical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hemical symb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: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: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: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lecule has a unique chem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mical formula of a molecule in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symbol for each of the elem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of atoms of each element present in th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of chemical form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mental oxygen: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O atoms per molec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: 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H atoms &amp; 1 O a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uminum sulfate: A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Al, 3 S &amp; 12 O a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3520" y="1123920"/>
            <a:ext cx="85536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known elements are arranged in a chart called the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in the Periodic Table is identified by both its chemical symbol and its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ments are organized left-to-right and top-to-bottom according to their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ments are arranged by similarity of chem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lumns are called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each group typically have similar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ws are called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eri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reflect the periodicity of chemical properties as atomic number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 of Elemen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6760" y="1108080"/>
          <a:ext cx="86090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108080"/>
                    <a:ext cx="86090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ments and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can be categorized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most element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70% of all of the elements ar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most elements of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mimetals (metallo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that reside along the “stair step” between the metals and nonmetal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erties of semimetals are not quite metallic or non-metallic, but rather somewhere 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mitri Mendeleev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834-1907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born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one of the greatest science teachers of his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rganized the known elements of his time into the first “periodic 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were organized by chemical properties (&amp; by weight) -&gt;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ic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ingly, his periodic table predicted the existence of 3 new elem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ich were subsequently discov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67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1T19:54:03Z</dcterms:modified>
  <cp:revision>149</cp:revision>
  <dc:subject/>
  <dc:title>Phy 211: General Physics I</dc:title>
</cp:coreProperties>
</file>