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BE4E0-FD91-4D74-AD8F-93F752727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A049-E71A-443F-9943-E8FA334E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F9AD-7865-4189-907E-B21024F4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35CC-D7CE-40A4-A8B4-E6D11B02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489-9565-47DD-998D-B820F655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C021-EB67-4E1E-93FF-1E179090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9CAD-A943-4C55-B068-47FA52AD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1F2E-94E5-453A-8A5F-13B8D63C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F87A-559C-43AA-8919-A75511EE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EF2D-CF9F-4A6B-8889-1AFD0B90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862E-D936-4E51-9F3A-83503F66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2A7A-B00E-447E-B316-2E06E376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8908-0A43-49A0-BA82-55FFC7C3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78B0-B316-4CCB-B3B1-8F5C974CD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2: Measurements &amp;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xample:  Unit Convers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25.0 m to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1.26 g to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etric Prefix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4600" y="1538280"/>
            <a:ext cx="8793360" cy="4176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emperature Scal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3000" y="1004400"/>
            <a:ext cx="8786880" cy="575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 traditional temperature scales, Fahrenheit and Celsius, were originally defined in terms of the physical states of water at sea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ahrenheit Scale, °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ater: freezing point = 32°F, boiling point = 212°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elsius Scale, 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ater: freezing point = 0°C, boiling point = 100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Celsius temperature unit is larger than 1 Fahrenheit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 unit for temperature is a variant of the Celsius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c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Kelvin Scale,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ater: freezing point = 273 K, boiling point = 373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elvin temperature unit is the same size as the Celsius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69560"/>
            <a:ext cx="8686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emperature of ice water and boiling water.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60400" y="1069920"/>
            <a:ext cx="7431120" cy="551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Unit Conversion &amp; Temperature Scal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onversion involving temperature is tricky since the “zero” value for each scale is different and thus requires accounting for this “offset” between the various scales.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 0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, the Kelvin scale has a 273.15 unit “head start” and the Fahrenheit scale has a 32 unit head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mperature span between the freezing and boiling points of water reveal the relation between the temperature scale inc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 = 100K = 18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the zero points are different as evident for the freezing point for water: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 = 273.15K = 3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lations between the temperature sc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sius to Fahrenhe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sius to Kelv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816360" y="4662360"/>
          <a:ext cx="349416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6360" y="4662360"/>
                    <a:ext cx="349416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3281400" y="5692680"/>
          <a:ext cx="397044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1400" y="5692680"/>
                    <a:ext cx="397044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s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is the quantity of matter in a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is measured in units of 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do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lect how much volume something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ilogram (kg) unit is the preferred unit of mass in the SI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kilogram is equal to the mass of a platinum-iridium cylinder kept in a vault at Sevres, F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kg has the weight equivalent (on Earth) of 2.205 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rvation of Mass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tal quantity of mass is never created nor destroyed during a chem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istinguishing Mass vs. Weigh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520720"/>
            <a:ext cx="4765680" cy="437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Mass is a fundamental property of matter,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it is the amount of “stuff” in a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Mass represents an object’s inertia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(tendency to resist change in mo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Mass is the same everywhere in the uni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 Units of mass are kilogram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35000" y="2527200"/>
            <a:ext cx="4334040" cy="40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ight is the effect (or force) of gravity on an object’s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ight depends on location (&amp; local gra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ight is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a fundamental property of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 units of weight are newtons 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CS units are pounds (l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963720"/>
            <a:ext cx="85647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s mass and weight are commonly used interchangeably but they are fundamentally differ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are some important differences between mass and we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Volum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858600"/>
            <a:ext cx="8839440" cy="57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 is the 3-dimensional space that an object occup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 Uni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 unit for volume is the cubic meter, or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eters x meters x met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re common metric unit of volume is the Liter (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laboratory, the milliliter (mL) is often more conven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mass and volume are not the same thing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(try not to confuse them…).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wo objects with the same volume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 (e.g. a pillow &amp; a sack of potatoes can have different masses and vice ver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89000" y="3376440"/>
            <a:ext cx="4792680" cy="2228400"/>
            <a:chOff x="189000" y="3376440"/>
            <a:chExt cx="4792680" cy="2228400"/>
          </a:xfrm>
        </p:grpSpPr>
        <p:sp>
          <p:nvSpPr>
            <p:cNvPr id="91" name=""/>
            <p:cNvSpPr/>
            <p:nvPr/>
          </p:nvSpPr>
          <p:spPr>
            <a:xfrm>
              <a:off x="1789200" y="3376440"/>
              <a:ext cx="1909800" cy="16099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47800" y="5089320"/>
              <a:ext cx="1651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Arial"/>
                </a:rPr>
                <a:t>lengt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30720" y="4656240"/>
              <a:ext cx="1650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Arial"/>
                </a:rPr>
                <a:t>widt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9000" y="4132080"/>
              <a:ext cx="1650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Arial"/>
                </a:rPr>
                <a:t>heigh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59240" y="3892320"/>
              <a:ext cx="0" cy="9684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1811160" y="5156280"/>
              <a:ext cx="1460520" cy="14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2840" bIns="-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3420720" y="4727520"/>
              <a:ext cx="314280" cy="3682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944960" y="3687840"/>
            <a:ext cx="3676680" cy="1484280"/>
            <a:chOff x="4944960" y="3687840"/>
            <a:chExt cx="3676680" cy="1484280"/>
          </a:xfrm>
        </p:grpSpPr>
        <p:sp>
          <p:nvSpPr>
            <p:cNvPr id="99" name=""/>
            <p:cNvSpPr/>
            <p:nvPr/>
          </p:nvSpPr>
          <p:spPr>
            <a:xfrm>
              <a:off x="4944960" y="4179960"/>
              <a:ext cx="1650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Arial"/>
                </a:rPr>
                <a:t>heigh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14840" y="3940200"/>
              <a:ext cx="0" cy="9684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8176680" y="4775400"/>
              <a:ext cx="314280" cy="3682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7720" y="3724200"/>
              <a:ext cx="2023920" cy="1447920"/>
            </a:xfrm>
            <a:prstGeom prst="can">
              <a:avLst>
                <a:gd name="adj" fmla="val 35527"/>
              </a:avLst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24720" y="3741840"/>
              <a:ext cx="1992240" cy="45720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53240" y="3687840"/>
              <a:ext cx="1650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Arial"/>
                </a:rPr>
                <a:t>are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" name=""/>
          <p:cNvGraphicFramePr/>
          <p:nvPr/>
        </p:nvGraphicFramePr>
        <p:xfrm>
          <a:off x="2814480" y="2154240"/>
          <a:ext cx="216216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4480" y="2154240"/>
                    <a:ext cx="216216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792520" y="2820960"/>
          <a:ext cx="233352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92520" y="2820960"/>
                    <a:ext cx="233352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4200" y="425520"/>
            <a:ext cx="7562880" cy="53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ensit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6160" y="835200"/>
            <a:ext cx="8740800" cy="57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property of matter representing the mass per unit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qual volumes, a denser object has greater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qual masses, a denser object has smaller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monly used un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olids = g/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te: 1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quids = 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ases = 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ful Notes on Dens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of a solid can be determined by water dis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sity of matter in various states:  solids &gt; liquids &gt;&gt;&gt; gas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xception:  w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heterogeneous mixture, the denser matter will tend to sink to the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433840" y="3278160"/>
          <a:ext cx="334188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3840" y="3278160"/>
                    <a:ext cx="334188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7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2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81040" y="457200"/>
            <a:ext cx="7980480" cy="6175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ypes of Observ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4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ve/subjective in 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 qualities such as color, tast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ample:  “It is really warm outside toda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d by a number and a unit (an accepted reference sc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otes on Measu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escribed with a value (number) &amp; a unit (reference sc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oth the value and unit are of equal importance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value indicates a measurement’s size (based on its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unit indicates a measurement’s relationship to other physical qua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ample: “The temperature is 85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 outside toda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nipulating the Density Equ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903920" y="1603440"/>
          <a:ext cx="3155760" cy="92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03920" y="1603440"/>
                    <a:ext cx="315576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815000" y="3344760"/>
          <a:ext cx="3030480" cy="96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15000" y="3344760"/>
                    <a:ext cx="303048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670200" y="5257800"/>
          <a:ext cx="481356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70200" y="5257800"/>
                    <a:ext cx="48135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122560" y="1581120"/>
            <a:ext cx="4216320" cy="31766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65040" y="1515960"/>
            <a:ext cx="3719520" cy="3146400"/>
            <a:chOff x="365040" y="1515960"/>
            <a:chExt cx="3719520" cy="3146400"/>
          </a:xfrm>
        </p:grpSpPr>
        <p:sp>
          <p:nvSpPr>
            <p:cNvPr id="123" name=""/>
            <p:cNvSpPr/>
            <p:nvPr/>
          </p:nvSpPr>
          <p:spPr>
            <a:xfrm>
              <a:off x="365040" y="1515960"/>
              <a:ext cx="3719520" cy="31464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69800" y="2244600"/>
              <a:ext cx="1673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mas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3440" y="4024080"/>
              <a:ext cx="16729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densi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3760" y="4024080"/>
              <a:ext cx="1673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volum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pplication of Scientific Not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771480"/>
            <a:ext cx="8991720" cy="597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Writing numbers in Scientific 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Locate the Decimal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ove the decimal point to the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of the non-zero digit in the largest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new number is now between 1 and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ultiply the new number by 10</a:t>
            </a:r>
            <a:r>
              <a:rPr b="1" i="1" lang="en-US" sz="2000" spc="-1" strike="noStrike" baseline="30000">
                <a:solidFill>
                  <a:srgbClr val="0000cc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where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is the number of places you moved the decimal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etermine the sign on the exponent,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f the decimal point was moved left,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f the decimal point was moved right,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f the decimal point was not moved,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Writing Scientific Notation numbers in Conventional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Determine the sign of </a:t>
            </a:r>
            <a:r>
              <a:rPr b="0" i="1" lang="en-US" sz="2000" spc="-1" strike="noStrike">
                <a:solidFill>
                  <a:srgbClr val="cc0066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of 10</a:t>
            </a:r>
            <a:r>
              <a:rPr b="0" i="1" lang="en-US" sz="2000" spc="-1" strike="noStrike" baseline="30000">
                <a:solidFill>
                  <a:srgbClr val="cc0066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cc0066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is + the decimal point will move to the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cc0066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is – the decimal point will move to th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Determine the value of the exponent of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Tells the number of places to move the decimal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Move the decimal point and rewrite th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easurement System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7400" y="1116000"/>
            <a:ext cx="7909200" cy="42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standard unit systems we will focu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United States Customary System (US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rly the British system of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US, Albania, and a couple other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units are defined but seem arbitrary (e.g. there are 12 inches in 1 fo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by most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in France during Napoleon’s re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s are related by powers of 10 (e.g. there are 1000 meters in 1 kilome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I (L’Systeme Internation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ub-set set of 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by scientists and most science text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ways the most practical unit system for lab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easurements &amp; the Metric Syst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7794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units in the metric system are related to the fundamental unit by a power of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wer of 10 is indicated by a pre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fixes are always the same, regardless of the fundamental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measurement has a specific metric unit (i.e. 25 cm) it can be expressed using different metric uni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ing its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 25 cm is the same as 0.25 m or even 250 m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oice of measurement unit is somewhat arbitrary, what is important is the observation it repres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8160" y="309240"/>
            <a:ext cx="8915400" cy="83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easurement, Uncertainty &amp; Significant Figur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17520" y="1007640"/>
            <a:ext cx="8826480" cy="556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asurement always has some amount of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y comes from limitations of the techniques used for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nderstand how reliable a measurement is, we need to understand the limitations of th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dicate the uncertainty of a single measurement scientists use a system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st digit written in a measurement is the number that is considered to be unc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ess stated otherwise, the uncertainty in the last digit is ±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measurement: 25.2 cm  uncertainty: 0.1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measurement: 25.20 cm  uncertainty: 0.01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measurement: 25.200 cm  uncertainty: 0.001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ules for Counting Significant Figure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0000" y="846000"/>
            <a:ext cx="8874000" cy="60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zero integers are always signif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ing zeros never count as significant fig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ive zeros are always signif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ling zeros are significant if the number has a decimal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ct numbers have an unlimited number of significant fig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ules for Rounding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f the digit to be removed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less than 5, the preceding digit stays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qual to or greater than 5, the preceding digit is increased by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 a series of calculations, carry the extra digits to the final result and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round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on’t forget to add place-holding zeros if necessary to keep value the sam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250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xact Number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3120" y="1019160"/>
            <a:ext cx="8570880" cy="577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ct Num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numbers that are assumed to have unlimited number of significant figures are considered to be known with “absolute” certainty.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 do not need to consider or count significant figures for exact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are consider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ct num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H10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unting num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number of sides on a sq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number of apples on a desk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Defined num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h as those used for conversion factors,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0 cm = 1 m, 12 in = 1 ft, 1 in = 2.54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kg = 1000 g, 1 LB = 16 o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00 mL = 1 L; 1 gal = 4 q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inute = 60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umbers or const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d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n equ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 = 3x + 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oth the 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and the 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are exact num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5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5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0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verting between Unit System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4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ing units from one unit system to another (especially within the Metric system) can appear daunting at first glance.  However, with a little guidance, and a lot of practice, you can develop the necessary skill set to master this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gin, here is a simple mnemonic to guide you through the unit conversion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li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unit conversions, regardless of how complex they appear, involve these 3 simple steps.   In the following sections, you will be stepped through the unit conversion process using these 3 words as a gu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7-10-10T01:25:36Z</dcterms:modified>
  <cp:revision>154</cp:revision>
  <dc:subject/>
  <dc:title>Phy 211: General Physics I</dc:title>
</cp:coreProperties>
</file>