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B290E-729F-46D4-9D81-2D23CC848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457-BF8D-440D-979E-BC7E415E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665A-488F-4BAB-8D15-BB7BA15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5F4E-8A01-42B8-AD03-A541EAD1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3BA-91DD-4101-BDF8-F5A94677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58C-9BF8-49E8-9C19-126B3E94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404-C1C6-415F-956F-810AF0A9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728-0553-4165-B514-11D5AFF8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332-5C25-4D31-923C-EB582511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739-8922-4A75-B1EC-341C6BC3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06B-545A-4A45-93B8-95E5827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CEE-2535-4AC7-A0A0-FC68E13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D212-BCE9-49D9-A3D0-A198B2B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9A99-EAAA-46C2-8C12-F9D9F05F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easurements &amp;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:  Unit Convers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25.0 m to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1.26 g to 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tric Prefix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4600" y="1538280"/>
            <a:ext cx="8793360" cy="41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Scal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000" y="1004400"/>
            <a:ext cx="8786880" cy="575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 traditional temperature scales, Fahrenheit and Celsius, were originally defined in terms of the physical states of water at sea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ahrenheit Scale, 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32°F, boiling point = 212°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elsius Scale,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0°C, boiling point = 100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elsius temperature unit is larger than 1 Fahrenhei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 for temperature is a variant of the Celsiu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Kelvin Scale,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er: freezing point = 273 K, boiling point = 373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Kelvin temperature unit is the same size as the Celsius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9560"/>
            <a:ext cx="8686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emperature of ice water and boiling water.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60400" y="1069920"/>
            <a:ext cx="7431120" cy="551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Unit Conversion &amp; Temperature Scal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nversion involving temperature is tricky since the “zero” value for each scale is different and thus requires accounting for this “offset” between the various scale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 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, the Kelvin scale has a 273.15 unit “head start” and the Fahrenheit scale has a 32 unit head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mperature span between the freezing and boiling points of water reveal the relation between the temperature scale inc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= 100K = 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 zero points are different as evident for the freezing point for water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 = 273.15K = 3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 between the temperature sc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sius to Fahrenhei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sius to Kelv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16360" y="4662360"/>
          <a:ext cx="349416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360" y="4662360"/>
                    <a:ext cx="349416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281400" y="5692680"/>
          <a:ext cx="397044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1400" y="5692680"/>
                    <a:ext cx="39704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the quantity of matter in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measured in units of 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d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lect how much volume something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logram (kg) unit is the preferred unit of mass in the SI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ilogram is equal to the mass of a platinum-iridium cylinder kept in a vault at Sevres,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kg has the weight equivalent (on Earth) of 2.205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on of Mass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quantity of mass is never created nor destroyed during a chem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istinguishing Mass vs. Weigh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20720"/>
            <a:ext cx="4765680" cy="437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a fundamental property of matter,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it is the amount of “stuff” in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represents an object’s inertia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tendency to resist change in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 is the same everywhere in the un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 Units of mass are kilogram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5000" y="2527200"/>
            <a:ext cx="4334040" cy="40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the effect (or force) of gravity on an object’s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depends on location (&amp; local gra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ight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 units of weight are newtons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CS units are pounds (l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963720"/>
            <a:ext cx="85647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mass and weight are commonly used interchangeably but they are fundamentally differ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some important differences between mass and we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858600"/>
            <a:ext cx="8839440" cy="57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is the 3-dimensional space that an object occup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Un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 for volume is the cubic meter, or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eters x meters x met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common metric unit of volume is the Liter 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oratory, the milliliter (mL) is often more conven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mass and volume are not the same thing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(try not to confuse them…).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wo objects with the same volume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(e.g. a pillow &amp; a sack of potatoes can have different masses and vice ver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89000" y="3376440"/>
            <a:ext cx="4792680" cy="2228400"/>
            <a:chOff x="189000" y="3376440"/>
            <a:chExt cx="4792680" cy="2228400"/>
          </a:xfrm>
        </p:grpSpPr>
        <p:sp>
          <p:nvSpPr>
            <p:cNvPr id="91" name=""/>
            <p:cNvSpPr/>
            <p:nvPr/>
          </p:nvSpPr>
          <p:spPr>
            <a:xfrm>
              <a:off x="1789200" y="3376440"/>
              <a:ext cx="1909800" cy="1609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47800" y="5089320"/>
              <a:ext cx="16513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leng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0720" y="46562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wid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9000" y="413208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9240" y="389232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1811160" y="5156280"/>
              <a:ext cx="1460520" cy="14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420720" y="472752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44960" y="3687840"/>
            <a:ext cx="3676680" cy="1484280"/>
            <a:chOff x="4944960" y="3687840"/>
            <a:chExt cx="3676680" cy="1484280"/>
          </a:xfrm>
        </p:grpSpPr>
        <p:sp>
          <p:nvSpPr>
            <p:cNvPr id="99" name=""/>
            <p:cNvSpPr/>
            <p:nvPr/>
          </p:nvSpPr>
          <p:spPr>
            <a:xfrm>
              <a:off x="4944960" y="417996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heigh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14840" y="3940200"/>
              <a:ext cx="0" cy="96840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8176680" y="4775400"/>
              <a:ext cx="314280" cy="3682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7720" y="3724200"/>
              <a:ext cx="2023920" cy="1447920"/>
            </a:xfrm>
            <a:prstGeom prst="can">
              <a:avLst>
                <a:gd name="adj" fmla="val 35527"/>
              </a:avLst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4720" y="3741840"/>
              <a:ext cx="1992240" cy="45720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53240" y="3687840"/>
              <a:ext cx="1650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a50021"/>
                  </a:solidFill>
                  <a:latin typeface="Arial"/>
                </a:rPr>
                <a:t>are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2814480" y="2154240"/>
          <a:ext cx="216216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154240"/>
                    <a:ext cx="216216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792520" y="2820960"/>
          <a:ext cx="233352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2520" y="2820960"/>
                    <a:ext cx="23335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4200" y="425520"/>
            <a:ext cx="7562880" cy="53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160" y="835200"/>
            <a:ext cx="8740800" cy="570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property of matter representing the mass per unit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volumes, a denser object has greater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qual masses, a denser object has smaller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monly used un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lids = g/c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1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quids = 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ases = 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Notes on Dens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a solid can be determined by water dis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of matter in various states:  solids &gt; liquids &gt;&gt;&gt; ga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xception: 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heterogeneous mixture, the denser matter will tend to sink to the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33840" y="3278160"/>
          <a:ext cx="334188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3278160"/>
                    <a:ext cx="334188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1040" y="457200"/>
            <a:ext cx="7980480" cy="617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Observ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4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ve/subjective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 qualities such as color, tast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 “It is really warm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d by a number and a unit (an accepted 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tes on Measu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scribed with a value (number) &amp; a unit (reference sca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oth the value and unit are of equal importance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value indicates a measurement’s size (based on its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unit indicates a measurement’s relationship to other physical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ample: “The temperature is 85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 outside toda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nipulating the Density Equ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03920" y="1603440"/>
          <a:ext cx="3155760" cy="92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3920" y="1603440"/>
                    <a:ext cx="315576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815000" y="3344760"/>
          <a:ext cx="303048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5000" y="3344760"/>
                    <a:ext cx="30304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670200" y="5257800"/>
          <a:ext cx="48135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5257800"/>
                    <a:ext cx="4813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122560" y="1581120"/>
            <a:ext cx="4216320" cy="31766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5040" y="1515960"/>
            <a:ext cx="3719520" cy="3146400"/>
            <a:chOff x="365040" y="1515960"/>
            <a:chExt cx="3719520" cy="3146400"/>
          </a:xfrm>
        </p:grpSpPr>
        <p:sp>
          <p:nvSpPr>
            <p:cNvPr id="123" name=""/>
            <p:cNvSpPr/>
            <p:nvPr/>
          </p:nvSpPr>
          <p:spPr>
            <a:xfrm>
              <a:off x="365040" y="1515960"/>
              <a:ext cx="3719520" cy="31464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9800" y="224460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mas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3440" y="4024080"/>
              <a:ext cx="1672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dens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3760" y="4024080"/>
              <a:ext cx="1673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volu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pplication of Scientific Not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771480"/>
            <a:ext cx="8991720" cy="597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riting numbers in Scientific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ocat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ove the decimal point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right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of the non-zero digit in the largest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new number is now between 1 and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ultiply the new number by 10</a:t>
            </a:r>
            <a:r>
              <a:rPr b="1" i="1" lang="en-US" sz="2000" spc="-1" strike="noStrike" baseline="30000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number of places you moved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Determine the sign on the exponen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lef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moved right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ecimal point was not moved,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riting Scientific Notation numbers in Conventional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sign o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of 10</a:t>
            </a:r>
            <a:r>
              <a:rPr b="0" i="1" lang="en-US" sz="2000" spc="-1" strike="noStrike" baseline="30000">
                <a:solidFill>
                  <a:srgbClr val="cc00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+ the decimal point will move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cc0066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 is – the decimal point will move to th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Determine the value of the exponent of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Tells the number of places to move the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Move the decimal point and rewrite th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7400" y="1116000"/>
            <a:ext cx="79092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standard unit systems we will focu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United States Customary System (US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ly the British system of 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US, Albania, and a couple oth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units are defined but seem arbitrary (e.g. there are 12 inches in 1 fo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most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in France during Napoleon’s re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related by powers of 10 (e.g. there are 1000 meters in 1 kilo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 (L’Systeme Internation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b-set set of 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scientists and most science text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the most practical unit system for lab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s &amp; the Metric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7794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s in the metric system are related to the fundamental unit by a power of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wer of 10 is indicated by a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fixes are always the same, regardless of the fundamenta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easurement has a specific metric unit (i.e. 25 cm) it can be expressed using different metric un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ing its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25 cm is the same as 0.25 m or even 250 m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ice of measurement unit is somewhat arbitrary, what is important is the observation it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160" y="309240"/>
            <a:ext cx="8915400" cy="83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easurement, Uncertainty &amp; Significant Figur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7520" y="1007640"/>
            <a:ext cx="8826480" cy="55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ment always has some amount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 comes from limitations of the techniques used fo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how reliable a measurement is, we need to understand the limitations of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dicate the uncertainty of a single measurement scientists use a system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ificant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digit written in a measurement is the number that is considered to be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stated otherwise, the uncertainty in the last digit is ±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 cm  uncertainty: 0.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 cm  uncertainty: 0.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measurement: 25.200 cm  uncertainty: 0.001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ules for Counting Significant Figures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0000" y="846000"/>
            <a:ext cx="8874000" cy="60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zero integer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zeros never count as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ive zeros are always signif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ling zeros are significant if the number has a decim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 numbers have an unlimited number of significant fig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ules for Rounding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f the digit to be removed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less than 5, the preceding digit stay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qual to or greater than 5, the preceding digit is increased by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a series of calculations, carry the extra digits to the final result and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roun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on’t forget to add place-holding zeros if necessary to keep value the sam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2508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ct Number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3120" y="1019160"/>
            <a:ext cx="8570880" cy="577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umbers that are assumed to have unlimited number of significant figures are considered to be known with “absolute” certainty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do not need to consider or count significant figures for exact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re consid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H10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unting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sides on a squ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number of apples on a desk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efined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those used for conversion factor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 cm = 1 m, 12 in = 1 ft, 1 in = 2.54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kg = 1000 g, 1 LB = 16 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00 mL = 1 L; 1 gal = 4 q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 minute =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umbers or cons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n equ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 = 3x +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oth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nd the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re exac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verting between Unit Syste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47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units from one unit system to another (especially within the Metric system) can appear daunting at first glance.  However, with a little guidance, and a lot of practice, you can develop the necessary skill set to master thi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gin, here is a simple mnemonic to guide you through the unit conversion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li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nit conversions, regardless of how complex they appear, involve these 3 simple steps.   In the following sections, you will be stepped through the unit conversion process using these 3 words as a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0T01:25:36Z</dcterms:modified>
  <cp:revision>154</cp:revision>
  <dc:subject/>
  <dc:title>Phy 211: General Physics I</dc:title>
</cp:coreProperties>
</file>