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C2744C-CB80-41DC-8DD2-C2E6D2239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D0CD-032D-498C-B7D2-74B254652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1E7F-16ED-4DD0-BDF1-B83E65026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41EE-31FF-4A63-AD8D-3B7E8B6DA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00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00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00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00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46EB-D870-4C13-87C5-AB27E2D6D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CDA6-0F1A-404E-90D3-91276EB56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AADD-D6FE-4C1A-8BA3-0F2F9CD78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63EA-2337-42D9-84F6-A74A12262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AE56-301B-49A4-BB47-4BE88D98A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75840"/>
            <a:ext cx="82296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3A1B-8CFA-4280-915A-687E04AAC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F525-DDEC-4541-B163-8A2243D0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34A3-0EE8-4B92-A14D-2FACE97F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A77C-D3CC-49F1-8926-3D0E3BD4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9A965-C789-4C8A-8C6F-24869C2C09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371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h 100: Fundamentals for Chemistr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1: 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he Particulate Nature of Matter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ter is the tangible substance of nature, </a:t>
            </a:r>
            <a:r>
              <a:rPr b="0" i="1" lang="en-US" sz="2800" spc="-1" strike="noStrike">
                <a:solidFill>
                  <a:srgbClr val="0000cc"/>
                </a:solidFill>
                <a:latin typeface="Arial"/>
              </a:rPr>
              <a:t>anything with mass that occupie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e most fundamental level, matter is discrete or particulate in n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mallest, most basic units of matter are called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matter is thus comprised of individual atoms, or specific combinations of atoms called molec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ecules can be broken apart into their constituent atoms but atoms cannot be further broken apart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 and still retain the properties of mat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ter can exist in one or more physical states (or pha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422280"/>
            <a:ext cx="7772400" cy="59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States of Matter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olid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  <a:ea typeface="Arial"/>
              </a:rPr>
              <a:t>→  Liquid  →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860560" y="990720"/>
            <a:ext cx="990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Ener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73480" y="990720"/>
            <a:ext cx="990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Ener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5867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olid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  <a:ea typeface="Arial"/>
              </a:rPr>
              <a:t>←  Liquid  ←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84480" y="5867280"/>
            <a:ext cx="990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Ener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210280" y="5851440"/>
            <a:ext cx="990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Ener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68680" y="2001960"/>
            <a:ext cx="8647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ibrarian"/>
              </a:rPr>
              <a:t>St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232000" y="2001960"/>
            <a:ext cx="10051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ibrarian"/>
              </a:rPr>
              <a:t>Sha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76400" y="2001960"/>
            <a:ext cx="12582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ibrarian"/>
              </a:rPr>
              <a:t>Volu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441040" y="2001960"/>
            <a:ext cx="16239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ibrarian"/>
              </a:rPr>
              <a:t>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496640" y="2001960"/>
            <a:ext cx="7704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ibrarian"/>
              </a:rPr>
              <a:t>Fl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1981080"/>
            <a:ext cx="9720" cy="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1981080"/>
            <a:ext cx="97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981080"/>
            <a:ext cx="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1981080"/>
            <a:ext cx="9720" cy="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1981080"/>
            <a:ext cx="97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1981080"/>
            <a:ext cx="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9200" y="1981080"/>
            <a:ext cx="1355760" cy="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74960" y="1981080"/>
            <a:ext cx="9360" cy="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74960" y="198108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74960" y="1981080"/>
            <a:ext cx="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84320" y="1981080"/>
            <a:ext cx="1494000" cy="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78320" y="1981080"/>
            <a:ext cx="9360" cy="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78320" y="198108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478320" y="1981080"/>
            <a:ext cx="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87680" y="1981080"/>
            <a:ext cx="1825560" cy="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13240" y="1981080"/>
            <a:ext cx="9720" cy="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13240" y="1981080"/>
            <a:ext cx="97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13240" y="1981080"/>
            <a:ext cx="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22960" y="1981080"/>
            <a:ext cx="1851120" cy="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174080" y="1981080"/>
            <a:ext cx="9360" cy="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174080" y="198108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174080" y="1981080"/>
            <a:ext cx="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183440" y="1981080"/>
            <a:ext cx="1405080" cy="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588520" y="1981080"/>
            <a:ext cx="9360" cy="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588520" y="198108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588520" y="1981080"/>
            <a:ext cx="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588520" y="1981080"/>
            <a:ext cx="9360" cy="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588520" y="198108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588520" y="1981080"/>
            <a:ext cx="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1990800"/>
            <a:ext cx="9720" cy="676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74960" y="1990800"/>
            <a:ext cx="9360" cy="676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78320" y="1990800"/>
            <a:ext cx="9360" cy="676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13240" y="1990800"/>
            <a:ext cx="9720" cy="676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174080" y="1990800"/>
            <a:ext cx="9360" cy="676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174080" y="1990800"/>
            <a:ext cx="0" cy="67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588520" y="1990800"/>
            <a:ext cx="9360" cy="676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6080" y="2685960"/>
            <a:ext cx="698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brarian"/>
              </a:rPr>
              <a:t>Sol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049120" y="2685960"/>
            <a:ext cx="947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brarian"/>
              </a:rPr>
              <a:t>Kee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45520" y="3036960"/>
            <a:ext cx="887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brarian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55360" y="2685960"/>
            <a:ext cx="947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brarian"/>
              </a:rPr>
              <a:t>Kee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25480" y="3036960"/>
            <a:ext cx="1093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brarian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76600" y="2685960"/>
            <a:ext cx="416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brari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233840" y="2685960"/>
            <a:ext cx="416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brari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2666880"/>
            <a:ext cx="9720" cy="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2666880"/>
            <a:ext cx="97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2666880"/>
            <a:ext cx="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9200" y="2666880"/>
            <a:ext cx="1355760" cy="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974960" y="2666880"/>
            <a:ext cx="9360" cy="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974960" y="266688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74960" y="2666880"/>
            <a:ext cx="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84320" y="2666880"/>
            <a:ext cx="1494000" cy="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478320" y="2666880"/>
            <a:ext cx="9360" cy="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78320" y="266688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78320" y="2666880"/>
            <a:ext cx="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87680" y="2666880"/>
            <a:ext cx="1825560" cy="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13240" y="2666880"/>
            <a:ext cx="9720" cy="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13240" y="2666880"/>
            <a:ext cx="97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13240" y="2666880"/>
            <a:ext cx="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22960" y="2666880"/>
            <a:ext cx="1851120" cy="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174080" y="2666880"/>
            <a:ext cx="9360" cy="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174080" y="266688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174080" y="2666880"/>
            <a:ext cx="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183440" y="2666880"/>
            <a:ext cx="1405080" cy="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588520" y="2666880"/>
            <a:ext cx="9360" cy="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588520" y="266688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588520" y="2666880"/>
            <a:ext cx="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2676600"/>
            <a:ext cx="9720" cy="70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74960" y="2676600"/>
            <a:ext cx="9360" cy="70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78320" y="2676600"/>
            <a:ext cx="9360" cy="70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13240" y="2676600"/>
            <a:ext cx="9720" cy="70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174080" y="2676600"/>
            <a:ext cx="9360" cy="70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174080" y="2676600"/>
            <a:ext cx="0" cy="701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588520" y="2676600"/>
            <a:ext cx="9360" cy="70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2320" y="3397320"/>
            <a:ext cx="883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brarian"/>
              </a:rPr>
              <a:t>Liq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054520" y="3397320"/>
            <a:ext cx="901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brarian"/>
              </a:rPr>
              <a:t>Tak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032560" y="3747960"/>
            <a:ext cx="1335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brarian"/>
              </a:rPr>
              <a:t>Shap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003400" y="4098960"/>
            <a:ext cx="1413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brarian"/>
              </a:rPr>
              <a:t>Co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555360" y="3397320"/>
            <a:ext cx="947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brarian"/>
              </a:rPr>
              <a:t>Kee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25480" y="3747960"/>
            <a:ext cx="1093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brarian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76600" y="3397320"/>
            <a:ext cx="416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brari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263720" y="3397320"/>
            <a:ext cx="491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brari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3378240"/>
            <a:ext cx="9720" cy="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3378240"/>
            <a:ext cx="97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3378240"/>
            <a:ext cx="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9200" y="3378240"/>
            <a:ext cx="1355760" cy="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74960" y="3378240"/>
            <a:ext cx="9360" cy="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974960" y="337824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74960" y="3378240"/>
            <a:ext cx="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984320" y="3378240"/>
            <a:ext cx="1494000" cy="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78320" y="3378240"/>
            <a:ext cx="9360" cy="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78320" y="337824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78320" y="3378240"/>
            <a:ext cx="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487680" y="3378240"/>
            <a:ext cx="1825560" cy="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13240" y="3378240"/>
            <a:ext cx="9720" cy="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13240" y="3378240"/>
            <a:ext cx="97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13240" y="3378240"/>
            <a:ext cx="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322960" y="3378240"/>
            <a:ext cx="1851120" cy="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174080" y="3378240"/>
            <a:ext cx="9360" cy="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174080" y="337824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174080" y="3378240"/>
            <a:ext cx="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183440" y="3378240"/>
            <a:ext cx="1405080" cy="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588520" y="3378240"/>
            <a:ext cx="9360" cy="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588520" y="337824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588520" y="3378240"/>
            <a:ext cx="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3387600"/>
            <a:ext cx="9720" cy="10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974960" y="3387600"/>
            <a:ext cx="9360" cy="10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78320" y="3387600"/>
            <a:ext cx="9360" cy="10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13240" y="3387600"/>
            <a:ext cx="9720" cy="10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174080" y="3387600"/>
            <a:ext cx="9360" cy="10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174080" y="3387600"/>
            <a:ext cx="0" cy="1052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588520" y="3387600"/>
            <a:ext cx="9360" cy="10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94800" y="4457880"/>
            <a:ext cx="540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brarian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054520" y="4457880"/>
            <a:ext cx="901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brarian"/>
              </a:rPr>
              <a:t>Tak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032560" y="4808520"/>
            <a:ext cx="1335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brarian"/>
              </a:rPr>
              <a:t>Shap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003400" y="5159520"/>
            <a:ext cx="1413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brarian"/>
              </a:rPr>
              <a:t>Co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60760" y="4457880"/>
            <a:ext cx="901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brarian"/>
              </a:rPr>
              <a:t>Tak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12160" y="4808520"/>
            <a:ext cx="1541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brarian"/>
              </a:rPr>
              <a:t>Volum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9640" y="5159520"/>
            <a:ext cx="1413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brarian"/>
              </a:rPr>
              <a:t>Co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06480" y="4457880"/>
            <a:ext cx="491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brari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263720" y="4457880"/>
            <a:ext cx="491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ibrari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4440240"/>
            <a:ext cx="9720" cy="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4440240"/>
            <a:ext cx="97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4440240"/>
            <a:ext cx="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19200" y="4440240"/>
            <a:ext cx="1355760" cy="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974960" y="4440240"/>
            <a:ext cx="9360" cy="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974960" y="444024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974960" y="4440240"/>
            <a:ext cx="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984320" y="4440240"/>
            <a:ext cx="1494000" cy="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78320" y="4440240"/>
            <a:ext cx="9360" cy="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78320" y="444024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78320" y="4440240"/>
            <a:ext cx="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487680" y="4440240"/>
            <a:ext cx="1825560" cy="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313240" y="4440240"/>
            <a:ext cx="9720" cy="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13240" y="4440240"/>
            <a:ext cx="97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313240" y="4440240"/>
            <a:ext cx="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22960" y="4440240"/>
            <a:ext cx="1851120" cy="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174080" y="4440240"/>
            <a:ext cx="9360" cy="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174080" y="444024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174080" y="4440240"/>
            <a:ext cx="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183440" y="4440240"/>
            <a:ext cx="1405080" cy="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588520" y="4440240"/>
            <a:ext cx="9360" cy="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588520" y="444024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588520" y="4440240"/>
            <a:ext cx="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09480" y="4449600"/>
            <a:ext cx="9720" cy="10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5502240"/>
            <a:ext cx="9720" cy="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5502240"/>
            <a:ext cx="97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5502240"/>
            <a:ext cx="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5502240"/>
            <a:ext cx="9720" cy="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5502240"/>
            <a:ext cx="97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5502240"/>
            <a:ext cx="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9200" y="5502240"/>
            <a:ext cx="1355760" cy="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974960" y="4449600"/>
            <a:ext cx="9360" cy="10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974960" y="5502240"/>
            <a:ext cx="9360" cy="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974960" y="550224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974960" y="5502240"/>
            <a:ext cx="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984320" y="5502240"/>
            <a:ext cx="1494000" cy="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478320" y="4449600"/>
            <a:ext cx="9360" cy="10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478320" y="5502240"/>
            <a:ext cx="9360" cy="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478320" y="550224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478320" y="5502240"/>
            <a:ext cx="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487680" y="5502240"/>
            <a:ext cx="1825560" cy="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487680" y="5502240"/>
            <a:ext cx="1825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313240" y="4449600"/>
            <a:ext cx="9720" cy="10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313240" y="5502240"/>
            <a:ext cx="9720" cy="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313240" y="5502240"/>
            <a:ext cx="97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313240" y="5502240"/>
            <a:ext cx="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322960" y="5502240"/>
            <a:ext cx="1851120" cy="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174080" y="4449600"/>
            <a:ext cx="9360" cy="10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174080" y="5502240"/>
            <a:ext cx="9360" cy="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174080" y="550224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174080" y="5502240"/>
            <a:ext cx="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183440" y="5502240"/>
            <a:ext cx="1405080" cy="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588520" y="4449600"/>
            <a:ext cx="9360" cy="10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609480" y="1981080"/>
            <a:ext cx="7979040" cy="3521160"/>
            <a:chOff x="609480" y="1981080"/>
            <a:chExt cx="7979040" cy="3521160"/>
          </a:xfrm>
        </p:grpSpPr>
        <p:sp>
          <p:nvSpPr>
            <p:cNvPr id="257" name=""/>
            <p:cNvSpPr/>
            <p:nvPr/>
          </p:nvSpPr>
          <p:spPr>
            <a:xfrm>
              <a:off x="5313240" y="1990800"/>
              <a:ext cx="0" cy="67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609480" y="1981080"/>
              <a:ext cx="7979040" cy="3521160"/>
              <a:chOff x="609480" y="1981080"/>
              <a:chExt cx="7979040" cy="3521160"/>
            </a:xfrm>
          </p:grpSpPr>
          <p:sp>
            <p:nvSpPr>
              <p:cNvPr id="259" name=""/>
              <p:cNvSpPr/>
              <p:nvPr/>
            </p:nvSpPr>
            <p:spPr>
              <a:xfrm>
                <a:off x="619200" y="1981080"/>
                <a:ext cx="1355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984320" y="1981080"/>
                <a:ext cx="1494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487680" y="1981080"/>
                <a:ext cx="1825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322960" y="1981080"/>
                <a:ext cx="1851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183440" y="1981080"/>
                <a:ext cx="1405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09480" y="1990800"/>
                <a:ext cx="0" cy="67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974960" y="1990800"/>
                <a:ext cx="0" cy="67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478320" y="1990800"/>
                <a:ext cx="0" cy="67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8588520" y="1990800"/>
                <a:ext cx="0" cy="67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19200" y="2666880"/>
                <a:ext cx="1355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984320" y="2666880"/>
                <a:ext cx="1494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487680" y="2666880"/>
                <a:ext cx="1825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322960" y="2666880"/>
                <a:ext cx="1851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183440" y="2666880"/>
                <a:ext cx="1405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09480" y="2676600"/>
                <a:ext cx="0" cy="70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974960" y="2676600"/>
                <a:ext cx="0" cy="70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478320" y="2676600"/>
                <a:ext cx="0" cy="70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313240" y="2676600"/>
                <a:ext cx="0" cy="70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588520" y="2676600"/>
                <a:ext cx="0" cy="70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19200" y="3378240"/>
                <a:ext cx="1355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984320" y="3378240"/>
                <a:ext cx="1494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487680" y="3378240"/>
                <a:ext cx="1825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322960" y="3378240"/>
                <a:ext cx="1851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183440" y="3378240"/>
                <a:ext cx="1405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09480" y="3387600"/>
                <a:ext cx="0" cy="10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74960" y="3387600"/>
                <a:ext cx="0" cy="10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478320" y="3387600"/>
                <a:ext cx="0" cy="10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313240" y="3387600"/>
                <a:ext cx="0" cy="10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588520" y="3387600"/>
                <a:ext cx="0" cy="10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19200" y="4440240"/>
                <a:ext cx="1355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984320" y="4440240"/>
                <a:ext cx="1494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487680" y="4440240"/>
                <a:ext cx="1825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322960" y="4440240"/>
                <a:ext cx="1851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183440" y="4440240"/>
                <a:ext cx="1405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09480" y="4449600"/>
                <a:ext cx="0" cy="10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19200" y="5502240"/>
                <a:ext cx="1355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974960" y="4449600"/>
                <a:ext cx="0" cy="10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984320" y="5502240"/>
                <a:ext cx="1494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478320" y="4449600"/>
                <a:ext cx="0" cy="10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313240" y="4449600"/>
                <a:ext cx="0" cy="10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322960" y="5502240"/>
                <a:ext cx="1851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174080" y="4449600"/>
                <a:ext cx="0" cy="10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183440" y="5502240"/>
                <a:ext cx="1405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8588520" y="4449600"/>
                <a:ext cx="0" cy="10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3" name=""/>
          <p:cNvSpPr/>
          <p:nvPr/>
        </p:nvSpPr>
        <p:spPr>
          <a:xfrm>
            <a:off x="8588520" y="5502240"/>
            <a:ext cx="9360" cy="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588520" y="550224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8588520" y="5502240"/>
            <a:ext cx="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588520" y="5502240"/>
            <a:ext cx="9360" cy="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588520" y="550224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588520" y="5502240"/>
            <a:ext cx="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86880" y="5510160"/>
            <a:ext cx="3600" cy="1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Librari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87160" y="2995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assification of Matter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01600" y="927000"/>
            <a:ext cx="86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marL="25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er can be classified as either Pure or Imp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Element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composed of only one type of a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sed of either individual atoms or molecules (e.g. 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ompoun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osed of more than one type of at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sts of molec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ure (or mixt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omogeneou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niform throughout, appears to be one 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e subst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s (single phase homogeneous mixtu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spensions (multi-phase homogeneous mixtu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eterogeneou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on-uniform, contains regions with different properties than other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3709800" y="2723760"/>
            <a:ext cx="5248440" cy="1815840"/>
            <a:chOff x="3709800" y="2723760"/>
            <a:chExt cx="5248440" cy="1815840"/>
          </a:xfrm>
        </p:grpSpPr>
        <p:grpSp>
          <p:nvGrpSpPr>
            <p:cNvPr id="313" name=""/>
            <p:cNvGrpSpPr/>
            <p:nvPr/>
          </p:nvGrpSpPr>
          <p:grpSpPr>
            <a:xfrm>
              <a:off x="3709800" y="2723760"/>
              <a:ext cx="5248440" cy="1815840"/>
              <a:chOff x="3709800" y="2723760"/>
              <a:chExt cx="5248440" cy="1815840"/>
            </a:xfrm>
          </p:grpSpPr>
          <p:sp>
            <p:nvSpPr>
              <p:cNvPr id="314" name=""/>
              <p:cNvSpPr/>
              <p:nvPr/>
            </p:nvSpPr>
            <p:spPr>
              <a:xfrm>
                <a:off x="6333840" y="3160440"/>
                <a:ext cx="0" cy="209160"/>
              </a:xfrm>
              <a:prstGeom prst="line">
                <a:avLst/>
              </a:prstGeom>
              <a:ln w="33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967280" y="3369960"/>
                <a:ext cx="0" cy="209160"/>
              </a:xfrm>
              <a:prstGeom prst="line">
                <a:avLst/>
              </a:prstGeom>
              <a:ln w="33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700760" y="3369960"/>
                <a:ext cx="0" cy="209160"/>
              </a:xfrm>
              <a:prstGeom prst="line">
                <a:avLst/>
              </a:prstGeom>
              <a:ln w="33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967280" y="3369960"/>
                <a:ext cx="1366560" cy="0"/>
              </a:xfrm>
              <a:prstGeom prst="line">
                <a:avLst/>
              </a:prstGeom>
              <a:ln w="33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333840" y="3369960"/>
                <a:ext cx="1366920" cy="0"/>
              </a:xfrm>
              <a:prstGeom prst="line">
                <a:avLst/>
              </a:prstGeom>
              <a:ln w="33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709800" y="3579480"/>
                <a:ext cx="2514600" cy="9601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071960" y="3614400"/>
                <a:ext cx="18234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ffff00"/>
                    </a:solidFill>
                    <a:latin typeface="Arial"/>
                  </a:rPr>
                  <a:t>Pure Substance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823920" y="3876480"/>
                <a:ext cx="232164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ff00"/>
                    </a:solidFill>
                    <a:latin typeface="Arial"/>
                  </a:rPr>
                  <a:t>Constant Composition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150800" y="4138200"/>
                <a:ext cx="167724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ffff00"/>
                    </a:solidFill>
                    <a:latin typeface="Arial"/>
                  </a:rPr>
                  <a:t>Homogeneous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709800" y="3579480"/>
                <a:ext cx="2514600" cy="960120"/>
              </a:xfrm>
              <a:prstGeom prst="rect">
                <a:avLst/>
              </a:prstGeom>
              <a:noFill/>
              <a:ln w="33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443640" y="3579480"/>
                <a:ext cx="2514600" cy="9601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314120" y="3614400"/>
                <a:ext cx="858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ffff00"/>
                    </a:solidFill>
                    <a:latin typeface="Arial"/>
                  </a:rPr>
                  <a:t>Mixture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466680" y="3876480"/>
                <a:ext cx="24804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ffff00"/>
                    </a:solidFill>
                    <a:latin typeface="Arial"/>
                  </a:rPr>
                  <a:t>Variable Composition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443640" y="3579480"/>
                <a:ext cx="2514600" cy="960120"/>
              </a:xfrm>
              <a:prstGeom prst="rect">
                <a:avLst/>
              </a:prstGeom>
              <a:noFill/>
              <a:ln w="33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076720" y="2723760"/>
                <a:ext cx="2514600" cy="436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012720" y="2758680"/>
                <a:ext cx="724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ffff00"/>
                    </a:solidFill>
                    <a:latin typeface="Arial"/>
                  </a:rPr>
                  <a:t>Matter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076720" y="2723760"/>
                <a:ext cx="2514600" cy="436320"/>
              </a:xfrm>
              <a:prstGeom prst="rect">
                <a:avLst/>
              </a:prstGeom>
              <a:noFill/>
              <a:ln w="33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31" name=""/>
            <p:cNvCxnSpPr>
              <a:stCxn id="330" idx="2"/>
              <a:endCxn id="323" idx="0"/>
            </p:cNvCxnSpPr>
            <p:nvPr/>
          </p:nvCxnSpPr>
          <p:spPr>
            <a:xfrm rot="5400000">
              <a:off x="5456520" y="2686320"/>
              <a:ext cx="387720" cy="1367280"/>
            </a:xfrm>
            <a:prstGeom prst="bentConnector3">
              <a:avLst>
                <a:gd name="adj1" fmla="val 49535"/>
              </a:avLst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332" name=""/>
            <p:cNvCxnSpPr>
              <a:stCxn id="330" idx="2"/>
              <a:endCxn id="327" idx="0"/>
            </p:cNvCxnSpPr>
            <p:nvPr/>
          </p:nvCxnSpPr>
          <p:spPr>
            <a:xfrm flipH="1" rot="16200000">
              <a:off x="6822720" y="2685960"/>
              <a:ext cx="387720" cy="1367640"/>
            </a:xfrm>
            <a:prstGeom prst="bentConnector3">
              <a:avLst>
                <a:gd name="adj1" fmla="val 49535"/>
              </a:avLst>
            </a:prstGeom>
            <a:ln w="38160">
              <a:solidFill>
                <a:srgbClr val="00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Separation of Matter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61880" y="954000"/>
            <a:ext cx="8266320" cy="538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43160" indent="-44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ure substanc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an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 broken down into its component substances by physical means only by a chem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reakdown of a pure substance results in formation of new substances (i.e. chemical chan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pure substance there is nothing to separate (its only 1 substance to begin wi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xtur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 separated b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hysic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ans (and also by chemical methods, as we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2 general methods of s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: separation based on physical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6400" indent="-36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6400" indent="-36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il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6400" indent="-36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ifu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: separation based on chemical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What is Chemistry?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stry is often described as the “central” sc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stry is the study of ma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ter is the “stuff” that makes up the universe,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 i.e. anything that has mass and occupie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undamental questions of Chemistry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matter be describ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one type of matter interact with other types of mat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matter transform into other forms of mat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36160"/>
            <a:ext cx="8305920" cy="67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Major Developments in Chemistry I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98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~400 BC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mocritus proposed the concept of the “atom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~300 BC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istotle developed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rehensive model of m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~700 A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hinese alchemists invent gunpow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61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bert Boyle proposed the concept of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70-90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Lavoisier proposed the concept of compounds &amp; the Law of Mass Conser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74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estly isolates oxy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97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ust proposed the Law of Definite Propor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03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lton re-introduces the concept of the atom and establishes Dalton’s L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69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deleev creates 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iodic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10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therford proposes the “nuclear” model of the a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15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hr proposes a “planetary” model of the hydrogen a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20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roedinger publishes his wave equation for hydro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69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rray Gell-Mann proposes the theory of QCD (proposing the existence of quark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Major Developments in Chemistry II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iscovery of subatomic partic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081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86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ton (first observed by Eugene Goldste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081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97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lectron (JJ Thomps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081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20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ton (named by Ernest Rutherfo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081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32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eutron (James Chadw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081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ther Important Discover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081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96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oine Henr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querel discovers radio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081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11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Kamerlingh Onnes discovers superconductivity in low temperature merc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081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47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iam Shockley and colleagues invent the first transis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081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96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rnell, Wieman, and Ketterle observe the 5th state of matter (the Bose-Einstein condensate) in the 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6081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Scientific Method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8280" y="1022400"/>
            <a:ext cx="7978680" cy="498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49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OBSERVATION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e a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440" indent="-425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observ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440" indent="-425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ulate a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EXPLANATION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an educated guess -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440" indent="-425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 the consequences of the hypo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VALIDATION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experiments to test the predi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440" indent="-425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experimental data support or dispute hypothes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ulate the simplest rule that organizes the 3 main ingredients - develop a the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49440" y="736560"/>
            <a:ext cx="7843680" cy="53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387360" y="1222200"/>
          <a:ext cx="8367840" cy="553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7360" y="1222200"/>
                    <a:ext cx="8367840" cy="553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2533680" y="76320"/>
            <a:ext cx="4076640" cy="822240"/>
          </a:xfrm>
          <a:prstGeom prst="wedgeRoundRectCallout">
            <a:avLst>
              <a:gd name="adj1" fmla="val -31736"/>
              <a:gd name="adj2" fmla="val 33171"/>
              <a:gd name="adj3" fmla="val 16667"/>
            </a:avLst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EXPLAN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 rot="5400000">
            <a:off x="4315680" y="-630360"/>
            <a:ext cx="547560" cy="3695400"/>
          </a:xfrm>
          <a:custGeom>
            <a:avLst/>
            <a:gdLst>
              <a:gd name="textAreaLeft" fmla="*/ 349920 w 547560"/>
              <a:gd name="textAreaRight" fmla="*/ 547920 w 547560"/>
              <a:gd name="textAreaTop" fmla="*/ 96120 h 3695400"/>
              <a:gd name="textAreaBottom" fmla="*/ 3599280 h 3695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35"/>
                </a:lnTo>
                <a:cubicBezTo>
                  <a:pt x="10800" y="9835"/>
                  <a:pt x="5400" y="10735"/>
                  <a:pt x="0" y="10735"/>
                </a:cubicBezTo>
                <a:cubicBezTo>
                  <a:pt x="5400" y="10735"/>
                  <a:pt x="10800" y="11635"/>
                  <a:pt x="10800" y="1253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65240" y="1933560"/>
          <a:ext cx="8812080" cy="32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240" y="1933560"/>
                    <a:ext cx="8812080" cy="32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Bottom Line: The Scientific Attitud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hypotheses must be testable (i.e. there must be a way to prove them wrong!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cientific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“Matter is made up of tiny particles called atom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n-Scientific: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“There are tiny particles of matter in the universe that will never be detecte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09:15Z</dcterms:created>
  <dc:creator>Tony Zable</dc:creator>
  <dc:description/>
  <dc:language>en-US</dc:language>
  <cp:lastModifiedBy>pccuser</cp:lastModifiedBy>
  <dcterms:modified xsi:type="dcterms:W3CDTF">2007-09-27T19:50:43Z</dcterms:modified>
  <cp:revision>150</cp:revision>
  <dc:subject/>
  <dc:title>Phy 211: General Physics I</dc:title>
</cp:coreProperties>
</file>