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0867E-82B2-4312-A687-B2032C168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684-DAA6-43E5-94B7-F4090DCF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0D4-66BB-4B0C-BF7C-2AFAE758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A9F-F04D-48CE-96F8-89ED9E46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3A6-53C6-4F9E-B47D-9F37BCED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D50-C08A-4A5B-B81B-CCE728EF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03B-A66B-46E4-B6C1-95A2DF51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347C-2E4E-45A2-B2D0-4223977D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C46-198C-4022-8734-159CA7C0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B9A-0F99-4974-B10D-ACC8CEEC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040-B217-47DB-B925-4518EF09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428-1FB8-4F44-B97A-40A6DA3E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2E0-BC05-4261-9FB9-A65C699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C901-3F7B-4A84-8736-A3936399E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articulate Nature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the tangible substance of nature,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anything with mass that occupie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most fundamental level, matter is discrete or particulate in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st, most basic units of matter are called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tter is thus comprised of individual atoms, or specific combinations of atoms calle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can be broken apart into their constituent atoms but atoms cannot be further broken apart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and still retain the properties of ma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can exist in one or more physical states (or ph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222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es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→  Liquid  →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60560" y="99072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3480" y="99072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867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←  Liquid  ←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84480" y="586728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0280" y="5851440"/>
            <a:ext cx="990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8680" y="2001960"/>
            <a:ext cx="864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32000" y="200196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Sha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76400" y="2001960"/>
            <a:ext cx="1258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1040" y="2001960"/>
            <a:ext cx="1623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96640" y="2001960"/>
            <a:ext cx="770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9200" y="1981080"/>
            <a:ext cx="13557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496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496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4320" y="1981080"/>
            <a:ext cx="149400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783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783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783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87680" y="1981080"/>
            <a:ext cx="18255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1324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1324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1324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22960" y="1981080"/>
            <a:ext cx="18511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7408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7408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740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83440" y="1981080"/>
            <a:ext cx="140508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5885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885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885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885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885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885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90800"/>
            <a:ext cx="972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496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7832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3240" y="1990800"/>
            <a:ext cx="972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408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74080" y="1990800"/>
            <a:ext cx="0" cy="67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8852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6080" y="268596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49120" y="268596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45520" y="3036960"/>
            <a:ext cx="8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55360" y="268596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25480" y="3036960"/>
            <a:ext cx="109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76600" y="268596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3840" y="268596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6668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6668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9200" y="2666880"/>
            <a:ext cx="13557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496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496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496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4320" y="2666880"/>
            <a:ext cx="149400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7832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7832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7832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87680" y="2666880"/>
            <a:ext cx="18255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3240" y="26668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13240" y="26668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1324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2960" y="2666880"/>
            <a:ext cx="18511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7408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7408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7408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83440" y="2666880"/>
            <a:ext cx="140508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8852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8852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8852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676600"/>
            <a:ext cx="972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496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7832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13240" y="2676600"/>
            <a:ext cx="972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7408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74080" y="2676600"/>
            <a:ext cx="0" cy="70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8852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2320" y="3397320"/>
            <a:ext cx="88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4520" y="339732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32560" y="3747960"/>
            <a:ext cx="133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03400" y="409896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5360" y="339732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25480" y="3747960"/>
            <a:ext cx="109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76600" y="339732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63720" y="339732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378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378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9200" y="3378240"/>
            <a:ext cx="13557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496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496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496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4320" y="3378240"/>
            <a:ext cx="149400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832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7832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7832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87680" y="3378240"/>
            <a:ext cx="18255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13240" y="3378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13240" y="3378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324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22960" y="3378240"/>
            <a:ext cx="18511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7408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7408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7408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83440" y="3378240"/>
            <a:ext cx="140508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8852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8852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8852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387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496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7832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3240" y="3387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7408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74080" y="3387600"/>
            <a:ext cx="0" cy="10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58852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00" y="4457880"/>
            <a:ext cx="54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4520" y="445788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32560" y="4808520"/>
            <a:ext cx="133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03400" y="515952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60760" y="445788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12160" y="480852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9640" y="515952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06480" y="445788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63720" y="445788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440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4440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9200" y="4440240"/>
            <a:ext cx="13557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496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496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7496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4320" y="4440240"/>
            <a:ext cx="149400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7832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7832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7832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87680" y="4440240"/>
            <a:ext cx="18255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13240" y="4440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13240" y="4440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1324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440240"/>
            <a:ext cx="18511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7408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7408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7408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83440" y="4440240"/>
            <a:ext cx="140508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8852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8852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8852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449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9200" y="5502240"/>
            <a:ext cx="13557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496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496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496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496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84320" y="5502240"/>
            <a:ext cx="149400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7832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783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783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87680" y="5502240"/>
            <a:ext cx="18255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87680" y="5502240"/>
            <a:ext cx="182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13240" y="4449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1324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1324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1324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22960" y="5502240"/>
            <a:ext cx="18511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7408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7408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7408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740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83440" y="5502240"/>
            <a:ext cx="140508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58852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09480" y="1981080"/>
            <a:ext cx="7979040" cy="3521160"/>
            <a:chOff x="609480" y="1981080"/>
            <a:chExt cx="7979040" cy="3521160"/>
          </a:xfrm>
        </p:grpSpPr>
        <p:sp>
          <p:nvSpPr>
            <p:cNvPr id="257" name=""/>
            <p:cNvSpPr/>
            <p:nvPr/>
          </p:nvSpPr>
          <p:spPr>
            <a:xfrm>
              <a:off x="5313240" y="1990800"/>
              <a:ext cx="0" cy="6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09480" y="1981080"/>
              <a:ext cx="7979040" cy="3521160"/>
              <a:chOff x="609480" y="1981080"/>
              <a:chExt cx="7979040" cy="3521160"/>
            </a:xfrm>
          </p:grpSpPr>
          <p:sp>
            <p:nvSpPr>
              <p:cNvPr id="259" name=""/>
              <p:cNvSpPr/>
              <p:nvPr/>
            </p:nvSpPr>
            <p:spPr>
              <a:xfrm>
                <a:off x="619200" y="198108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84320" y="198108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87680" y="198108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22960" y="198108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83440" y="198108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948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7496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47832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8852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9200" y="266688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84320" y="266688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87680" y="266688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322960" y="266688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83440" y="266688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948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7496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832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1324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58852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9200" y="3378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84320" y="3378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87680" y="337824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322960" y="3378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83440" y="3378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948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7496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7832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31324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58852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9200" y="4440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4320" y="4440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87680" y="444024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22960" y="4440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83440" y="4440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948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9200" y="5502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496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4320" y="5502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7832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1324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22960" y="5502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7408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83440" y="5502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58852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85885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885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885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5885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5885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885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6880" y="5510160"/>
            <a:ext cx="3600" cy="1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Librari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87160" y="299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assification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1600" y="927000"/>
            <a:ext cx="86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can be classified as either Pure or Imp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le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posed of only one type of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d of either individual atoms or molecules (e.g.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mpoun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sed of more than one type of at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re (or mix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omogeneo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form throughout, appears to be one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 sub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 (single phase homogeneous mix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sions (multi-phase homogeneous mix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eterogeneo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-uniform, contains regions with different properties than other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709800" y="2723760"/>
            <a:ext cx="5248440" cy="1815840"/>
            <a:chOff x="3709800" y="2723760"/>
            <a:chExt cx="5248440" cy="1815840"/>
          </a:xfrm>
        </p:grpSpPr>
        <p:grpSp>
          <p:nvGrpSpPr>
            <p:cNvPr id="313" name=""/>
            <p:cNvGrpSpPr/>
            <p:nvPr/>
          </p:nvGrpSpPr>
          <p:grpSpPr>
            <a:xfrm>
              <a:off x="3709800" y="2723760"/>
              <a:ext cx="5248440" cy="1815840"/>
              <a:chOff x="3709800" y="2723760"/>
              <a:chExt cx="5248440" cy="1815840"/>
            </a:xfrm>
          </p:grpSpPr>
          <p:sp>
            <p:nvSpPr>
              <p:cNvPr id="314" name=""/>
              <p:cNvSpPr/>
              <p:nvPr/>
            </p:nvSpPr>
            <p:spPr>
              <a:xfrm>
                <a:off x="6333840" y="316044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67280" y="336996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700760" y="336996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967280" y="3369960"/>
                <a:ext cx="1366560" cy="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33840" y="3369960"/>
                <a:ext cx="1366920" cy="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09800" y="3579480"/>
                <a:ext cx="2514600" cy="960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71960" y="3614400"/>
                <a:ext cx="1823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Pure Substanc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23920" y="3876480"/>
                <a:ext cx="2321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00"/>
                    </a:solidFill>
                    <a:latin typeface="Arial"/>
                  </a:rPr>
                  <a:t>Constant Composi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50800" y="4138200"/>
                <a:ext cx="1677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Homogeneous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09800" y="3579480"/>
                <a:ext cx="2514600" cy="9601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43640" y="3579480"/>
                <a:ext cx="2514600" cy="960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14120" y="3614400"/>
                <a:ext cx="858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Mixtur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66680" y="3876480"/>
                <a:ext cx="2480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Variable Composition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43640" y="3579480"/>
                <a:ext cx="2514600" cy="9601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76720" y="2723760"/>
                <a:ext cx="2514600" cy="436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12720" y="2758680"/>
                <a:ext cx="724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Matter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76720" y="2723760"/>
                <a:ext cx="2514600" cy="4363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"/>
            <p:cNvCxnSpPr>
              <a:stCxn id="330" idx="2"/>
              <a:endCxn id="323" idx="0"/>
            </p:cNvCxnSpPr>
            <p:nvPr/>
          </p:nvCxnSpPr>
          <p:spPr>
            <a:xfrm rot="5400000">
              <a:off x="5456520" y="2686320"/>
              <a:ext cx="387720" cy="1367280"/>
            </a:xfrm>
            <a:prstGeom prst="bentConnector3">
              <a:avLst>
                <a:gd name="adj1" fmla="val 4953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30" idx="2"/>
              <a:endCxn id="327" idx="0"/>
            </p:cNvCxnSpPr>
            <p:nvPr/>
          </p:nvCxnSpPr>
          <p:spPr>
            <a:xfrm flipH="1" rot="16200000">
              <a:off x="6822720" y="2685960"/>
              <a:ext cx="387720" cy="1367640"/>
            </a:xfrm>
            <a:prstGeom prst="bentConnector3">
              <a:avLst>
                <a:gd name="adj1" fmla="val 49535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eparation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1880" y="954000"/>
            <a:ext cx="8266320" cy="53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ure substan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broken down into its component substances by physical means only by a chem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eakdown of a pure substance results in formation of new substances (i.e. chemical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ure substance there is nothing to separate (its only 1 substance to begin w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separat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(and also by chemical methods, as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 general methods of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: separation based on phys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fu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: separation based on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Chemistry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is often described as the “central”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is the study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the “stuff” that makes up the universe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i.e. anything that has mass and occupie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damental questions of Chemistry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atter be describ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one type of matter interact with other typ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matter transform into other form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30592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jor Developments in Chemistry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400 B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mocritus proposed the concept of the “ato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300 B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istotle developed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ehensive model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700 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inese alchemists invent gun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6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Boyle proposed the concept of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0-9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Lavoisier proposed the concept of compounds &amp; the Law of Mass Con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estly isolates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9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ust proposed the Law of Definite Pro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ton re-introduces the concept of the atom and establishes Dalton’s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69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deleev creates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iodic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 proposes the “nuclear” model of the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proposes a “planetary” model of the hydro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oedinger publishes his wave equation for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9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rray Gell-Mann proposes the theory of QCD (proposing the existence of qua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jor Developments in Chemistry 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of subatomic parti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8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n (first observed by Eugene Golds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97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 (JJ Thomp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n (named by Ernest Ruther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utron (James Chadw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ther Important Discove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96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ine Henr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querel discovers radio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Kamerlingh Onnes discovers superconductivity in low temperature merc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7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Shockley and colleagues invent the first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nell, Wieman, and Ketterle observe the 5th state of matter (the Bose-Einstein condensate) in th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cientific Metho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8280" y="1022400"/>
            <a:ext cx="7978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OBSERV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obser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a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EXPLAN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educated guess -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consequences of th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VALID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experiments to test the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experimental data support or dispute hypothe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simplest rule that organizes the 3 main ingredients - develop a the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9440" y="736560"/>
            <a:ext cx="78436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87360" y="1222200"/>
          <a:ext cx="836784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222200"/>
                    <a:ext cx="836784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533680" y="76320"/>
            <a:ext cx="4076640" cy="822240"/>
          </a:xfrm>
          <a:prstGeom prst="wedgeRoundRectCallout">
            <a:avLst>
              <a:gd name="adj1" fmla="val -31736"/>
              <a:gd name="adj2" fmla="val 33171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5400000">
            <a:off x="4315680" y="-630360"/>
            <a:ext cx="547560" cy="3695400"/>
          </a:xfrm>
          <a:custGeom>
            <a:avLst/>
            <a:gdLst>
              <a:gd name="textAreaLeft" fmla="*/ 349920 w 547560"/>
              <a:gd name="textAreaRight" fmla="*/ 547920 w 547560"/>
              <a:gd name="textAreaTop" fmla="*/ 96120 h 3695400"/>
              <a:gd name="textAreaBottom" fmla="*/ 3599280 h 36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65240" y="1933560"/>
          <a:ext cx="881208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933560"/>
                    <a:ext cx="88120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ottom Line: The Scientific Attitu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ypotheses must be testable (i.e. there must be a way to prove them wrong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ientific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“Matter is made up of tiny particles called ato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Scientific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There are tiny particles of matter in the universe that will never be detec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7T19:50:43Z</dcterms:modified>
  <cp:revision>150</cp:revision>
  <dc:subject/>
  <dc:title>Phy 211: General Physics I</dc:title>
</cp:coreProperties>
</file>